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A562-0C94-4080-9F75-7406F955BB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AA4F-AEE0-4869-885A-092DDA93F6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301B-8A3D-49F7-AD20-569D12362342}" type="datetime">
              <a:rPr b="0" lang="en-US" sz="1200" spc="-1" strike="noStrike">
                <a:solidFill>
                  <a:srgbClr val="ffffff"/>
                </a:solidFill>
                <a:latin typeface="Verdana"/>
              </a:rPr>
              <a:t>07/29/26</a:t>
            </a:fld>
            <a:r>
              <a:rPr b="0" lang="en-US" sz="1200" spc="-1" strike="noStrike">
                <a:solidFill>
                  <a:srgbClr val="ffffff"/>
                </a:solidFill>
                <a:latin typeface="Verdana"/>
              </a:rPr>
              <a:t> </a:t>
            </a:r>
            <a:fld id="{BC154FA6-83F5-4FEF-9360-92996FA25E85}"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9BC3-4622-4148-A635-8B465272312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8CFC-C89A-4AD6-ACEE-BF9F511FB692}" type="datetime">
              <a:rPr b="0" lang="en-US" sz="1200" spc="-1" strike="noStrike">
                <a:solidFill>
                  <a:srgbClr val="ffffff"/>
                </a:solidFill>
                <a:latin typeface="Verdana"/>
              </a:rPr>
              <a:t>07/29/26</a:t>
            </a:fld>
            <a:r>
              <a:rPr b="0" lang="en-US" sz="1200" spc="-1" strike="noStrike">
                <a:solidFill>
                  <a:srgbClr val="ffffff"/>
                </a:solidFill>
                <a:latin typeface="Verdana"/>
              </a:rPr>
              <a:t> </a:t>
            </a:r>
            <a:fld id="{00B278AC-FB87-4E3B-961C-941D3DEF450F}"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E911-2C2C-4298-A275-D470F1DF1A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CE01-89B5-4037-8353-32F93C18403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85ED-C7E9-470F-8ED3-31CE267A7727}" type="datetime">
              <a:rPr b="0" lang="en-US" sz="1200" spc="-1" strike="noStrike">
                <a:solidFill>
                  <a:srgbClr val="ffffff"/>
                </a:solidFill>
                <a:latin typeface="Verdana"/>
              </a:rPr>
              <a:t>07/29/26</a:t>
            </a:fld>
            <a:r>
              <a:rPr b="0" lang="en-US" sz="1200" spc="-1" strike="noStrike">
                <a:solidFill>
                  <a:srgbClr val="ffffff"/>
                </a:solidFill>
                <a:latin typeface="Verdana"/>
              </a:rPr>
              <a:t> </a:t>
            </a:r>
            <a:fld id="{44380049-98D7-4BEA-8FC8-E0310B5CBEC0}"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0710-395B-42DE-898B-D57991CD1AC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7AFD-2AEB-458E-B786-42EBB2D6060A}" type="datetime">
              <a:rPr b="0" lang="en-US" sz="1200" spc="-1" strike="noStrike">
                <a:solidFill>
                  <a:srgbClr val="ffffff"/>
                </a:solidFill>
                <a:latin typeface="Verdana"/>
              </a:rPr>
              <a:t>07/29/26</a:t>
            </a:fld>
            <a:r>
              <a:rPr b="0" lang="en-US" sz="1200" spc="-1" strike="noStrike">
                <a:solidFill>
                  <a:srgbClr val="ffffff"/>
                </a:solidFill>
                <a:latin typeface="Verdana"/>
              </a:rPr>
              <a:t> </a:t>
            </a:r>
            <a:fld id="{5C8F9FC3-E455-4637-B767-E85CB7BB519F}"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E91D-BB11-4A38-9A03-C0040DC562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3692-8437-4F57-BDA9-179739A700DE}" type="datetime">
              <a:rPr b="0" lang="en-US" sz="1200" spc="-1" strike="noStrike">
                <a:solidFill>
                  <a:srgbClr val="ffffff"/>
                </a:solidFill>
                <a:latin typeface="Verdana"/>
              </a:rPr>
              <a:t>07/29/26</a:t>
            </a:fld>
            <a:r>
              <a:rPr b="0" lang="en-US" sz="1200" spc="-1" strike="noStrike">
                <a:solidFill>
                  <a:srgbClr val="ffffff"/>
                </a:solidFill>
                <a:latin typeface="Verdana"/>
              </a:rPr>
              <a:t> </a:t>
            </a:r>
            <a:fld id="{1545DCAC-533F-4D92-8051-605370E33059}"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4609-D32D-4C15-BF80-E5AA2A729C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43B8-0CE0-4FA5-81D6-A3DB899C14E7}" type="datetime">
              <a:rPr b="0" lang="en-US" sz="1200" spc="-1" strike="noStrike">
                <a:solidFill>
                  <a:srgbClr val="ffffff"/>
                </a:solidFill>
                <a:latin typeface="Verdana"/>
              </a:rPr>
              <a:t>07/29/26</a:t>
            </a:fld>
            <a:r>
              <a:rPr b="0" lang="en-US" sz="1200" spc="-1" strike="noStrike">
                <a:solidFill>
                  <a:srgbClr val="ffffff"/>
                </a:solidFill>
                <a:latin typeface="Verdana"/>
              </a:rPr>
              <a:t> </a:t>
            </a:r>
            <a:fld id="{BF7DAF5A-67AA-4B66-A93F-264A30DDA551}"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A281-A734-4F0D-921A-3A930E3576A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F069-81B2-469E-80E5-BFA15ED3F588}" type="datetime">
              <a:rPr b="0" lang="en-US" sz="1200" spc="-1" strike="noStrike">
                <a:solidFill>
                  <a:srgbClr val="ffffff"/>
                </a:solidFill>
                <a:latin typeface="Verdana"/>
              </a:rPr>
              <a:t>07/29/26</a:t>
            </a:fld>
            <a:r>
              <a:rPr b="0" lang="en-US" sz="1200" spc="-1" strike="noStrike">
                <a:solidFill>
                  <a:srgbClr val="ffffff"/>
                </a:solidFill>
                <a:latin typeface="Verdana"/>
              </a:rPr>
              <a:t> </a:t>
            </a:r>
            <a:fld id="{CEAAC1A7-0250-414A-BFD7-B462E711FBEF}"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54FB-C9C8-447A-BE7B-C3747FE45B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BFB4-1CC9-4369-97A1-F0455CEC10B2}" type="datetime">
              <a:rPr b="0" lang="en-US" sz="1200" spc="-1" strike="noStrike">
                <a:solidFill>
                  <a:srgbClr val="ffffff"/>
                </a:solidFill>
                <a:latin typeface="Verdana"/>
              </a:rPr>
              <a:t>07/29/26</a:t>
            </a:fld>
            <a:r>
              <a:rPr b="0" lang="en-US" sz="1200" spc="-1" strike="noStrike">
                <a:solidFill>
                  <a:srgbClr val="ffffff"/>
                </a:solidFill>
                <a:latin typeface="Verdana"/>
              </a:rPr>
              <a:t> </a:t>
            </a:r>
            <a:fld id="{B1B5CAB7-CA46-4AB5-BE4A-D96683EBEE6E}"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39DC-3AB6-44EC-9EA6-88A47EA499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B2C1-D0F4-49C2-A40E-9A4CD6808DE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F7C6-D2B8-4075-83BB-BA7776BEA1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C004-142C-4C7E-B8EF-1E32403DFE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9F3E-84E8-42D1-97B5-E315DF98B9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6B38-AA53-4C9D-9FB2-F92F82262D31}" type="datetime">
              <a:rPr b="0" lang="en-US" sz="1200" spc="-1" strike="noStrike">
                <a:solidFill>
                  <a:srgbClr val="ffffff"/>
                </a:solidFill>
                <a:latin typeface="Verdana"/>
              </a:rPr>
              <a:t>07/29/26</a:t>
            </a:fld>
            <a:r>
              <a:rPr b="0" lang="en-US" sz="1200" spc="-1" strike="noStrike">
                <a:solidFill>
                  <a:srgbClr val="ffffff"/>
                </a:solidFill>
                <a:latin typeface="Verdana"/>
              </a:rPr>
              <a:t> </a:t>
            </a:r>
            <a:fld id="{CB307CEF-914C-4963-84DA-F6328874F933}"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6204-255C-45E5-9CA3-9447B47D9D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8C2E-BC3D-42F7-BDE3-EC9721704E31}" type="datetime">
              <a:rPr b="0" lang="en-US" sz="1200" spc="-1" strike="noStrike">
                <a:solidFill>
                  <a:srgbClr val="ffffff"/>
                </a:solidFill>
                <a:latin typeface="Verdana"/>
              </a:rPr>
              <a:t>07/29/26</a:t>
            </a:fld>
            <a:r>
              <a:rPr b="0" lang="en-US" sz="1200" spc="-1" strike="noStrike">
                <a:solidFill>
                  <a:srgbClr val="ffffff"/>
                </a:solidFill>
                <a:latin typeface="Verdana"/>
              </a:rPr>
              <a:t> </a:t>
            </a:r>
            <a:fld id="{EB0E7B8C-1D71-4B6E-87D5-843EF4F8A68D}"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112A-5565-4327-8234-B79FB0C1D0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2CF1-9F86-40AE-A09D-F874811D6394}" type="datetime">
              <a:rPr b="0" lang="en-US" sz="1200" spc="-1" strike="noStrike">
                <a:solidFill>
                  <a:srgbClr val="ffffff"/>
                </a:solidFill>
                <a:latin typeface="Verdana"/>
              </a:rPr>
              <a:t>07/29/26</a:t>
            </a:fld>
            <a:r>
              <a:rPr b="0" lang="en-US" sz="1200" spc="-1" strike="noStrike">
                <a:solidFill>
                  <a:srgbClr val="ffffff"/>
                </a:solidFill>
                <a:latin typeface="Verdana"/>
              </a:rPr>
              <a:t> </a:t>
            </a:r>
            <a:fld id="{7BBD6727-13F8-404D-811B-0891DF981919}" type="datetime10">
              <a:rPr b="0" lang="en-US" sz="1200" spc="-1" strike="noStrike">
                <a:solidFill>
                  <a:srgbClr val="ffffff"/>
                </a:solidFill>
                <a:latin typeface="Verdana"/>
              </a:rPr>
              <a:t>18:10</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BE7C-3A06-44FF-9C10-21EDCB6DE9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404E9-3D58-4062-A69D-F9A5B4C42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8A82-0759-4D8D-BDB5-A0A933BDA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6824B-DCA3-4E3B-8C56-70F049B4F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4A2A0-BACF-40F5-9D71-EF692A3D7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C572F-B82C-4C7E-A7DC-4CE4D4849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EA876-6B27-402B-9DE0-9245B309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73ED4-3700-45FD-A17A-1DD1FD5E9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4351E-B108-46AD-95F9-B42782E2B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E94EC-377E-4802-9B8A-4B35C662C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58EB3-6975-4AEC-94B9-1279EC3A6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BBE21-FDED-4006-8A0C-85CC26931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83DE3-5161-4BD7-9132-1436B780C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25E95-33EE-44E6-AF7D-38110699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07E0C-3539-4CED-9E41-CE4CA2CE5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B04BC-A3E0-4C1A-A2E9-DABDA7E04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25364-C881-4352-BB05-6924362EE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0FFE6-C9F6-4EC7-9B07-5A455F13C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9568-571B-4057-B6D3-4A6F470B9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9067-96DE-470E-9460-5618F9FCA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0635-EE34-43F0-8685-70289C919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73DF8-FE37-4509-AE44-ABC1E7D0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7D62-DBBE-4BED-AB10-ED72E734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E43B-BB41-479D-A4DD-E2A3E8C5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FC8D-C51C-4CBB-9C68-FC5AA3253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01C0-EC3D-4988-B0E9-796C1D147A8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200E-182A-4143-ADE4-7EFCD87C371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593A-4A8F-4218-8B3A-E244CE83583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