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3135F-164B-4378-B29B-600E97D3018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D7FD-8C2A-43F6-A020-0271F35427C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62DB4-D5F4-4161-8540-63FD0DD7CDC6}" type="datetime">
              <a:rPr b="0" lang="en-US" sz="1200" spc="-1" strike="noStrike">
                <a:solidFill>
                  <a:srgbClr val="ffffff"/>
                </a:solidFill>
                <a:latin typeface="Verdana"/>
              </a:rPr>
              <a:t>07/30/26</a:t>
            </a:fld>
            <a:r>
              <a:rPr b="0" lang="en-US" sz="1200" spc="-1" strike="noStrike">
                <a:solidFill>
                  <a:srgbClr val="ffffff"/>
                </a:solidFill>
                <a:latin typeface="Verdana"/>
              </a:rPr>
              <a:t> </a:t>
            </a:r>
            <a:fld id="{13F2BB58-BC17-4E3E-8DF7-109AC52F9608}"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3EF71-5593-46A8-9634-ADAD3D39E3B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B41C2-7B9B-4124-AB9B-ECDF8B7605FE}" type="datetime">
              <a:rPr b="0" lang="en-US" sz="1200" spc="-1" strike="noStrike">
                <a:solidFill>
                  <a:srgbClr val="ffffff"/>
                </a:solidFill>
                <a:latin typeface="Verdana"/>
              </a:rPr>
              <a:t>07/30/26</a:t>
            </a:fld>
            <a:r>
              <a:rPr b="0" lang="en-US" sz="1200" spc="-1" strike="noStrike">
                <a:solidFill>
                  <a:srgbClr val="ffffff"/>
                </a:solidFill>
                <a:latin typeface="Verdana"/>
              </a:rPr>
              <a:t> </a:t>
            </a:r>
            <a:fld id="{82A7D244-4686-43C6-AF6B-C3A75727FAD9}"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0EA35-0E10-43C1-98AC-7CE57C99B5E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72ECD-D1A8-49BF-8369-2C6AEFFC028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52CA2-B6F8-4C70-9E89-089B6C427215}" type="datetime">
              <a:rPr b="0" lang="en-US" sz="1200" spc="-1" strike="noStrike">
                <a:solidFill>
                  <a:srgbClr val="ffffff"/>
                </a:solidFill>
                <a:latin typeface="Verdana"/>
              </a:rPr>
              <a:t>07/30/26</a:t>
            </a:fld>
            <a:r>
              <a:rPr b="0" lang="en-US" sz="1200" spc="-1" strike="noStrike">
                <a:solidFill>
                  <a:srgbClr val="ffffff"/>
                </a:solidFill>
                <a:latin typeface="Verdana"/>
              </a:rPr>
              <a:t> </a:t>
            </a:r>
            <a:fld id="{F45E2351-F422-4A5F-BE2E-562DC91DDC34}"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0E7E0-5339-4906-901B-7E2430F7169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F810A-D451-4B89-8A16-23439F2BD802}" type="datetime">
              <a:rPr b="0" lang="en-US" sz="1200" spc="-1" strike="noStrike">
                <a:solidFill>
                  <a:srgbClr val="ffffff"/>
                </a:solidFill>
                <a:latin typeface="Verdana"/>
              </a:rPr>
              <a:t>07/30/26</a:t>
            </a:fld>
            <a:r>
              <a:rPr b="0" lang="en-US" sz="1200" spc="-1" strike="noStrike">
                <a:solidFill>
                  <a:srgbClr val="ffffff"/>
                </a:solidFill>
                <a:latin typeface="Verdana"/>
              </a:rPr>
              <a:t> </a:t>
            </a:r>
            <a:fld id="{B7F54F35-FB79-438E-BFCC-F6745ED5A17F}"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B53D9-4E86-4BEF-9CA2-A9A7E08D715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4D27A-725F-41E9-AEB3-84C0785F52AD}" type="datetime">
              <a:rPr b="0" lang="en-US" sz="1200" spc="-1" strike="noStrike">
                <a:solidFill>
                  <a:srgbClr val="ffffff"/>
                </a:solidFill>
                <a:latin typeface="Verdana"/>
              </a:rPr>
              <a:t>07/30/26</a:t>
            </a:fld>
            <a:r>
              <a:rPr b="0" lang="en-US" sz="1200" spc="-1" strike="noStrike">
                <a:solidFill>
                  <a:srgbClr val="ffffff"/>
                </a:solidFill>
                <a:latin typeface="Verdana"/>
              </a:rPr>
              <a:t> </a:t>
            </a:r>
            <a:fld id="{BCA96D4C-7099-49AF-BD22-58DAF00905B8}"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C21C2-C845-4C04-90A9-8AC556EE8C5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6CC44-AC75-472A-8265-49A98BC1CAFD}" type="datetime">
              <a:rPr b="0" lang="en-US" sz="1200" spc="-1" strike="noStrike">
                <a:solidFill>
                  <a:srgbClr val="ffffff"/>
                </a:solidFill>
                <a:latin typeface="Verdana"/>
              </a:rPr>
              <a:t>07/30/26</a:t>
            </a:fld>
            <a:r>
              <a:rPr b="0" lang="en-US" sz="1200" spc="-1" strike="noStrike">
                <a:solidFill>
                  <a:srgbClr val="ffffff"/>
                </a:solidFill>
                <a:latin typeface="Verdana"/>
              </a:rPr>
              <a:t> </a:t>
            </a:r>
            <a:fld id="{152A4FDF-EC14-40AF-91F4-D5B671F3663D}"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CAF27-0C1F-4DB8-B33E-F7C5913B0D5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81089-4989-4BBF-A1A9-F56D1F3DD105}" type="datetime">
              <a:rPr b="0" lang="en-US" sz="1200" spc="-1" strike="noStrike">
                <a:solidFill>
                  <a:srgbClr val="ffffff"/>
                </a:solidFill>
                <a:latin typeface="Verdana"/>
              </a:rPr>
              <a:t>07/30/26</a:t>
            </a:fld>
            <a:r>
              <a:rPr b="0" lang="en-US" sz="1200" spc="-1" strike="noStrike">
                <a:solidFill>
                  <a:srgbClr val="ffffff"/>
                </a:solidFill>
                <a:latin typeface="Verdana"/>
              </a:rPr>
              <a:t> </a:t>
            </a:r>
            <a:fld id="{96DEA388-4BC6-48BC-9EB3-34D16B6395F5}"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4DBE2-1675-45F9-A80D-4E22DE166D2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14083-2C98-4BB5-91BF-3472EA41C9BC}" type="datetime">
              <a:rPr b="0" lang="en-US" sz="1200" spc="-1" strike="noStrike">
                <a:solidFill>
                  <a:srgbClr val="ffffff"/>
                </a:solidFill>
                <a:latin typeface="Verdana"/>
              </a:rPr>
              <a:t>07/30/26</a:t>
            </a:fld>
            <a:r>
              <a:rPr b="0" lang="en-US" sz="1200" spc="-1" strike="noStrike">
                <a:solidFill>
                  <a:srgbClr val="ffffff"/>
                </a:solidFill>
                <a:latin typeface="Verdana"/>
              </a:rPr>
              <a:t> </a:t>
            </a:r>
            <a:fld id="{FA19B8A0-C969-47D8-8D51-99A567EF04E1}"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34BAD-D63F-46E1-909C-ADACAB8D0AA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DF6C1-D12B-4AF9-AF59-73AB5F88F17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F93EE-7D83-4844-A5FD-7AE7321F287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2A686-8355-4516-80A7-0DAE5F9076E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EBBA7-1CE2-4CD7-A36F-078E32B4DA4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13C78-9E4C-4B7C-8C76-DA28D41BF0CA}" type="datetime">
              <a:rPr b="0" lang="en-US" sz="1200" spc="-1" strike="noStrike">
                <a:solidFill>
                  <a:srgbClr val="ffffff"/>
                </a:solidFill>
                <a:latin typeface="Verdana"/>
              </a:rPr>
              <a:t>07/30/26</a:t>
            </a:fld>
            <a:r>
              <a:rPr b="0" lang="en-US" sz="1200" spc="-1" strike="noStrike">
                <a:solidFill>
                  <a:srgbClr val="ffffff"/>
                </a:solidFill>
                <a:latin typeface="Verdana"/>
              </a:rPr>
              <a:t> </a:t>
            </a:r>
            <a:fld id="{CE454379-5737-49CB-9ECF-C396C874B79E}"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E0724-44D2-4B4F-93CD-F5DF57A1C5B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FB033-8A1D-469A-9AC9-DB4D7887ACC0}" type="datetime">
              <a:rPr b="0" lang="en-US" sz="1200" spc="-1" strike="noStrike">
                <a:solidFill>
                  <a:srgbClr val="ffffff"/>
                </a:solidFill>
                <a:latin typeface="Verdana"/>
              </a:rPr>
              <a:t>07/30/26</a:t>
            </a:fld>
            <a:r>
              <a:rPr b="0" lang="en-US" sz="1200" spc="-1" strike="noStrike">
                <a:solidFill>
                  <a:srgbClr val="ffffff"/>
                </a:solidFill>
                <a:latin typeface="Verdana"/>
              </a:rPr>
              <a:t> </a:t>
            </a:r>
            <a:fld id="{97A9BFB8-5025-4701-8442-16055D07774E}"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7A8D8-0AEA-44EE-A6A0-A90643BA8A0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42497-0D35-454D-A654-09460822491D}" type="datetime">
              <a:rPr b="0" lang="en-US" sz="1200" spc="-1" strike="noStrike">
                <a:solidFill>
                  <a:srgbClr val="ffffff"/>
                </a:solidFill>
                <a:latin typeface="Verdana"/>
              </a:rPr>
              <a:t>07/30/26</a:t>
            </a:fld>
            <a:r>
              <a:rPr b="0" lang="en-US" sz="1200" spc="-1" strike="noStrike">
                <a:solidFill>
                  <a:srgbClr val="ffffff"/>
                </a:solidFill>
                <a:latin typeface="Verdana"/>
              </a:rPr>
              <a:t> </a:t>
            </a:r>
            <a:fld id="{A7D983F9-9478-43C2-8D1E-ADF769AF9076}"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AC05E-2FB4-4C02-9151-1E179ED2723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C9BBB-E07C-4944-81A0-240B827FB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A3407-294C-40EE-9BAD-175D3E136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F326B-52D9-4B87-86ED-D61A63BEC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CC8AC-A218-44C4-9B31-1E26CC9F7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3915B3-E175-4CD7-A61E-21ED28FF27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E1052-FCCD-45F7-8847-B759A2B3F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3CFA3-DE8F-49DE-8A88-40FFD592C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42238-C5D0-47A4-BFF2-6B36CA440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8DCE7-BFE1-4889-82BB-BAF39B6CF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7ED0C-0DF6-419B-BA8C-A5B3A444C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D3FE4-CACF-4D6C-B817-1E1173A87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70E47-F05F-46E9-94DA-8D4B5C8F3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4303A-A5A0-4874-81B3-569EC82F5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9E952-96DC-4B31-8203-4B2840AD8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E67D1-773D-4EFC-8D48-C9E26F1F3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32464F-80B0-4A1C-901B-B42854C6C9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F2D8A1-9D54-4F72-B2EC-6C100ACB53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F45B4-DDE1-4BFB-B19C-35FF26F2A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E913D-6C96-4C4A-92AF-C7AD5771D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277D3-7024-4654-AECE-9DFAC1F10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C9081-4D77-4345-92FF-E9A31F94D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A7405-F3AE-4776-871A-AD98B96B8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70DB2-AA8E-467D-9336-F034E25CE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8283D-833E-4566-A3A5-07705DBB9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1490C-7F6D-4DEC-9C0A-53E9E660B63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782F2-3ECD-4DFA-A420-1A62C6E8AC1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B653A-66B9-4BAF-AEFE-6B36DD5F6A5B}"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