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F2FA-B1AA-4405-9874-61AE9696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7CCB-636C-4B78-96ED-FF66F221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5317-941F-4BF8-972F-064D1A08C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2E8A-8210-4A2A-8493-43F82F36D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0D2E-5570-4385-A4D8-E4389A1AA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1E6D-73C0-4FDF-AC7B-858C596F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9594-708A-49F0-8F20-227EF810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26F5-BA37-47E4-8EC9-7622441E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9782-9DC5-4941-847A-3FEFA2E7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4D1D-6B25-4140-ABE7-713C07B2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63F1-ACE3-417B-91CD-CDC196C9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5EC7-63E9-42EB-A2E4-189F5A19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AA1E-8601-405E-AE83-4C9EA388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0C45-0001-49EA-A39D-D20C7465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EADC-ADA9-46D7-8249-94D1CD9D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2259-BCC1-4F57-B9B6-C53E6CE7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28DF-E3B4-471B-94D0-12D8BAC87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B1C5-C209-493B-9629-2F66152F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5CA3-4687-434B-8B46-9A0856DB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986F-DA1B-4DDF-A1C5-95839465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2985-7C81-4EB9-868A-ADE0E309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94BE-A33F-4297-9EC6-F8C85321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E27B-BDD6-4DA6-B79D-A87A4011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1B4F-9FC5-4760-AAB7-A3C96BFC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CC8C-09D6-4A05-A845-B272214962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4988-BD09-4330-9BD8-1EA07782B6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Nairobi Water and Sanitation, Workshop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ector Budget Support: Lesotho Exper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Fairview Hotel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Nairobi, 18 - 21 October,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by: E. M. Les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VENTION BY SBS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cted results and activit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5540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on capacity addressi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ing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fication of institutional respon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 of water supply and sanitation service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urban and rural areas impro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dialogu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ctor Communic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r  improved services deliv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666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e among others importanc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Coordination Meet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Youth Water and Action Te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Water Partnersh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s le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si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s learned when introducing change and implementing re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752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fully map-up direction you want to tak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ll stakeholders involved in influencing decisions support reform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nfu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started reforms for good course go straigh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lly everybody aroun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e effectivel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the chang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open-up good opportunities for all stakeholde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background until 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uring 1986-1995 the followings were do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partment of Water Affairs was established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pleted Lesotho Highlands Water Projec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stablished DRWS and SWAP for rural setting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bined Ministry of Lesotho Water Project with Ministry of Water, Energy, and Mining and formed Ministry of Natural Resourc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ector situation analysis for 1996-1998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sector fragmentation became obstacle for project apprais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ced Lesotho Highlands Water Phase-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ed After-Care-Strate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road for water sector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Resources Management Policy – 1999 was endorsed by Cabi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y Wastewater Management Policy endor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Sector Improvement Program develop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lands Water Supply Unit was established in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cy, Planning, and Strategy Unit was established to advise formulation and develop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2003 Commissioner of Water recruited and tasked to driver the reform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binet endorsed Water and  Sanitation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or coordination, various missions were recei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essively develop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sector progra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was based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Polic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strateg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budget and medium-term expendi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 balanced Steering Committee (SC) establis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and Sanitation 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8600" y="19810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ter Sector endorsed feedback from stakeholder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 developed IWSS aiming a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ing Water and Sanitation Policy (WSP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uring funding for Water Sector developmen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tor also developing Financing Strategy for further implementation of IWS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lete IWSS by end of March 2010, and Cabinet endor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lement IWSS for financial years: 2010 to 2012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elop, complete, and endorse a Five year sector strategy by end of 2011 for period: 2012 to 2017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ocess (roadmap) for development of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terim Water and Sanitation Sector Strategy (IWSS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ASELINE AND TARGET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SUES OF WATER SERVICE DELIVERY TO MEET MDGs</a:t>
            </a:r>
            <a:br>
              <a:rPr sz="32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of SBS is to address Policy statements: 2 and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52280" y="2995560"/>
            <a:ext cx="8763120" cy="378612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1ED6-450A-4470-9485-352459541F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21644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Policy Support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Budget Support and Technical Assistance – centralized manag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bursement (in Fixed tranche and Variable tranche) is foreseen for first quarter of Financial Year following joint revie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Conditions for disbursement of each tranch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c Conditions for tranche release of variable tranch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evaluation arrangements for variable tranch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≥100%, ≥50%, &lt;5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formance Indic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049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indicators will be used to measure urban perform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access to water supp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rules for tariffs and connection fees allowing for free basic water to vulnerable households developed, tested and approved by the Regula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0 new public standpipes serving about 15,000 persons established for providing access to water in areas with low connection rates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,000 new domestic connections installed serving about 30,000 per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operating effici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policy and strategy for meter calibration and replacement developed and being implement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fW reduced to an average of 27% overall by March 2012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ergy consumption reduced by 20% from M9.3m/annum in 2008/09 to M7.44m/annum in the 2011/12 financial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production capa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SA’s production capacity increased by 29.52ML/day by March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lization of Institutional Arrang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9047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A is now a registered Water and Sewage Company (WASC) and shall be regulate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 has become multi-sector regulator.  Lesotho Electricity and Water  Authority (LEWA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sset management agency will be created during 2010/11 Financial Yea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ulk Water Authority will also be created during this Financial Year 2010/1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Windows User</cp:lastModifiedBy>
  <dcterms:modified xsi:type="dcterms:W3CDTF">2010-10-20T05:52:49Z</dcterms:modified>
  <cp:revision>378</cp:revision>
  <dc:subject/>
  <dc:title>Slide 1</dc:title>
</cp:coreProperties>
</file>