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24B6-A0D4-4187-A237-F2EBACF8C0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DF49-BC78-44D2-B758-C9F03725824F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CD6B-ABD1-47DB-9367-D57B26E1B61D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57CA-A285-4A36-AC0E-60E55D569639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98FD-D7D4-4DE7-B669-DC12D1DDAD55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49E2-001A-40C8-BA12-6C0E20272E10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C6AA-0C3C-4FF4-AB94-B87B72D15ACF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73FE-68F3-49CE-A113-6E674A0D0640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1808-0C31-44CE-9CB4-9A82130CBDAA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2CA7-627A-4928-B2B3-695DD05E9A4A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9A4A-A89D-4611-81DA-643D2AC3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F1E6-81BC-40C6-A55B-23810BF1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1B3C-D55E-4E1E-AF57-6D11C3A0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FBC4-C1FA-4DEF-811A-49C615AD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5EE6-9C24-40F3-8356-626C17BF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77C1-DCBE-4665-8F14-8B8D8B14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FFAD-40B7-49E4-AF68-A8E3FB7A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DFE6-6FB9-4910-973E-EFC1565A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6B4A-D733-461D-AE28-EEF1C36B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2C7F-29E3-4E79-8DF4-72EEB539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C2B2-F310-4597-9CF9-5234CCB2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BAEE-B955-424C-B213-B35CF62D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ad8f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c5a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d2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9CD1-A904-4084-9D74-1EB8CA0E72B9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3f2d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BD03-EB7F-4E33-B73C-113D5079D6C2}" type="datetime">
              <a:rPr b="0" lang="fr-FR" sz="1200" spc="-1" strike="noStrike">
                <a:solidFill>
                  <a:srgbClr val="f3f2dc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029600"/>
            <a:ext cx="1447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54864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34"/>
                </a:solidFill>
                <a:latin typeface="Calibri"/>
              </a:rPr>
              <a:t>Situation des réfugiés de la République centrafricaine (RCA) - Réponse Régionale et Défis </a:t>
            </a:r>
            <a:r>
              <a:rPr b="1" lang="en-US" sz="28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92934"/>
                </a:solidFill>
                <a:latin typeface="Calibri"/>
              </a:rPr>
              <a:t>Statistiques des réfugiés dans la région</a:t>
            </a:r>
            <a:endParaRPr b="0" lang="en-US" sz="32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2CAA-3899-4A21-AE95-C0AAF0EF3A09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295280"/>
            <a:ext cx="475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92934"/>
                </a:solidFill>
                <a:latin typeface="Calibri"/>
                <a:ea typeface="Arial"/>
              </a:rPr>
              <a:t>Population de réfugiés</a:t>
            </a: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465,148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AMEROUN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47.245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TCHAD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4.02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RDC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7.175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ONGO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6.70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238560" cy="5841720"/>
          </a:xfrm>
          <a:prstGeom prst="rect">
            <a:avLst/>
          </a:prstGeom>
          <a:ln w="0">
            <a:noFill/>
          </a:ln>
        </p:spPr>
      </p:pic>
      <p:sp>
        <p:nvSpPr>
          <p:cNvPr id="57" name="Content Placeholder 2"/>
          <p:cNvSpPr/>
          <p:nvPr/>
        </p:nvSpPr>
        <p:spPr>
          <a:xfrm>
            <a:off x="76320" y="62485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292934"/>
                </a:solidFill>
                <a:latin typeface="Calibri"/>
                <a:ea typeface="Arial"/>
              </a:rPr>
              <a:t>* Au 1 Mai 2015</a:t>
            </a: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0" y="6094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92934"/>
                </a:solidFill>
                <a:latin typeface="Calibri"/>
              </a:rPr>
              <a:t>Stratégie et Réponse Régionale pour les Réfugiés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Modèle de coordination des réfugiés 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lan de Réponse Régionale pour les Réfugiés (PRRR)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olitique, planification, consultations et partage d'informations avec les partenaires de mise en œuvre et de financement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Réponse aux besoins des communautés hôtes impacté par la présence des réfugiés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Considération des questions transversales comme la protection, le genre et les préoccupations environnementales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6894-4967-40D6-9BAD-6B5EB7FAE632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en </a:t>
            </a:r>
            <a:r>
              <a:rPr b="1" lang="fr-FR" sz="4000" spc="-1" strike="noStrike">
                <a:solidFill>
                  <a:srgbClr val="292934"/>
                </a:solidFill>
                <a:latin typeface="Calibri"/>
              </a:rPr>
              <a:t>Protection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8380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enregistrement de 462,015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elocalisation d’environ 195,000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fugiés de la frontière vers 14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livrance de documentation à 80%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es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Établissement des aires de jeux pour les enfants dans les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unifications familiales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Prévention et réponse aux cas de v</a:t>
            </a:r>
            <a:r>
              <a:rPr b="0" lang="fr-FR" sz="2500" spc="-1" strike="noStrike">
                <a:solidFill>
                  <a:srgbClr val="292934"/>
                </a:solidFill>
                <a:latin typeface="Calibri"/>
              </a:rPr>
              <a:t>iolence basée sur le genre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 (médicale, psychosociale et juridique)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assistance aux personnes ayant des besoins spécif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F486-F54F-4698-AE8B-5ACB2A015439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opérationnelles</a:t>
            </a:r>
            <a:br>
              <a:rPr sz="4000"/>
            </a:br>
            <a:r>
              <a:rPr b="1" lang="fr-CA" sz="2400" spc="-1" strike="noStrike">
                <a:solidFill>
                  <a:srgbClr val="292934"/>
                </a:solidFill>
                <a:latin typeface="Calibri"/>
              </a:rPr>
              <a:t>avec les partenaires de mise en œuvre et opérationnels</a:t>
            </a:r>
            <a:endParaRPr b="0" lang="en-US" sz="2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1426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ménagement de 14 sites et 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provision de 100%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'abris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’urgences en Cameroun, Tchad, RDC et Congo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s des structures d'eau et d'assainissement (forages, latrines et douches)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ssistance médicale et réponse aux cas de malnutrition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istribution mensuelle des vivres et non vivres pour environ 195,000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réfugiés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 des Espaces Temporaires d’Apprentissage et de Protection dans les sites et renforcement des capacités des écoles publiques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Réhabilitation des infrastructures locales</a:t>
            </a:r>
            <a:r>
              <a:rPr b="0" lang="en-CA" sz="2000" spc="-1" strike="noStrike">
                <a:solidFill>
                  <a:srgbClr val="292934"/>
                </a:solidFill>
                <a:latin typeface="Calibri"/>
              </a:rPr>
              <a:t>/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es services sociaux de bas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Établissements des comités pour la coexistence pacifiqu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E897-48D0-4EFF-B035-D3F1F47E3CC3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Solutions durable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majorité des réfugiés optent pour l’intégration locale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s conditions posées pour leur retour :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rétablissement de la sécurité en RCA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désarmement des groupes armés, la répartition et    l’indemnisation de biens pillés par les groupes armé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poursuite des auteurs de crim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non-discrimination des musulmans et leur reconnaissance àla citoyenneté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bonne gouvernance et la tenue des élections transparent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cohabitation pacifique inter-religieuse et communautaire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A573-30EE-4909-B477-8BCCAA04D648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Défi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La malnutrition chronique et l’insécurité aliment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capacité des infrastructures publiques (écoles, sanitaires, santé, etc.)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nsécurité pour les réfugiés à proximité des frontières et l'accès humanitaire limité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fis logist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Conflits entre les réfugiés et la communauté hôte liée au bois de chauffe, accès à l'eau et pâturage 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retour des ressortissants des pays tier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éducation des réfugiés au niveau secondaire et terti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Manque chronique de fonds, qui remet en cause la fourniture de l’assistance humanitaire selon les standard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BD4F-5B0B-4473-B9DD-EE3F44176B14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Niveau de financemen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9CF7-1D96-4E0A-AEB0-4D23E5F3C3F7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150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alibri"/>
                <a:ea typeface="Arial"/>
              </a:rPr>
              <a:t>13% Financé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36520" y="7621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demandés pour la Réponse :</a:t>
            </a:r>
            <a:r>
              <a:rPr b="1" lang="en-US" sz="14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240.710.733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reçus au 19 Mai 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31.464.278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8840" y="3962520"/>
          <a:ext cx="8076960" cy="24955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soins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çu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é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ameroun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71.937.91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.046.43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1.415.8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8.620.46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46.646.888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.443.64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on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0.989.58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9.15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DC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7.036.3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937.58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9" descr=""/>
          <p:cNvPicPr/>
          <p:nvPr/>
        </p:nvPicPr>
        <p:blipFill>
          <a:blip r:embed="rId1"/>
          <a:stretch/>
        </p:blipFill>
        <p:spPr>
          <a:xfrm rot="5732400">
            <a:off x="2263320" y="10364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E83F-F3A2-4970-9F48-F6B117B4A2FF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005520" cy="594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536400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Calibri"/>
              </a:rPr>
              <a:t>Merci</a:t>
            </a:r>
            <a:endParaRPr b="0" lang="en-US" sz="8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2:42:32Z</dcterms:created>
  <dc:creator>Martha Piper</dc:creator>
  <dc:description/>
  <dc:language>en-US</dc:language>
  <cp:lastModifiedBy>RIGOLLI Cristina (DEVCO)</cp:lastModifiedBy>
  <cp:lastPrinted>2015-05-21T11:59:53Z</cp:lastPrinted>
  <dcterms:modified xsi:type="dcterms:W3CDTF">2015-05-22T12:21:26Z</dcterms:modified>
  <cp:revision>257</cp:revision>
  <dc:subject/>
  <dc:title>PowerPoint Presentation</dc:title>
</cp:coreProperties>
</file>