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2533c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68DC-7BA6-4002-9E92-0A8E253C2B2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4F91-72B9-4015-935A-6ED09C556B9F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7BF3-FD3D-492D-88CA-D1489E1D58D0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DE3C-7516-462F-AF72-B92FEDE10303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B5F1-ADC4-4C51-AA4A-DF4B27366375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FF58-89C4-441D-9B36-0D849E92C77F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C012-313D-49E8-B6BF-FD8D8C7BA2F4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7707-C450-4162-905C-64E1D8CAEA07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C2F3-6356-458B-990F-ECB6022ACF2A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DA41-A52D-4DCE-863A-D510EDDC9F15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B1161-B8B6-4161-8ABB-4EED0811C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4350C-6849-476B-9C5D-2418BF54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335E7-86F1-4396-A385-0CAF48D7C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0108C-680F-43D7-8D2C-BCDC60FD9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C80C4-E545-4834-B5B3-79C94858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15C17-F5BC-48E4-A166-4ED1B141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00333-3E0E-4E00-81E1-4045F01E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A81BE-A998-48D5-9680-BC22B5EA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7B4E2-437D-4611-97F6-1D58D427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FB44E-4370-4F39-AE8E-519AE3EE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3A7F9-E818-469F-9659-A91617F8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FCE43-BB9B-4F74-A4C9-084EDBCD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2533c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ad8f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c5a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808d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d2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29CF-4D86-4F37-8705-5DB51AD61F0A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3f2d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5C1D-2A33-4F7A-99DF-5422A033BCE0}" type="datetime">
              <a:rPr b="0" lang="fr-FR" sz="1200" spc="-1" strike="noStrike">
                <a:solidFill>
                  <a:srgbClr val="f3f2dc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0" y="1029600"/>
            <a:ext cx="14479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8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-360" y="54864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92934"/>
                </a:solidFill>
                <a:latin typeface="Calibri"/>
              </a:rPr>
              <a:t>Situation des réfugiés de la République centrafricaine (RCA) - Réponse Régionale et Défis </a:t>
            </a:r>
            <a:r>
              <a:rPr b="1" lang="en-US" sz="2800" spc="-1" strike="noStrike">
                <a:solidFill>
                  <a:srgbClr val="292934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458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-360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92934"/>
                </a:solidFill>
                <a:latin typeface="Calibri"/>
              </a:rPr>
              <a:t>Statistiques des réfugiés dans la région</a:t>
            </a:r>
            <a:endParaRPr b="0" lang="en-US" sz="32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54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AA31-4291-4BE7-A157-131ED99CF8B0}" type="slidenum">
              <a:rPr b="0" lang="fr-FR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0" y="1295280"/>
            <a:ext cx="4756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92934"/>
                </a:solidFill>
                <a:latin typeface="Calibri"/>
                <a:ea typeface="Arial"/>
              </a:rPr>
              <a:t>Population de réfugiés</a:t>
            </a:r>
            <a:r>
              <a:rPr b="1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: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465,148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CAMEROUN</a:t>
            </a:r>
            <a:r>
              <a:rPr b="0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:                   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247.245 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TCHAD</a:t>
            </a:r>
            <a:r>
              <a:rPr b="0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:                                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94.024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RDC</a:t>
            </a:r>
            <a:r>
              <a:rPr b="0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:                                     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97.175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CONGO</a:t>
            </a:r>
            <a:r>
              <a:rPr b="0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:                              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26.704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4572000" y="533520"/>
            <a:ext cx="3238560" cy="5841720"/>
          </a:xfrm>
          <a:prstGeom prst="rect">
            <a:avLst/>
          </a:prstGeom>
          <a:ln w="0">
            <a:noFill/>
          </a:ln>
        </p:spPr>
      </p:pic>
      <p:sp>
        <p:nvSpPr>
          <p:cNvPr id="57" name="Content Placeholder 2"/>
          <p:cNvSpPr/>
          <p:nvPr/>
        </p:nvSpPr>
        <p:spPr>
          <a:xfrm>
            <a:off x="76320" y="62485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292934"/>
                </a:solidFill>
                <a:latin typeface="Calibri"/>
                <a:ea typeface="Arial"/>
              </a:rPr>
              <a:t>* Au 1 Mai 2015</a:t>
            </a:r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3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58" name="Picture 10" descr=""/>
          <p:cNvPicPr/>
          <p:nvPr/>
        </p:nvPicPr>
        <p:blipFill>
          <a:blip r:embed="rId2"/>
          <a:stretch/>
        </p:blipFill>
        <p:spPr>
          <a:xfrm>
            <a:off x="0" y="609480"/>
            <a:ext cx="84582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292934"/>
                </a:solidFill>
                <a:latin typeface="Calibri"/>
              </a:rPr>
              <a:t>Stratégie et Réponse Régionale pour les Réfugiés </a:t>
            </a:r>
            <a:endParaRPr b="0" lang="en-US" sz="3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286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92934"/>
                </a:solidFill>
                <a:latin typeface="Calibri"/>
              </a:rPr>
              <a:t>Modèle de coordination des réfugiés 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92934"/>
                </a:solidFill>
                <a:latin typeface="Calibri"/>
              </a:rPr>
              <a:t>Plan de Réponse Régionale pour les Réfugiés (PRRR)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92934"/>
                </a:solidFill>
                <a:latin typeface="Calibri"/>
              </a:rPr>
              <a:t>Politique, planification, consultations et partage d'informations avec les partenaires de mise en œuvre et de financement.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92934"/>
                </a:solidFill>
                <a:latin typeface="Calibri"/>
              </a:rPr>
              <a:t>Réponse aux besoins des communautés hôtes impacté par la présence des réfugiés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92934"/>
                </a:solidFill>
                <a:latin typeface="Calibri"/>
              </a:rPr>
              <a:t>Considération des questions transversales comme la protection, le genre et les préoccupations environnementales.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1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54CA-A908-4D9D-AF9B-14DE5758E795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92934"/>
                </a:solidFill>
                <a:latin typeface="Calibri"/>
              </a:rPr>
              <a:t>Réalisations en </a:t>
            </a:r>
            <a:r>
              <a:rPr b="1" lang="fr-FR" sz="4000" spc="-1" strike="noStrike">
                <a:solidFill>
                  <a:srgbClr val="292934"/>
                </a:solidFill>
                <a:latin typeface="Calibri"/>
              </a:rPr>
              <a:t>Protection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8600" y="83808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Identification et enregistrement de 462,015 réfugié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Relocalisation d’environ 195,000</a:t>
            </a:r>
            <a:r>
              <a:rPr b="1" lang="fr-CA" sz="25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réfugiés de la frontière vers 14 site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Délivrance de documentation à 80%</a:t>
            </a:r>
            <a:r>
              <a:rPr b="1" lang="fr-CA" sz="25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des réfugié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Établissement des aires de jeux pour les enfants dans les site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Réunifications familiales 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Prévention et réponse aux cas de v</a:t>
            </a:r>
            <a:r>
              <a:rPr b="0" lang="fr-FR" sz="2500" spc="-1" strike="noStrike">
                <a:solidFill>
                  <a:srgbClr val="292934"/>
                </a:solidFill>
                <a:latin typeface="Calibri"/>
              </a:rPr>
              <a:t>iolence basée sur le genre</a:t>
            </a: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 (médicale, psychosociale et juridique)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Identification et assistance aux personnes ayant des besoins spécifique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4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03BD-F94B-4905-BC72-B7371DC6F0D9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92934"/>
                </a:solidFill>
                <a:latin typeface="Calibri"/>
              </a:rPr>
              <a:t>Réalisations opérationnelles</a:t>
            </a:r>
            <a:br>
              <a:rPr sz="4000"/>
            </a:br>
            <a:r>
              <a:rPr b="1" lang="fr-CA" sz="2400" spc="-1" strike="noStrike">
                <a:solidFill>
                  <a:srgbClr val="292934"/>
                </a:solidFill>
                <a:latin typeface="Calibri"/>
              </a:rPr>
              <a:t>avec les partenaires de mise en œuvre et opérationnels</a:t>
            </a:r>
            <a:endParaRPr b="0" lang="en-US" sz="24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28600" y="11426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Aménagement de 14 sites et </a:t>
            </a:r>
            <a:r>
              <a:rPr b="0" lang="en-US" sz="2000" spc="-1" strike="noStrike">
                <a:solidFill>
                  <a:srgbClr val="292934"/>
                </a:solidFill>
                <a:latin typeface="Calibri"/>
              </a:rPr>
              <a:t>provision de 100% </a:t>
            </a:r>
            <a:r>
              <a:rPr b="0" lang="fr-FR" sz="2000" spc="-1" strike="noStrike">
                <a:solidFill>
                  <a:srgbClr val="292934"/>
                </a:solidFill>
                <a:latin typeface="Calibri"/>
              </a:rPr>
              <a:t>d'abris</a:t>
            </a:r>
            <a:r>
              <a:rPr b="0" lang="en-US" sz="20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292934"/>
                </a:solidFill>
                <a:latin typeface="Calibri"/>
              </a:rPr>
              <a:t>d’urgences en Cameroun, Tchad, RDC et Congo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Constructions des structures d'eau et d'assainissement (forages, latrines et douches) 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Assistance médicale et réponse aux cas de malnutrition 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Distribution mensuelle des vivres et non vivres pour environ 195,000 </a:t>
            </a:r>
            <a:r>
              <a:rPr b="0" lang="fr-FR" sz="2000" spc="-1" strike="noStrike">
                <a:solidFill>
                  <a:srgbClr val="292934"/>
                </a:solidFill>
                <a:latin typeface="Calibri"/>
              </a:rPr>
              <a:t>réfugiés</a:t>
            </a: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Construction des Espaces Temporaires d’Apprentissage et de Protection dans les sites et renforcement des capacités des écoles publiques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Réhabilitation des infrastructures locales</a:t>
            </a:r>
            <a:r>
              <a:rPr b="0" lang="en-CA" sz="2000" spc="-1" strike="noStrike">
                <a:solidFill>
                  <a:srgbClr val="292934"/>
                </a:solidFill>
                <a:latin typeface="Calibri"/>
              </a:rPr>
              <a:t>/</a:t>
            </a: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des services sociaux de base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Établissements des comités pour la coexistence pacifique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7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E775-D0EE-4D3B-8C40-E933FC2120CB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92934"/>
                </a:solidFill>
                <a:latin typeface="Calibri"/>
              </a:rPr>
              <a:t>Solutions durables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8240" y="9903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a majorité des réfugiés optent pour l’intégration locale 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es conditions posées pour leur retour : 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e rétablissement de la sécurité en RCA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e désarmement des groupes armés, la répartition et    l’indemnisation de biens pillés par les groupes armés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a poursuite des auteurs de crimes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a non-discrimination des musulmans et leur reconnaissance àla citoyenneté 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a bonne gouvernance et la tenue des élections transparentes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a cohabitation pacifique inter-religieuse et communautaire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0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0EBD-536A-4A5B-8C80-5B9709FB2C42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92934"/>
                </a:solidFill>
                <a:latin typeface="Calibri"/>
              </a:rPr>
              <a:t>Défis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52280" y="8377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La malnutrition chronique et l’insécurité alimentaire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Faible capacité des infrastructures publiques (écoles, sanitaires, santé, etc.) 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Insécurité pour les réfugiés à proximité des frontières et l'accès humanitaire limité 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Défis logistique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Conflits entre les réfugiés et la communauté hôte liée au bois de chauffe, accès à l'eau et pâturage  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Identification et retour des ressortissants des pays tier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Faible éducation des réfugiés au niveau secondaire et tertiaire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Manque chronique de fonds, qui remet en cause la fourniture de l’assistance humanitaire selon les standard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3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19C4-396E-4509-8C6E-7AA9865D5C24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-152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92934"/>
                </a:solidFill>
                <a:latin typeface="Calibri"/>
              </a:rPr>
              <a:t>Niveau de financement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75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E6C5-DBB0-4FEE-930E-B753307A9034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5715000" y="1752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34"/>
                </a:solidFill>
                <a:latin typeface="Calibri"/>
                <a:ea typeface="Arial"/>
              </a:rPr>
              <a:t>13% Financé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236520" y="762120"/>
            <a:ext cx="807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292934"/>
                </a:solidFill>
                <a:latin typeface="Calibri"/>
                <a:ea typeface="Arial"/>
              </a:rPr>
              <a:t>Fonds demandés pour la Réponse :</a:t>
            </a:r>
            <a:r>
              <a:rPr b="1" lang="en-US" sz="1400" spc="-1" strike="noStrike">
                <a:solidFill>
                  <a:srgbClr val="292934"/>
                </a:solidFill>
                <a:latin typeface="Calibri"/>
                <a:ea typeface="Arial"/>
              </a:rPr>
              <a:t> </a:t>
            </a:r>
            <a:r>
              <a:rPr b="1" lang="en-US" sz="1400" spc="-1" strike="noStrike">
                <a:solidFill>
                  <a:srgbClr val="c00000"/>
                </a:solidFill>
                <a:latin typeface="Calibri"/>
                <a:ea typeface="Arial"/>
              </a:rPr>
              <a:t>USD 240.710.733</a:t>
            </a:r>
            <a:endParaRPr b="0" lang="en-US" sz="14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292934"/>
                </a:solidFill>
                <a:latin typeface="Calibri"/>
                <a:ea typeface="Arial"/>
              </a:rPr>
              <a:t>Fonds reçus au 19 Mai : </a:t>
            </a:r>
            <a:r>
              <a:rPr b="1" lang="en-US" sz="1400" spc="-1" strike="noStrike">
                <a:solidFill>
                  <a:srgbClr val="c00000"/>
                </a:solidFill>
                <a:latin typeface="Calibri"/>
                <a:ea typeface="Arial"/>
              </a:rPr>
              <a:t>USD 31.464.278</a:t>
            </a:r>
            <a:endParaRPr b="0" lang="en-US" sz="1400" spc="-1" strike="noStrike">
              <a:solidFill>
                <a:srgbClr val="292934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58840" y="3962520"/>
          <a:ext cx="8076960" cy="24955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  <a:gridCol w="2019240"/>
                <a:gridCol w="2019240"/>
              </a:tblGrid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soins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çu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</a:t>
                      </a: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nancé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Cameroun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71.937.916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6.046.433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8%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e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RCA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51.415.889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18.620.463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36%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Tchad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46.646.888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1.443.649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3%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Congo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10.989.583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69.156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1%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RDC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57.036.389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937.584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3%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pic>
        <p:nvPicPr>
          <p:cNvPr id="79" name="Picture 29" descr=""/>
          <p:cNvPicPr/>
          <p:nvPr/>
        </p:nvPicPr>
        <p:blipFill>
          <a:blip r:embed="rId1"/>
          <a:stretch/>
        </p:blipFill>
        <p:spPr>
          <a:xfrm rot="5732400">
            <a:off x="2263320" y="1036440"/>
            <a:ext cx="4572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5E37-61C7-4019-9C17-1AEAF66F293D}" type="slidenum">
              <a:rPr b="0" lang="fr-FR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005520" cy="5943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240" y="5364000"/>
            <a:ext cx="762012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ffffff"/>
                </a:solidFill>
                <a:latin typeface="Calibri"/>
              </a:rPr>
              <a:t>Merci</a:t>
            </a:r>
            <a:endParaRPr b="0" lang="en-US" sz="8000" spc="-1" strike="noStrike">
              <a:solidFill>
                <a:srgbClr val="d2533c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12:42:32Z</dcterms:created>
  <dc:creator>Martha Piper</dc:creator>
  <dc:description/>
  <dc:language>en-US</dc:language>
  <cp:lastModifiedBy>RIGOLLI Cristina (DEVCO)</cp:lastModifiedBy>
  <cp:lastPrinted>2015-05-21T11:59:53Z</cp:lastPrinted>
  <dcterms:modified xsi:type="dcterms:W3CDTF">2015-05-22T12:21:26Z</dcterms:modified>
  <cp:revision>257</cp:revision>
  <dc:subject/>
  <dc:title>PowerPoint Presentation</dc:title>
</cp:coreProperties>
</file>