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E3747-F895-4D03-AEDC-27674A012D6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37F8A0-BDDB-4FC8-8B24-C306CE8229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1F194-07A1-4AF9-BE72-971D4A5DB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8B08F6-5EE7-4EC0-B01E-6B491DEAD1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FB5A59-BD08-41DB-82FD-91A80E0474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40AEFB-916A-4145-90F0-1B518220E6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A0B659-4E5B-4730-8ADF-BF7A34805B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2A022C-F9F1-46FF-96BE-6D7FB198FC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4FB01B-BD8B-4291-8FCF-40FD86DED3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906F0F-CC1B-48D5-B4D5-003B8B10B3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7BD349-DC12-4460-A391-F785549943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533AE-A55E-4D25-A98C-BE43287C89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721F1-E688-4BFB-9A92-1563B65A0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04E452-6934-4417-A437-1C47E8779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8F8F34-528C-426E-A0B4-43A206769A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E403AB-ADEF-42FD-AC4E-C8F5F95CBB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EFF972-B810-4CA9-BD40-470460E3D5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760A1D-CD39-4AF4-B331-EAD119696F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9FE03-1C9B-4475-9DE7-2CCBCDF8D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9BA86-61FE-4D35-985E-B20CA29C9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55CFE-2317-482F-AC31-28FEC3929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C8259-42E2-4D59-BA6F-6895CAE35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EE925-22F3-4B36-95FF-CFC0439AD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C81BF-B374-445E-B62E-37B5CDB08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219F7-97F8-4F4B-A1E5-A4CADD256D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B07D4-2FB1-4AAD-81A7-DA52CB22BA5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A2B71-BD22-46B4-A4E3-E9313D9B7CE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7432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jaak de Boer – EU Delegation Namibi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1-11-30T06:30:50Z</dcterms:modified>
  <cp:revision>285</cp:revision>
  <dc:subject/>
  <dc:title>Slide 1</dc:title>
</cp:coreProperties>
</file>