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77D3-4E5C-4FE8-A242-4BFC5E47436C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8810-7C00-440D-B1EF-A3EF7FF9A57D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E963-4FC1-4195-8C89-182AE48A33D3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84DE-BF74-4963-9683-6558AACBB8C3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CB65-271E-41F0-9F9D-CDA58B67E955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76E0-1D28-4EC6-8C8E-26C5AF2630DC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34B6-18C9-44E6-AEB0-08AB27FF6CB2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BD5E-8C55-42FD-8674-36DAB883DBF3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4EB-2816-46D8-8B36-70B55109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622-E727-4B15-B7CB-6EAA5435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439-F12B-4931-B34C-45C59269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603-04E6-472C-A604-D5DB4EBA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B2EF-CD64-46AF-9846-D7685F21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C85C-C408-4A5D-B2E5-64A0000F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C2A4-D788-40CE-A07E-CB93EAE3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33CD-FAE5-44E5-95C5-EFE5A207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C3B9-B051-4253-9AFC-207B950D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6D3A-F3B6-4F51-BC65-8758295D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2E3E-39D1-49A1-8E29-BC4E708C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961-EDE8-48D7-BDB2-222FC944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0F46-E071-41FF-B015-E5EED053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F6CA-82FB-4543-91A7-F99E9A9D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31AF-D7C0-4F0E-AF46-19D5EB28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40B-C3BA-4D49-B9FD-614F4290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C775-041C-4DAA-A807-59161A97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9F9-44FA-450E-B498-07346FD9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F34-E45B-4A7B-9FDD-0172E8F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BA7-330C-42C6-AFE8-94B2D6E0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583-F265-42DD-9C35-C6FA8576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1FE-2359-49BA-9D8E-D982CF8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7EB-FB36-44D1-90A9-B4491024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266-E07B-458B-9BF6-91069C2A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EBFB-CF8D-40FC-98E7-369A2DE176C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Actra Advisers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217A-F3A8-4E1F-819D-ADEE4E8B0CCF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02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333399"/>
                </a:solidFill>
                <a:latin typeface="Verdana"/>
              </a:rPr>
              <a:t>Support to Capacity Development in Public Financial Management (PFM) </a:t>
            </a:r>
            <a:br>
              <a:rPr sz="2800"/>
            </a:br>
            <a:endParaRPr b="1" lang="en-US" sz="28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role  and Nico Pretoriu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d200"/>
                </a:solidFill>
                <a:latin typeface="Verdana"/>
              </a:rPr>
              <a:t>Approach to Guide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79912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Guide focuses on how to support not just what to support – holistic perspective on issues that need to be addressed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  <a:ea typeface="Arial"/>
              </a:rPr>
              <a:t>Know your country, your subject, yourself (your organis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Develop relationships that facilitate open and constructive discus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Be transparent and assess with an open mind. Focus on what is there, not just what is not the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designing support, provide alternatives to the problem, not single standard solutions, think out of the box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mprove the flexibility of funding to accommodate the dynamic nature of capacity development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In providing assistance ensure there is demand and then look at the various options involving government in selection/manage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Take longer term perspective on learning and seek to improve organisational lear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Calibri"/>
              </a:rPr>
              <a:t>Know your goal/intended benefit at the outset, if not always the exact pa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1368360" indent="-517320">
              <a:lnSpc>
                <a:spcPct val="90000"/>
              </a:lnSpc>
              <a:buClr>
                <a:srgbClr val="353b55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marL="515880" indent="-5158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914400" indent="-5176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ts val="2798"/>
              </a:lnSpc>
              <a:buClr>
                <a:srgbClr val="353b55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515880" indent="-51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Capacity Development – A Change Perspectiv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uman element of reforms/development/change strateg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hange challenges at different lev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cietal (values &amp; beliefs e.g. public accountabi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(changing roles e.g. audit independenc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(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dividual (Behaviour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clude “hard issues” and “soft issue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stitutional frameworks, technical reform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y-in, compliance, behavioural chang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naging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cus on rational processes and </a:t>
            </a:r>
            <a:r>
              <a:rPr b="1" lang="en-GB" sz="1800" spc="-1" strike="noStrike" u="sng">
                <a:solidFill>
                  <a:srgbClr val="103c72"/>
                </a:solidFill>
                <a:uFillTx/>
                <a:latin typeface="Verdana"/>
              </a:rPr>
              <a:t>emotional responses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o ensure sustainable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Why Change Efforts Fail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609480" y="256536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FBC1-EE52-4B86-ABBE-FAD615E3CD5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492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2781360"/>
          <a:ext cx="7416720" cy="3095640"/>
        </p:xfrm>
        <a:graphic>
          <a:graphicData uri="http://schemas.openxmlformats.org/drawingml/2006/table">
            <a:tbl>
              <a:tblPr/>
              <a:tblGrid>
                <a:gridCol w="944280"/>
                <a:gridCol w="1216080"/>
                <a:gridCol w="1224000"/>
                <a:gridCol w="905040"/>
                <a:gridCol w="31273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lear Vis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rgenc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apacity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ikely Outcom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st start, then fizzle ou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ottom of “In” tray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ockets of change, Fear due to lack of skill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alse starts, Ad Hoc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ustainable chang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8"/>
          <p:cNvSpPr/>
          <p:nvPr/>
        </p:nvSpPr>
        <p:spPr>
          <a:xfrm>
            <a:off x="46836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Based on Kotter, J.P. (2000) Leading Change: Why Transformation Efforts Fail. Harvard Business Review no 423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539640" y="155736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539640" y="1844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ountry Findings – Sustainability an Issue – Why is that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Getting Ready for Chan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king the Case for Change/the Vis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ing case in which logic is irrefutable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est practice is not a good argu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ave clear criteria for success,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t manages expectations so everyone is clear on destin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vide insight not prescription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drivers, not extern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ture P(p)olitical Wil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Leve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rganisational Level (Senior Manage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sight  (Case Study: Using PEFA)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pic>
        <p:nvPicPr>
          <p:cNvPr id="137" name="Picture 1" descr="Drawing scores2"/>
          <p:cNvPicPr/>
          <p:nvPr/>
        </p:nvPicPr>
        <p:blipFill>
          <a:blip r:embed="rId1"/>
          <a:stretch/>
        </p:blipFill>
        <p:spPr>
          <a:xfrm>
            <a:off x="179280" y="765000"/>
            <a:ext cx="812664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50920" y="4724280"/>
          <a:ext cx="8064360" cy="1729080"/>
        </p:xfrm>
        <a:graphic>
          <a:graphicData uri="http://schemas.openxmlformats.org/drawingml/2006/table">
            <a:tbl>
              <a:tblPr/>
              <a:tblGrid>
                <a:gridCol w="784080"/>
                <a:gridCol w="1838520"/>
                <a:gridCol w="1287360"/>
                <a:gridCol w="1382760"/>
                <a:gridCol w="1252440"/>
                <a:gridCol w="1519200"/>
              </a:tblGrid>
              <a:tr h="863640"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 Endin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of Fin. Statements to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signed off by AG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mission to Speaker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rutiny by PA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 available to Public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07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Jun 09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ign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submitted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Hearing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60480" algn="just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leased yet</a:t>
                      </a:r>
                      <a:endParaRPr b="0" lang="en-US" sz="12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Oval 7"/>
          <p:cNvSpPr/>
          <p:nvPr/>
        </p:nvSpPr>
        <p:spPr>
          <a:xfrm>
            <a:off x="1763640" y="1916280"/>
            <a:ext cx="1511280" cy="1584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227640" y="2060640"/>
            <a:ext cx="151128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6804000" y="4365720"/>
            <a:ext cx="1511280" cy="158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2" name="Picture 3" descr="C:\Users\Karools\AppData\Local\Microsoft\Windows\Temporary Internet Files\Content.IE5\P59UQRSN\MC900441521[1].wmf"/>
          <p:cNvPicPr/>
          <p:nvPr/>
        </p:nvPicPr>
        <p:blipFill>
          <a:blip r:embed="rId2"/>
          <a:stretch/>
        </p:blipFill>
        <p:spPr>
          <a:xfrm>
            <a:off x="6804000" y="0"/>
            <a:ext cx="136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Beyond leadership and communic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wanda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igh level political will now, but ..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al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unit but still battling with how to tackle vested interes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Lesot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hange management consultants told us what we already knew – not what to do about it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How do you move to a stage where this is ‘how we do things around here (now)’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mportance of 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way we do things”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80 % princip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Values and ethic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ulturally loaded concep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difficult to chan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Shadow side of Culture (Perception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oyalty (“Don’t question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fessional (“High Power Distance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2A7B-B53F-43BF-B2F4-D8B57E60C7A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8" name="Picture 7" descr="Drawing Cultural Onion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rganisational Change Strategy (6Ps)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5A45-8BAF-4029-A309-C4FBCEE5A44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Content Placeholder 3"/>
          <p:cNvSpPr/>
          <p:nvPr/>
        </p:nvSpPr>
        <p:spPr>
          <a:xfrm>
            <a:off x="457200" y="2174760"/>
            <a:ext cx="4040280" cy="4133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bbe0e3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reason for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Making irrefutable case for change!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Implications if no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will things look like in futur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Vision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How will it be better than what we got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time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iorities and Sequenc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o  is involved in planning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Top-down, Consultation, Particip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Content Placeholder 5"/>
          <p:cNvSpPr/>
          <p:nvPr/>
        </p:nvSpPr>
        <p:spPr>
          <a:xfrm>
            <a:off x="4645080" y="2174760"/>
            <a:ext cx="4103640" cy="406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r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my role in chang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What is expected from me now, dur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d after change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motional respon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nger, fear, cynicism, excitement, etc.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at is in it for m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Am I a winner or loser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Rewards – financial, self-actualisation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(Effort – increased workload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468360" y="15573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Organisation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Text Placeholder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808080"/>
                </a:solidFill>
                <a:uFillTx/>
                <a:latin typeface="Calibri"/>
              </a:rPr>
              <a:t>Individua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468360" y="1125360"/>
            <a:ext cx="82296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ase Study 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(South African Civil Service Reforms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Design and Implementation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rivers (strategies) for Sustainable Chan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lear strategies for achieving vis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ne organisation, one strate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lignment (Development Strategy and Cultur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must promote urg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lexible framework that encourages action and limits opportunity for passiv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tailed implemen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quires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ment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not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ppropriate technical and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rial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apac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ternal capacity to </a:t>
            </a: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manage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 change pro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Monitoring and Evalu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7920"/>
            <a:ext cx="785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Formulate Criteria and KPI at Design St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ep it simple, Monitor change in behaviour not just systems and procedures and RE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ss Step Analysis (Inputs, Outputs, Impact, etc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316160" indent="-51444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ample: Open Strateg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514440">
              <a:lnSpc>
                <a:spcPts val="27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37E-D284-43A7-ACC8-34B8E7DD166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500280"/>
          <a:ext cx="7704360" cy="2789280"/>
        </p:xfrm>
        <a:graphic>
          <a:graphicData uri="http://schemas.openxmlformats.org/drawingml/2006/table">
            <a:tbl>
              <a:tblPr/>
              <a:tblGrid>
                <a:gridCol w="1527120"/>
                <a:gridCol w="1327320"/>
                <a:gridCol w="2560680"/>
                <a:gridCol w="2289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ocess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se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6740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eveloping training Manual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ocument produced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supposed to be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it actually used (or not)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Unit, Organisation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310760"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pecialist Training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hd graduat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is person being used?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w does organisation learn from that knowledge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72000" rIns="36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 Organisation, sector, society, individual, etc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cxnSp>
        <p:nvCxnSpPr>
          <p:cNvPr id="163" name="Straight Arrow Connector 10"/>
          <p:cNvCxnSpPr/>
          <p:nvPr/>
        </p:nvCxnSpPr>
        <p:spPr>
          <a:xfrm>
            <a:off x="1547640" y="3715920"/>
            <a:ext cx="504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4" name="Straight Arrow Connector 11"/>
          <p:cNvCxnSpPr/>
          <p:nvPr/>
        </p:nvCxnSpPr>
        <p:spPr>
          <a:xfrm>
            <a:off x="2843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  <p:cxnSp>
        <p:nvCxnSpPr>
          <p:cNvPr id="165" name="Straight Arrow Connector 12"/>
          <p:cNvCxnSpPr/>
          <p:nvPr/>
        </p:nvCxnSpPr>
        <p:spPr>
          <a:xfrm>
            <a:off x="4859280" y="3715920"/>
            <a:ext cx="50544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Development of practitioners guide to supporting capacity development in PF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Five case study countries: Lesotho, Nepal, Mali, Morocco and Rwanda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Semi- structured interview proc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understanding/meaning of key terms, capacity development (CD), reform and PFM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ontent, form and duration of CD support;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process of design, implementation and assessment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39400" indent="-501480">
              <a:lnSpc>
                <a:spcPts val="2798"/>
              </a:lnSpc>
              <a:buClr>
                <a:srgbClr val="353b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and sustainabil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50184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56080" indent="-501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Nepal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40" y="1484280"/>
            <a:ext cx="851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5122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d hoc interventions, predominantly based on technical training and supply driven assistance, government not seen as in driving sea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4488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‘</a:t>
            </a:r>
            <a:r>
              <a:rPr b="0" lang="en-GB" sz="1800" spc="-1" strike="noStrike">
                <a:solidFill>
                  <a:srgbClr val="103c72"/>
                </a:solidFill>
                <a:latin typeface="Arial"/>
                <a:ea typeface="Arial"/>
              </a:rPr>
              <a:t>Need to train right person on right course for right reason’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radual move to more coordinated and focussed support with some recognition of political situation, but not of how society/organisations operat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imited local ownership/management of technical assistance, complaints over micro management, concerns over ‘cut and paste’ approac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792000" indent="-5122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mpact not assessed and sustainability constrained by a number of factors e.g. Frequent rotation of senior personnel, low status of financial personn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2280" indent="-512280">
              <a:lnSpc>
                <a:spcPct val="90000"/>
              </a:lnSpc>
              <a:buClr>
                <a:srgbClr val="353b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  <a:p>
            <a:pPr lvl="1" marL="873720" indent="-5122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Lesoth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comprising of traditional technical ‘fixes’ but addressing issues of professionaliz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Level of ‘government’ ownership declined over time, all affected bodies not on board from the outse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At operational level, preferred technical assistance, those who had practical experience. At micro level, internal CD of organisation, which is emphasising ‘human element’ making progres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Change management support did not go beyond the ‘communication philosophy’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generally and of professionalization process 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f you train them they leave?”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Rwanda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Reform programme supported by limited number of knowledgeable donors, high level of mutual trust and respe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Major transformation, but high level of political support with clear vision (even if not realistic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Joint selection and management of TA, monitoring done by counterparts/senior government official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Initial attempts at professionalization failed, poor selection process, broader educational issues need to be addressed + high leakag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8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Sustainability – still highly questionable, shared vision ?, very small civil service, flat pay system, personal motivation issues not address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buClr>
                <a:srgbClr val="353b55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orocco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  <a:ea typeface="Arial"/>
              </a:rPr>
              <a:t>High level support by the King, but shared vision across all senior management still being sough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The Trésorerie Générale du Royaume (TGR) has sequenced its reform efforts taking account of capacity issues/scop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Focus on tools viewed as being to the detriment of a focus on enabling people to use those tools for the benefit of their organisation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Government manage technical assistance, effective use of institutional twinning arrange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Need for donors to adopt flexible approach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Mali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60020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Lack of involvement of parliament and audit together with protracted discussions over methodology seen as reducing country ownership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WAEMU directives – so direction prescribed, but </a:t>
            </a: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equencing of reforms has not taken into account country context. Also concerns raised that </a:t>
            </a:r>
            <a:r>
              <a:rPr b="0" lang="en-US" sz="1900" spc="-1" strike="noStrike">
                <a:solidFill>
                  <a:srgbClr val="103c72"/>
                </a:solidFill>
                <a:latin typeface="Arial"/>
                <a:ea typeface="Arial"/>
              </a:rPr>
              <a:t>values, beliefs, ways of doing things not respected – e.g. audit model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refully formulated plans are addressing a number of institutional, organisational and individual capacity development issue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here is a change management strategy, the implementation of which is headed by a dedicated unit; however addressing the influence of vested interests and the need to take into account motivational issues remains. 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lvl="1" marL="884160" indent="-51732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Arial"/>
                <a:ea typeface="Arial"/>
              </a:rPr>
              <a:t>Understanding and meaning of key ter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  <a:ea typeface="Arial"/>
              </a:rPr>
              <a:t>Variations exist between governments, between donors and between government and donors leading to some tens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176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19" name="Picture 5" descr="Drawing Cross talking.jpg"/>
          <p:cNvPicPr/>
          <p:nvPr/>
        </p:nvPicPr>
        <p:blipFill>
          <a:blip r:embed="rId1"/>
          <a:stretch/>
        </p:blipFill>
        <p:spPr>
          <a:xfrm>
            <a:off x="1187280" y="3068640"/>
            <a:ext cx="6769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3d200"/>
                </a:solidFill>
                <a:latin typeface="Verdana"/>
              </a:rPr>
              <a:t>Common findings</a:t>
            </a:r>
            <a:endParaRPr b="1" lang="en-US" sz="36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413000"/>
            <a:ext cx="8227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Still mainly support to new ‘technical’ tools and approaches (MTEF, IFMIS, TSA), conventional training/workshop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In general focus on traditional imports, not finding solutions to actual (and shared) problems, very limited innovation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Limited understanding (incorporation) of local context by donor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Timescales still appear to fit donor programming requirements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Capacity Development and change management link not clearly addressed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4" marL="12574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  <a:ea typeface="Arial"/>
              </a:rPr>
              <a:t>Recognition only of need for communication strategies and political will (leadership) but not the overall dynamics of change.</a:t>
            </a:r>
            <a:endParaRPr b="0" lang="en-US" sz="19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800280" indent="-51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03c72"/>
              </a:solidFill>
              <a:latin typeface="Verdana"/>
            </a:endParaRPr>
          </a:p>
          <a:p>
            <a:pPr lvl="2" marL="563400" indent="-517320">
              <a:lnSpc>
                <a:spcPct val="90000"/>
              </a:lnSpc>
              <a:spcBef>
                <a:spcPts val="400"/>
              </a:spcBef>
              <a:buClr>
                <a:srgbClr val="353b55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517680" indent="-517680">
              <a:lnSpc>
                <a:spcPts val="2798"/>
              </a:lnSpc>
              <a:buClr>
                <a:srgbClr val="353b5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882720" indent="-517680">
              <a:lnSpc>
                <a:spcPts val="2798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Christoforos Korakas</cp:lastModifiedBy>
  <cp:lastPrinted>2011-06-27T14:49:09Z</cp:lastPrinted>
  <dcterms:modified xsi:type="dcterms:W3CDTF">2011-07-27T14:11:08Z</dcterms:modified>
  <cp:revision>90</cp:revision>
  <dc:subject/>
  <dc:title>Slide 1</dc:title>
</cp:coreProperties>
</file>