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813-9FBC-43B4-8790-6FAACA6C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3BC-903B-464E-8227-1316B213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5A9-C35D-471B-B0BD-773E60E9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629-9AA5-41AE-95F2-3C42E3EA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2DC3-2665-4656-842B-EB6B0813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B11E-2FAD-4997-B0B5-D0D64BFE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21F8-444F-469E-88D0-9132B64D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C2C0-B21B-411E-9EBF-595D33AE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3D8B-8ECC-4BAE-90E6-B131E79E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6918-6D30-4AD7-8F6F-C45DE821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5CFB-6FE3-48EA-A81E-3A0C0585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CD8-8118-4B2C-B12D-08266ACD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6DA4-634F-45B3-B83F-17FAA157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1E77-C6FD-4069-9E61-5AEABA3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DCF1-5CF2-4100-A275-9B8586AC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15BC-25EB-4DC6-9047-BF43D92A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E55F-8EF7-47A6-A1FD-8DF48280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089C-FA3A-4507-99DF-16F40CA3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E6F0-1171-4538-9F5A-5B3D936A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8001-6B9B-4554-9B0A-C9AA4EC3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6CCE-3BF2-4BB1-8923-3BE7A9E7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DE722-DE0F-4E26-BBCE-6A152C88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876-347F-4F6A-A8C0-DFF125C6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36E6-7191-4B2C-B63E-5C31EFE6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358CD-BFEE-4700-8ACB-F68F4EC6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17C8-0261-4B7E-93E3-153BB4F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037F-0B87-4CD0-938D-CDD1CC76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41EC-3397-44FB-9159-83F9C9CD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141D-F64E-4EFF-8B5C-7C11FFB6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AD4B-DA41-46BC-A741-32E22402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5BD1A-F88A-4435-9313-9F301603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6CB8-AA7A-41F4-B8D3-0F49F748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D111-2C48-441A-A650-DB233307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336-6554-4F6A-91DD-7E0A4303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6AFB1-D81F-43A0-BF40-96908F10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8A6A-F467-4596-9F6F-C0153789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21534-B65B-466F-A925-D3A54DDD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CF42-BC89-4584-983D-1311C660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804F7-49ED-4777-8BFC-1841B122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02EB-E3C7-4A40-AB0C-FC962716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A307F-448E-4778-9134-D048F991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2EDE-6772-4C68-9296-E5A79368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057D-BD7F-4B3D-9873-84BFCE16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71A-351D-42CF-9F06-D3227956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DAF-AEED-497E-9409-0E5FD194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02F-25AB-460D-9E9A-FA590BD7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E22-1B1C-4707-A195-EFA24C59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762-9905-4963-BD88-B2AA01A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026A-4189-4CE6-9A79-708962AC21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74F8-E21E-48E8-8E80-EE9138B32BD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5D6-BB05-469F-95B4-D9F3D26FC2A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B6C2-88F7-4E95-A8F6-8DEB985C740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783252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3142800"/>
            <a:ext cx="6383520" cy="214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entation at the Workshop Held  on  the 0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pril 2011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Lisema Lekhooan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PAF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serve as a tool to measure sector performance on selected indicators which represents key sector performance are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rovide evidence that investments are actually achieving the intended develo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influence Government and donors in deciding on priority areas for suppo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STRATEGIC PRIORITY AREAS FOR 2010-201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rban Domestic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ral Water Supp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mestic Sani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and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WATER SUPP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rtion of the rural households using piped water and public boreholes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WATER SUPP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  Proportion of the urban households using piped water as their main source of drinking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SECTOR PERFOMANCE INDICATORS (cont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RURAL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CCESS TO URBAN SANITATION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: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Proportion of the rural households using in their place of residence a sewage system, septic tank, own VIP or own lat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ASELINE AND TARG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332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3" descr=""/>
          <p:cNvPicPr/>
          <p:nvPr/>
        </p:nvPicPr>
        <p:blipFill>
          <a:blip r:embed="rId1"/>
          <a:stretch/>
        </p:blipFill>
        <p:spPr>
          <a:xfrm>
            <a:off x="728640" y="208296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CHALLENGES and POTENTIAL CONSTRAI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monization of Sector Informatio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Capacity for Monitoring and Evaluation especially key sector departments and agen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keholder information fl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or Coordination and agreement to common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20840" y="414360"/>
            <a:ext cx="8321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04:22Z</dcterms:created>
  <dc:creator> </dc:creator>
  <dc:description/>
  <dc:language>en-US</dc:language>
  <cp:lastModifiedBy>user</cp:lastModifiedBy>
  <dcterms:modified xsi:type="dcterms:W3CDTF">2011-04-06T14:05:57Z</dcterms:modified>
  <cp:revision>110</cp:revision>
  <dc:subject/>
  <dc:title>MONITORING AND EVALUATION</dc:title>
</cp:coreProperties>
</file>