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7"/>
          </p:nvPr>
        </p:nvSpPr>
        <p:spPr>
          <a:xfrm>
            <a:off x="3849840" y="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lstStyle>
            <a:lvl1pPr marL="216000" indent="0" algn="r"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fr-FR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9000" rIns="99000" tIns="49680" bIns="4968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2a600"/>
                </a:solidFill>
                <a:latin typeface="Verdana"/>
              </a:rPr>
              <a:t>Click to move the slide</a:t>
            </a: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8"/>
          </p:nvPr>
        </p:nvSpPr>
        <p:spPr>
          <a:xfrm>
            <a:off x="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 type="sldNum" idx="9"/>
          </p:nvPr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lstStyle>
            <a:lvl1pPr marL="216000" indent="0" algn="r"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fr-FR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ED71B07-5260-4295-B939-6F054B2B742D}" type="slidenum">
              <a:rPr b="0" lang="fr-FR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Into a group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3 main functions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Document libra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Blog : forum for discussions. It allows attach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Calendar / Events (I’m not going to show now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Here : document reposito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Documents can be defined with categories, tags, 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Also full text search availa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Blog interf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Really intuiti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Can put a new post or respond to an existing 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Into a blog post of a gro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CoC/ MoU : ce que c’est, ce que ce n’est pas, exemples pays, caneva (pas des modèle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F380848-B721-410E-B6C3-F12E3EEAB998}" type="slidenum">
              <a:rPr b="0" lang="fr-F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Proposition from our cooleague Hassane ( Del Morocco) : link Devel and European Policy (Framework Directive on Water) : examine the Framework Directive on Water through the perspective of the  cooperati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2F84215-8E86-4526-8A8D-CF71E8CEE228}" type="slidenum">
              <a:rPr b="0" lang="fr-F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CoC/ MoU : ce que c’est, ce que ce n’est pas, exemples pays, caneva (pas des modèle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D0BEC27-4F58-44CD-96E6-5FB706758097}" type="slidenum">
              <a:rPr b="0" lang="fr-F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7119166-D7EE-409C-81A2-464AF7D12483}" type="slidenum">
              <a:rPr b="0" lang="fr-F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Topic : general (public) access to a specific topi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Group : public or retricted populati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for dedicated discussions or exchange of documen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Must sign on to 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- contribute to a blog or post a document even if public gro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- See the groups you’re member o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TOPICS : 26 are defined and that will be it 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A document can refer to several topic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Within a topic : several areas in the Topic p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1. Message/defin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2. Main documents and/or Link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2. Art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2 ways to access to my groups 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through the « Groups » menu : view of all the groups I can access to (as demonstrated her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Directly through « YOUR GROUPS » men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55884-5051-4339-8240-2D4146512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3B3CF-3F51-488F-AFD1-CA28020A6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7FA7D-15E7-4D74-A3F5-67BE8A312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5720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/>
          </p:nvPr>
        </p:nvSpPr>
        <p:spPr>
          <a:xfrm>
            <a:off x="323964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7"/>
          <p:cNvSpPr>
            <a:spLocks noGrp="1"/>
          </p:cNvSpPr>
          <p:nvPr>
            <p:ph/>
          </p:nvPr>
        </p:nvSpPr>
        <p:spPr>
          <a:xfrm>
            <a:off x="602208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DFD9E-CB9E-4465-B894-A6929B127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12961-FC08-4A2B-8F10-CD2073430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4DA15-1306-496B-8897-0BA5D0B50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EAEFA-A9CA-47BF-A870-C0AE0F8D0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6DBF2-2905-4179-AD36-6A51AA844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D7C27-9C0C-48B8-B706-04DEAC8DB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7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90F29-F847-497C-8301-A9EBCD040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D8343-EB19-42AA-B203-B72EF8D8D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F2415-1967-4EBE-BFE5-33C8B8320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62D00-426B-4020-86DD-E21CFB985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F697B-7535-45D3-8198-08A864DEA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CE151-7F06-4B53-9091-A91156065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63797-94AB-4D07-80E1-E09C62240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75016-CF69-45B0-8E2C-4E732576A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27D18-2297-4E77-B2F6-8DA1D0A40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25F61-49FC-4D76-89E6-284187682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D8366-66CA-49F4-BE8A-A482C992B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7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437D2-BF74-407A-8DE2-2713B18FB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00300-7120-48B4-AF6F-6CC3C466F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5AB66-2092-42A6-B822-F849C5C10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78083-EE53-49AE-B571-238D8EB32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2a600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ffffff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lnSpc>
                <a:spcPts val="2798"/>
              </a:lnSpc>
              <a:buClr>
                <a:srgbClr val="ffffff"/>
              </a:buClr>
              <a:buSzPct val="65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lnSpc>
                <a:spcPts val="2798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a6c8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FB10A-39BA-41FF-85E4-22A979D8D67B}" type="slidenum">
              <a:rPr b="0" lang="en-GB" sz="1000" spc="-1" strike="noStrike">
                <a:solidFill>
                  <a:srgbClr val="00a6c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8783640" y="0"/>
            <a:ext cx="36036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294760" y="682560"/>
            <a:ext cx="863640" cy="1224000"/>
            <a:chOff x="8294760" y="682560"/>
            <a:chExt cx="863640" cy="1224000"/>
          </a:xfrm>
        </p:grpSpPr>
        <p:sp>
          <p:nvSpPr>
            <p:cNvPr id="7" name="Rectangle 9"/>
            <p:cNvSpPr/>
            <p:nvPr/>
          </p:nvSpPr>
          <p:spPr>
            <a:xfrm>
              <a:off x="8294760" y="1619280"/>
              <a:ext cx="863640" cy="287280"/>
            </a:xfrm>
            <a:prstGeom prst="rect">
              <a:avLst/>
            </a:prstGeom>
            <a:solidFill>
              <a:srgbClr val="f3d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8294760" y="1150920"/>
              <a:ext cx="863640" cy="287280"/>
            </a:xfrm>
            <a:prstGeom prst="rect">
              <a:avLst/>
            </a:prstGeom>
            <a:solidFill>
              <a:srgbClr val="f3d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8294760" y="682560"/>
              <a:ext cx="863640" cy="287280"/>
            </a:xfrm>
            <a:prstGeom prst="rect">
              <a:avLst/>
            </a:prstGeom>
            <a:solidFill>
              <a:srgbClr val="f3d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300" spc="-1" strike="noStrike">
                  <a:solidFill>
                    <a:srgbClr val="103c72"/>
                  </a:solidFill>
                  <a:latin typeface="Century Gothic"/>
                </a:rPr>
                <a:t>EuropeAid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" name="Group 12"/>
          <p:cNvGrpSpPr/>
          <p:nvPr/>
        </p:nvGrpSpPr>
        <p:grpSpPr>
          <a:xfrm>
            <a:off x="8294760" y="0"/>
            <a:ext cx="863640" cy="6858000"/>
            <a:chOff x="8294760" y="0"/>
            <a:chExt cx="863640" cy="6858000"/>
          </a:xfrm>
        </p:grpSpPr>
        <p:sp>
          <p:nvSpPr>
            <p:cNvPr id="11" name="Rectangle 13"/>
            <p:cNvSpPr/>
            <p:nvPr/>
          </p:nvSpPr>
          <p:spPr>
            <a:xfrm>
              <a:off x="8783640" y="0"/>
              <a:ext cx="360360" cy="685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" name="Group 14"/>
            <p:cNvGrpSpPr/>
            <p:nvPr/>
          </p:nvGrpSpPr>
          <p:grpSpPr>
            <a:xfrm>
              <a:off x="8294760" y="682560"/>
              <a:ext cx="863640" cy="1224000"/>
              <a:chOff x="8294760" y="682560"/>
              <a:chExt cx="863640" cy="1224000"/>
            </a:xfrm>
          </p:grpSpPr>
          <p:sp>
            <p:nvSpPr>
              <p:cNvPr id="13" name="Rectangle 15"/>
              <p:cNvSpPr/>
              <p:nvPr/>
            </p:nvSpPr>
            <p:spPr>
              <a:xfrm>
                <a:off x="8294760" y="1619280"/>
                <a:ext cx="863640" cy="287280"/>
              </a:xfrm>
              <a:prstGeom prst="rect">
                <a:avLst/>
              </a:prstGeom>
              <a:solidFill>
                <a:srgbClr val="c1ce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Rectangle 16"/>
              <p:cNvSpPr/>
              <p:nvPr/>
            </p:nvSpPr>
            <p:spPr>
              <a:xfrm>
                <a:off x="8294760" y="1150920"/>
                <a:ext cx="863640" cy="287280"/>
              </a:xfrm>
              <a:prstGeom prst="rect">
                <a:avLst/>
              </a:prstGeom>
              <a:solidFill>
                <a:srgbClr val="c1ce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Rectangle 17"/>
              <p:cNvSpPr/>
              <p:nvPr/>
            </p:nvSpPr>
            <p:spPr>
              <a:xfrm>
                <a:off x="8294760" y="682560"/>
                <a:ext cx="863640" cy="287280"/>
              </a:xfrm>
              <a:prstGeom prst="rect">
                <a:avLst/>
              </a:prstGeom>
              <a:solidFill>
                <a:srgbClr val="c1ce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ffffff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" name="Group 18"/>
          <p:cNvGrpSpPr/>
          <p:nvPr/>
        </p:nvGrpSpPr>
        <p:grpSpPr>
          <a:xfrm>
            <a:off x="8280360" y="4680"/>
            <a:ext cx="863640" cy="6858000"/>
            <a:chOff x="8280360" y="4680"/>
            <a:chExt cx="863640" cy="6858000"/>
          </a:xfrm>
        </p:grpSpPr>
        <p:sp>
          <p:nvSpPr>
            <p:cNvPr id="17" name="Rectangle 19"/>
            <p:cNvSpPr/>
            <p:nvPr/>
          </p:nvSpPr>
          <p:spPr>
            <a:xfrm>
              <a:off x="8769240" y="4680"/>
              <a:ext cx="360360" cy="685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8280360" y="687240"/>
              <a:ext cx="863640" cy="1224000"/>
              <a:chOff x="8280360" y="687240"/>
              <a:chExt cx="863640" cy="1224000"/>
            </a:xfrm>
          </p:grpSpPr>
          <p:sp>
            <p:nvSpPr>
              <p:cNvPr id="19" name="Rectangle 21"/>
              <p:cNvSpPr/>
              <p:nvPr/>
            </p:nvSpPr>
            <p:spPr>
              <a:xfrm>
                <a:off x="8280360" y="1623960"/>
                <a:ext cx="863640" cy="287280"/>
              </a:xfrm>
              <a:prstGeom prst="rect">
                <a:avLst/>
              </a:prstGeom>
              <a:solidFill>
                <a:srgbClr val="e2a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>
                <a:off x="8280360" y="1155600"/>
                <a:ext cx="863640" cy="287280"/>
              </a:xfrm>
              <a:prstGeom prst="rect">
                <a:avLst/>
              </a:prstGeom>
              <a:solidFill>
                <a:srgbClr val="e2a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>
                <a:off x="8280360" y="687240"/>
                <a:ext cx="863640" cy="287280"/>
              </a:xfrm>
              <a:prstGeom prst="rect">
                <a:avLst/>
              </a:prstGeom>
              <a:solidFill>
                <a:srgbClr val="e2a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ffffff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7"/>
          <p:cNvSpPr/>
          <p:nvPr/>
        </p:nvSpPr>
        <p:spPr>
          <a:xfrm>
            <a:off x="8783640" y="0"/>
            <a:ext cx="36036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8"/>
          <p:cNvGrpSpPr/>
          <p:nvPr/>
        </p:nvGrpSpPr>
        <p:grpSpPr>
          <a:xfrm>
            <a:off x="8294760" y="682560"/>
            <a:ext cx="863640" cy="1224000"/>
            <a:chOff x="8294760" y="682560"/>
            <a:chExt cx="863640" cy="1224000"/>
          </a:xfrm>
        </p:grpSpPr>
        <p:sp>
          <p:nvSpPr>
            <p:cNvPr id="60" name="Rectangle 9"/>
            <p:cNvSpPr/>
            <p:nvPr/>
          </p:nvSpPr>
          <p:spPr>
            <a:xfrm>
              <a:off x="8294760" y="1619280"/>
              <a:ext cx="863640" cy="287280"/>
            </a:xfrm>
            <a:prstGeom prst="rect">
              <a:avLst/>
            </a:prstGeom>
            <a:solidFill>
              <a:srgbClr val="f3d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0"/>
            <p:cNvSpPr/>
            <p:nvPr/>
          </p:nvSpPr>
          <p:spPr>
            <a:xfrm>
              <a:off x="8294760" y="1150920"/>
              <a:ext cx="863640" cy="287280"/>
            </a:xfrm>
            <a:prstGeom prst="rect">
              <a:avLst/>
            </a:prstGeom>
            <a:solidFill>
              <a:srgbClr val="f3d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1"/>
            <p:cNvSpPr/>
            <p:nvPr/>
          </p:nvSpPr>
          <p:spPr>
            <a:xfrm>
              <a:off x="8294760" y="682560"/>
              <a:ext cx="863640" cy="287280"/>
            </a:xfrm>
            <a:prstGeom prst="rect">
              <a:avLst/>
            </a:prstGeom>
            <a:solidFill>
              <a:srgbClr val="f3d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300" spc="-1" strike="noStrike">
                  <a:solidFill>
                    <a:srgbClr val="103c72"/>
                  </a:solidFill>
                  <a:latin typeface="Century Gothic"/>
                </a:rPr>
                <a:t>EuropeAid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3" name="Picture 12" descr=""/>
          <p:cNvPicPr/>
          <p:nvPr/>
        </p:nvPicPr>
        <p:blipFill>
          <a:blip r:embed="rId2"/>
          <a:stretch/>
        </p:blipFill>
        <p:spPr>
          <a:xfrm>
            <a:off x="7257960" y="5397480"/>
            <a:ext cx="1067040" cy="12794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3" descr=""/>
          <p:cNvPicPr/>
          <p:nvPr/>
        </p:nvPicPr>
        <p:blipFill>
          <a:blip r:embed="rId3"/>
          <a:stretch/>
        </p:blipFill>
        <p:spPr>
          <a:xfrm>
            <a:off x="7236000" y="5373720"/>
            <a:ext cx="1066680" cy="1279440"/>
          </a:xfrm>
          <a:prstGeom prst="rect">
            <a:avLst/>
          </a:prstGeom>
          <a:ln w="0">
            <a:noFill/>
          </a:ln>
        </p:spPr>
      </p:pic>
      <p:grpSp>
        <p:nvGrpSpPr>
          <p:cNvPr id="65" name="Group 14"/>
          <p:cNvGrpSpPr/>
          <p:nvPr/>
        </p:nvGrpSpPr>
        <p:grpSpPr>
          <a:xfrm>
            <a:off x="8294760" y="0"/>
            <a:ext cx="863640" cy="6858000"/>
            <a:chOff x="8294760" y="0"/>
            <a:chExt cx="863640" cy="6858000"/>
          </a:xfrm>
        </p:grpSpPr>
        <p:sp>
          <p:nvSpPr>
            <p:cNvPr id="66" name="Rectangle 15"/>
            <p:cNvSpPr/>
            <p:nvPr/>
          </p:nvSpPr>
          <p:spPr>
            <a:xfrm>
              <a:off x="8783640" y="0"/>
              <a:ext cx="360360" cy="685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7" name="Group 16"/>
            <p:cNvGrpSpPr/>
            <p:nvPr/>
          </p:nvGrpSpPr>
          <p:grpSpPr>
            <a:xfrm>
              <a:off x="8294760" y="682560"/>
              <a:ext cx="863640" cy="1224000"/>
              <a:chOff x="8294760" y="682560"/>
              <a:chExt cx="863640" cy="1224000"/>
            </a:xfrm>
          </p:grpSpPr>
          <p:sp>
            <p:nvSpPr>
              <p:cNvPr id="68" name="Rectangle 17"/>
              <p:cNvSpPr/>
              <p:nvPr/>
            </p:nvSpPr>
            <p:spPr>
              <a:xfrm>
                <a:off x="8294760" y="1619280"/>
                <a:ext cx="863640" cy="287280"/>
              </a:xfrm>
              <a:prstGeom prst="rect">
                <a:avLst/>
              </a:prstGeom>
              <a:solidFill>
                <a:srgbClr val="c1ce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Rectangle 18"/>
              <p:cNvSpPr/>
              <p:nvPr/>
            </p:nvSpPr>
            <p:spPr>
              <a:xfrm>
                <a:off x="8294760" y="1150920"/>
                <a:ext cx="863640" cy="287280"/>
              </a:xfrm>
              <a:prstGeom prst="rect">
                <a:avLst/>
              </a:prstGeom>
              <a:solidFill>
                <a:srgbClr val="c1ce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Rectangle 19"/>
              <p:cNvSpPr/>
              <p:nvPr/>
            </p:nvSpPr>
            <p:spPr>
              <a:xfrm>
                <a:off x="8294760" y="682560"/>
                <a:ext cx="863640" cy="287280"/>
              </a:xfrm>
              <a:prstGeom prst="rect">
                <a:avLst/>
              </a:prstGeom>
              <a:solidFill>
                <a:srgbClr val="c1ce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ffffff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1" name="Group 20"/>
          <p:cNvGrpSpPr/>
          <p:nvPr/>
        </p:nvGrpSpPr>
        <p:grpSpPr>
          <a:xfrm>
            <a:off x="8280360" y="4680"/>
            <a:ext cx="863640" cy="6858000"/>
            <a:chOff x="8280360" y="4680"/>
            <a:chExt cx="863640" cy="6858000"/>
          </a:xfrm>
        </p:grpSpPr>
        <p:sp>
          <p:nvSpPr>
            <p:cNvPr id="72" name="Rectangle 21"/>
            <p:cNvSpPr/>
            <p:nvPr/>
          </p:nvSpPr>
          <p:spPr>
            <a:xfrm>
              <a:off x="8769240" y="4680"/>
              <a:ext cx="360360" cy="685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" name="Group 22"/>
            <p:cNvGrpSpPr/>
            <p:nvPr/>
          </p:nvGrpSpPr>
          <p:grpSpPr>
            <a:xfrm>
              <a:off x="8280360" y="687240"/>
              <a:ext cx="863640" cy="1224000"/>
              <a:chOff x="8280360" y="687240"/>
              <a:chExt cx="863640" cy="1224000"/>
            </a:xfrm>
          </p:grpSpPr>
          <p:sp>
            <p:nvSpPr>
              <p:cNvPr id="74" name="Rectangle 23"/>
              <p:cNvSpPr/>
              <p:nvPr/>
            </p:nvSpPr>
            <p:spPr>
              <a:xfrm>
                <a:off x="8280360" y="1623960"/>
                <a:ext cx="863640" cy="287280"/>
              </a:xfrm>
              <a:prstGeom prst="rect">
                <a:avLst/>
              </a:prstGeom>
              <a:solidFill>
                <a:srgbClr val="e2a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Rectangle 24"/>
              <p:cNvSpPr/>
              <p:nvPr/>
            </p:nvSpPr>
            <p:spPr>
              <a:xfrm>
                <a:off x="8280360" y="1155600"/>
                <a:ext cx="863640" cy="287280"/>
              </a:xfrm>
              <a:prstGeom prst="rect">
                <a:avLst/>
              </a:prstGeom>
              <a:solidFill>
                <a:srgbClr val="e2a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Rectangle 25"/>
              <p:cNvSpPr/>
              <p:nvPr/>
            </p:nvSpPr>
            <p:spPr>
              <a:xfrm>
                <a:off x="8280360" y="687240"/>
                <a:ext cx="863640" cy="287280"/>
              </a:xfrm>
              <a:prstGeom prst="rect">
                <a:avLst/>
              </a:prstGeom>
              <a:solidFill>
                <a:srgbClr val="e2a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ffffff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2a600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ffffff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lnSpc>
                <a:spcPts val="2798"/>
              </a:lnSpc>
              <a:buClr>
                <a:srgbClr val="ffffff"/>
              </a:buClr>
              <a:buSzPct val="65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lnSpc>
                <a:spcPts val="2798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dt" idx="4"/>
          </p:nvPr>
        </p:nvSpPr>
        <p:spPr>
          <a:xfrm>
            <a:off x="39492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ftr" idx="5"/>
          </p:nvPr>
        </p:nvSpPr>
        <p:spPr>
          <a:xfrm>
            <a:off x="3058920" y="623700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DFDED-ECF2-42B0-9E19-5D72A0DC8CA0}" type="slidenum">
              <a:rPr b="0" lang="en-GB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4360" y="691920"/>
            <a:ext cx="7773840" cy="432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Internal E.C. Session : 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reflection on </a:t>
            </a:r>
            <a:br>
              <a:rPr sz="2400"/>
            </a:b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   AIDCO E/7 – DELEGATIONS RELATIONS 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René BOSMAN (E7)</a:t>
            </a: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737280" y="5608800"/>
            <a:ext cx="425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ffffff"/>
                </a:solidFill>
                <a:latin typeface="Arial"/>
              </a:rPr>
              <a:t>Water seminar Nairobi - October 2010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-1523880" y="-1447920"/>
            <a:ext cx="12191760" cy="975384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-1523880" y="-1446120"/>
            <a:ext cx="12193560" cy="975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-1523880" y="-1447920"/>
            <a:ext cx="12191760" cy="975384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-1523880" y="-1446120"/>
            <a:ext cx="12193560" cy="975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-1523880" y="-1447920"/>
            <a:ext cx="12191760" cy="975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50560" y="476280"/>
            <a:ext cx="8358120" cy="585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Capacity4Dev : orientations proposed for our Water sector   </a:t>
            </a:r>
            <a:br>
              <a:rPr sz="2400"/>
            </a:br>
            <a:br>
              <a:rPr sz="1000"/>
            </a:b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2 groups : </a:t>
            </a: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	</a:t>
            </a:r>
            <a:br>
              <a:rPr sz="1800"/>
            </a:b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- one open to external members</a:t>
            </a:r>
            <a:br>
              <a:rPr sz="1800"/>
            </a:b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(free consultation but membership required to contribute)</a:t>
            </a:r>
            <a:br>
              <a:rPr sz="1800"/>
            </a:b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- one restricted to internal staff (Del + HQ) </a:t>
            </a:r>
            <a:br>
              <a:rPr sz="1800"/>
            </a:br>
            <a:br>
              <a:rPr sz="1000"/>
            </a:b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Focus on : </a:t>
            </a:r>
            <a:br>
              <a:rPr sz="1800"/>
            </a:b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- library : recover and improve the current WaterNet content</a:t>
            </a:r>
            <a:br>
              <a:rPr sz="1800"/>
            </a:br>
            <a:br>
              <a:rPr sz="1000"/>
            </a:b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- discussions / forum (to avoid multiples exchanges and chat under Outlook as today)</a:t>
            </a:r>
            <a:br>
              <a:rPr sz="1800"/>
            </a:br>
            <a:endParaRPr b="1" lang="en-US" sz="1800" spc="-1" strike="noStrike">
              <a:solidFill>
                <a:srgbClr val="e2a6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50560" y="475920"/>
            <a:ext cx="8497800" cy="571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Collaboration between HQ (E7) / Delegations</a:t>
            </a:r>
            <a:br>
              <a:rPr sz="2400"/>
            </a:br>
            <a:br>
              <a:rPr sz="1000"/>
            </a:b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Continue with W&amp;S </a:t>
            </a:r>
            <a:r>
              <a:rPr b="1" lang="fr-BE" sz="2000" spc="-1" strike="noStrike">
                <a:solidFill>
                  <a:srgbClr val="ffff00"/>
                </a:solidFill>
                <a:latin typeface="Verdana"/>
              </a:rPr>
              <a:t>regional seminars</a:t>
            </a: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: Fr/EN separately ?</a:t>
            </a:r>
            <a:br>
              <a:rPr sz="2000"/>
            </a:b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Frequency ? Which thematics ?</a:t>
            </a:r>
            <a:br>
              <a:rPr sz="2000"/>
            </a:b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(importance of the countries contributions)</a:t>
            </a:r>
            <a:br>
              <a:rPr sz="2000"/>
            </a:br>
            <a:br>
              <a:rPr sz="1000"/>
            </a:br>
            <a:r>
              <a:rPr b="1" lang="fr-BE" sz="2000" spc="-1" strike="noStrike">
                <a:solidFill>
                  <a:srgbClr val="ffff00"/>
                </a:solidFill>
                <a:latin typeface="Verdana"/>
              </a:rPr>
              <a:t>Thematic studies</a:t>
            </a: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 ?</a:t>
            </a:r>
            <a:br>
              <a:rPr sz="2000"/>
            </a:br>
            <a:br>
              <a:rPr sz="1000"/>
            </a:b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How to </a:t>
            </a:r>
            <a:r>
              <a:rPr b="1" lang="fr-BE" sz="2000" spc="-1" strike="noStrike">
                <a:solidFill>
                  <a:srgbClr val="ffff00"/>
                </a:solidFill>
                <a:latin typeface="Verdana"/>
              </a:rPr>
              <a:t>network</a:t>
            </a: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 you ? Headquarter role ?</a:t>
            </a:r>
            <a:br>
              <a:rPr sz="2000"/>
            </a:br>
            <a:br>
              <a:rPr sz="1000"/>
            </a:br>
            <a:br>
              <a:rPr sz="1000"/>
            </a:br>
            <a:r>
              <a:rPr b="1" lang="fr-BE" sz="2400" spc="-1" strike="noStrike">
                <a:solidFill>
                  <a:srgbClr val="ff3300"/>
                </a:solidFill>
                <a:latin typeface="Verdana"/>
              </a:rPr>
              <a:t>What do you need ? </a:t>
            </a:r>
            <a:br>
              <a:rPr sz="2400"/>
            </a:br>
            <a:r>
              <a:rPr b="1" lang="fr-BE" sz="2400" spc="-1" strike="noStrike">
                <a:solidFill>
                  <a:srgbClr val="ff3300"/>
                </a:solidFill>
                <a:latin typeface="Verdana"/>
              </a:rPr>
              <a:t>	</a:t>
            </a:r>
            <a:r>
              <a:rPr b="1" lang="fr-BE" sz="2400" spc="-1" strike="noStrike">
                <a:solidFill>
                  <a:srgbClr val="ff3300"/>
                </a:solidFill>
                <a:latin typeface="Verdana"/>
              </a:rPr>
              <a:t>	</a:t>
            </a:r>
            <a:r>
              <a:rPr b="1" lang="fr-BE" sz="2400" spc="-1" strike="noStrike">
                <a:solidFill>
                  <a:srgbClr val="ff3300"/>
                </a:solidFill>
                <a:latin typeface="Verdana"/>
              </a:rPr>
              <a:t>What are you ready to pay ?</a:t>
            </a:r>
            <a:br>
              <a:rPr sz="2400"/>
            </a:b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2a600"/>
                </a:solidFill>
                <a:latin typeface="Verdana"/>
              </a:rPr>
              <a:t>Points mentioned in discussion</a:t>
            </a: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162720" indent="-1627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Why so many water web sites – what is the comparative advantage – incomplete (aquaknow / euwinet/cap4 dev)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62720" indent="-1627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it can easily remain unused – can it become a working tool? But how? Is easily outdated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62720" indent="-1627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-We are meant to upload project information in CRIS (only internal) with the project number we can look at more detailed information on CRI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62720" indent="-1627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-How to find best practice in CRIS? Perhaps C4D is the tool for best practice? Newsflash etc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62720" indent="-1627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R – they each have a different rol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62720" indent="-1627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R – there must be an incentive e.g. information will only be available on the capcity4 dev ?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62720" indent="-1627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R – model TOR are potentially very useful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2a600"/>
                </a:solidFill>
                <a:latin typeface="Verdana"/>
              </a:rPr>
              <a:t>More points,2 </a:t>
            </a: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175320" indent="-1753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time is limited – will be get a message when documents are there (like WSP) – just a short messag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5320" indent="-1753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 – yes that feature will be there, you can define what mails you get or don’t get – we will check i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532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5320" indent="-1753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we attend such seminars to hear about success stories that we can learn from – can you have frequently made mistakes or stories of success? – that would be useful e.g. in Burundi we are rehabilitating/reforming after the war, we want to avoid the classic mistakes. How to filter ? To get what you are interested in?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5320" indent="-1753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 – we have to avoid too much information – we can organise sub-topic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2a600"/>
                </a:solidFill>
                <a:latin typeface="Verdana"/>
              </a:rPr>
              <a:t>More points, 3</a:t>
            </a: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we are project focussed – ex post independent evaluations are talked about but rarely done or accessible. We need more such analysis – it helps to learn. Tendency to always declare projects successful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is Brussels thinking of a thematic evaluation of water and sanitation sector (beyond the project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could ex-post ROM be used as a source of information for such deeper analysi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- the thematic studies could focus on evaluation of successe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sharing of good practice will reduce the mistakes and costs of other countrie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 – there is a thematic ROM evaluation already done !!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2a600"/>
                </a:solidFill>
                <a:latin typeface="Verdana"/>
              </a:rPr>
              <a:t>More points, 4</a:t>
            </a: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it is people that initiate processes – appreciate the seminars like this one – it is motivating and avoids the overload of information problem. It increases our productivity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innovative approaches can be used to exchange information between delegations e.g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find a way to wake us up – makes us belong to the water group (and not just the seminars, build on them) – a picture and person is worth a 1000 words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we should publish more, like the example of Chad – we need to make links with universities and other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2a600"/>
                </a:solidFill>
                <a:latin typeface="Verdana"/>
              </a:rPr>
              <a:t>More points, </a:t>
            </a: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-Seminars are good – but HQ based seminar allows connection with HQs, that is very useful (might lose the field trip but other advantages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R- we already do that, we have seminars in Brussels each year – june/july. We invite others e.g. OECD, EIB, AFD etc  This year we had a 3 days Finance (EIB)/ Sanitation (aidco) / x cutting topics e.g. human rights (DGDev)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R -The regional ones have the value of the field trip and practionaires from the region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R – both are good, we should not replace one with the other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14200" y="285840"/>
            <a:ext cx="8358480" cy="585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In the domain of </a:t>
            </a:r>
            <a:r>
              <a:rPr b="1" lang="fr-BE" sz="2000" spc="-1" strike="noStrike">
                <a:solidFill>
                  <a:srgbClr val="ffff00"/>
                </a:solidFill>
                <a:latin typeface="Verdana"/>
              </a:rPr>
              <a:t>Operational Guidance</a:t>
            </a: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, past and current support from E7 :</a:t>
            </a:r>
            <a:br>
              <a:rPr sz="2000"/>
            </a:b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- concept note « Complementarities and  synergies between SWAP and IWRM»</a:t>
            </a:r>
            <a:br>
              <a:rPr sz="2000"/>
            </a:br>
            <a:br>
              <a:rPr sz="1000"/>
            </a:b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- support to program formulation </a:t>
            </a:r>
            <a:br>
              <a:rPr sz="2000"/>
            </a:br>
            <a:br>
              <a:rPr sz="1000"/>
            </a:b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- regional seminars on SWAP/IWRM</a:t>
            </a:r>
            <a:br>
              <a:rPr sz="2000"/>
            </a:br>
            <a:br>
              <a:rPr sz="1000"/>
            </a:b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- national seminars on demand </a:t>
            </a:r>
            <a:br>
              <a:rPr sz="2000"/>
            </a:b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   (initializing SWAP process – national dialog) </a:t>
            </a:r>
            <a:br>
              <a:rPr sz="2000"/>
            </a:br>
            <a:br>
              <a:rPr sz="1000"/>
            </a:b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- horizontal studies ongoing :</a:t>
            </a:r>
            <a:br>
              <a:rPr sz="2000"/>
            </a:b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CoC/MoU Water : best practices</a:t>
            </a:r>
            <a:br>
              <a:rPr sz="2000"/>
            </a:b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SWAP experiences capitalization</a:t>
            </a: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 </a:t>
            </a:r>
            <a:br>
              <a:rPr sz="2400"/>
            </a:b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2a600"/>
                </a:solidFill>
                <a:latin typeface="Verdana"/>
              </a:rPr>
              <a:t>More points, </a:t>
            </a: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- We get huge text reports, we cannot absorb the material / we need to do like Benin did with Google Earth – why do we not have the capacity to do this in delegations? E.g. we cannot print A3 in colour. Our (IT) tools are pathetic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good communication can help – remote assistance is possibl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Water facility project template does not have an executive summary – ask them for this + readable graphs and summary. Lets be more specific on the template and encourage quality rather than volume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report dumping from Brussels …. Please give us a summary not 100+ pages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2a600"/>
                </a:solidFill>
                <a:latin typeface="Verdana"/>
              </a:rPr>
              <a:t>More points: </a:t>
            </a:r>
            <a:br>
              <a:rPr sz="2000"/>
            </a:br>
            <a:r>
              <a:rPr b="1" lang="en-US" sz="2400" spc="-1" strike="noStrike">
                <a:solidFill>
                  <a:srgbClr val="e2a600"/>
                </a:solidFill>
                <a:latin typeface="Verdana"/>
              </a:rPr>
              <a:t>Q say it in one page – lets campaign for that</a:t>
            </a: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– the seminars should be supported by the HQ not just delegations, in case they do not have enough budget – this year we had cancellations due to budget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– this seminar  in Kenya was very useful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– Organise more joint seminars at delegation level – we are bombarded by slogans on alignment, harmonisation, gender etc it is lip service… we need to get in touch with reality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– there is also a yearly regional infrastructure seminar (only delegation) good but a bit road focussed. Should we keep the water and wider infrastructure separat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R – we organised a joint water and infrastructure in Liberville – it did not work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2a600"/>
                </a:solidFill>
                <a:latin typeface="Verdana"/>
              </a:rPr>
              <a:t>More points, </a:t>
            </a: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R – big value in having external participants – we cannot have that in a joint seminar with infrastructure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R – our water programs are very policy and institutional development related – water is also related to rural developmen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– in Namibia we found keeping roads and water separate was bes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– for small delegations, the separtion of water and roads is not an issue, it is for larger delegation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R – could organise one after the other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– one after the other has meri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– hoD&lt; HOA, all have conference – perhaps we need an operations conference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2a600"/>
                </a:solidFill>
                <a:latin typeface="Verdana"/>
              </a:rPr>
              <a:t>More points, </a:t>
            </a: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do we an francophone example of successful reforms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 – yes at a recent seminar in Burkina Faso, a series of reforms was outlined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we had two sub-sectors here: water and sanitation. We discussed SBS and pooled and projects. For me the modalities as well as the sector was important – aid effectiveness was an important topic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why are the road people boring? They are not they are very nice!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2a600"/>
                </a:solidFill>
                <a:latin typeface="Verdana"/>
              </a:rPr>
              <a:t>More points </a:t>
            </a: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/R -What thematic studies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ffffff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Technologies in sanitatio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ffffff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Information management by water ministries, role of information in the sector (data management, indicators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ffffff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Innovative projects and initiatives (WSTF, CLTS, Ecotac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R – what frequency for this type of seminar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ffffff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Each year (we already agreed this in Pretoria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R – what topic would you suggest for next year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ffffff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- Low cost – urban sanitation…innovation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ffffff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R - Water framework directive of EU – compare with water policy… WRM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ffffff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-Mobile to web application for water system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ffffff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- One day on dry sanitation (vs water borne)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50560" y="333360"/>
            <a:ext cx="8358120" cy="612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Capacity4Dev Platform : (AIDCO E)  </a:t>
            </a:r>
            <a:br>
              <a:rPr sz="2400"/>
            </a:br>
            <a:br>
              <a:rPr sz="1800"/>
            </a:b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first step - trial : starts with the T.C. reform</a:t>
            </a: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, also used by the Public Finance Management experts, </a:t>
            </a:r>
            <a:br>
              <a:rPr sz="1800"/>
            </a:b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open to outside public (worldwide or restricted groups)</a:t>
            </a:r>
            <a:br>
              <a:rPr sz="1800"/>
            </a:b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1500 users but not many actives</a:t>
            </a:r>
            <a:br>
              <a:rPr sz="1800"/>
            </a:b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Too complex ! </a:t>
            </a:r>
            <a:br>
              <a:rPr sz="1800"/>
            </a:b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Has been fully redesigned and simplified </a:t>
            </a:r>
            <a:br>
              <a:rPr sz="1800"/>
            </a:br>
            <a:br>
              <a:rPr sz="1000"/>
            </a:b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FR" sz="1800" spc="-1" strike="noStrike">
                <a:solidFill>
                  <a:srgbClr val="ffff00"/>
                </a:solidFill>
                <a:latin typeface="Verdana"/>
              </a:rPr>
              <a:t>NEW VERSION LAUNCHED on 15 October 2010 !</a:t>
            </a:r>
            <a:br>
              <a:rPr sz="1800"/>
            </a:br>
            <a:br>
              <a:rPr sz="1000"/>
            </a:b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Functionalities (within groups) :  </a:t>
            </a:r>
            <a:br>
              <a:rPr sz="1800"/>
            </a:b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X </a:t>
            </a:r>
            <a:r>
              <a:rPr b="1" lang="fr-BE" sz="1800" spc="-1" strike="noStrike">
                <a:solidFill>
                  <a:srgbClr val="ffff00"/>
                </a:solidFill>
                <a:latin typeface="Verdana"/>
              </a:rPr>
              <a:t>document library</a:t>
            </a: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 (doc management)</a:t>
            </a:r>
            <a:br>
              <a:rPr sz="1800"/>
            </a:b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X </a:t>
            </a:r>
            <a:r>
              <a:rPr b="1" lang="fr-BE" sz="1800" spc="-1" strike="noStrike">
                <a:solidFill>
                  <a:srgbClr val="ffff00"/>
                </a:solidFill>
                <a:latin typeface="Verdana"/>
              </a:rPr>
              <a:t>blog</a:t>
            </a: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 for discussions and info exchanges </a:t>
            </a:r>
            <a:br>
              <a:rPr sz="1800"/>
            </a:b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X </a:t>
            </a:r>
            <a:r>
              <a:rPr b="1" lang="fr-BE" sz="1800" spc="-1" strike="noStrike">
                <a:solidFill>
                  <a:srgbClr val="ffff00"/>
                </a:solidFill>
                <a:latin typeface="Verdana"/>
              </a:rPr>
              <a:t>event</a:t>
            </a: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/news announcement</a:t>
            </a:r>
            <a:endParaRPr b="1" lang="en-US" sz="1800" spc="-1" strike="noStrike">
              <a:solidFill>
                <a:srgbClr val="e2a6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1125000"/>
            <a:ext cx="82296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4400" spc="-1" strike="noStrike">
                <a:solidFill>
                  <a:srgbClr val="e2a600"/>
                </a:solidFill>
                <a:latin typeface="Verdana"/>
              </a:rPr>
              <a:t>Introduction to </a:t>
            </a:r>
            <a:br>
              <a:rPr sz="4400"/>
            </a:br>
            <a:r>
              <a:rPr b="1" lang="fr-BE" sz="4400" spc="-1" strike="noStrike">
                <a:solidFill>
                  <a:srgbClr val="e2a600"/>
                </a:solidFill>
                <a:latin typeface="Verdana"/>
              </a:rPr>
              <a:t>the new </a:t>
            </a:r>
            <a:r>
              <a:rPr b="0" i="1" lang="fr-BE" sz="4400" spc="-1" strike="noStrike" u="sng">
                <a:solidFill>
                  <a:srgbClr val="e2a600"/>
                </a:solidFill>
                <a:uFillTx/>
                <a:latin typeface="Verdana"/>
              </a:rPr>
              <a:t>Capacity4dev</a:t>
            </a:r>
            <a:endParaRPr b="1" lang="en-US" sz="4400" spc="-1" strike="noStrike">
              <a:solidFill>
                <a:srgbClr val="e2a6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-1523880" y="-1447920"/>
            <a:ext cx="12191760" cy="975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-1523880" y="-1446120"/>
            <a:ext cx="12193560" cy="975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-1523880" y="-1447920"/>
            <a:ext cx="12191760" cy="975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-303120" y="-103320"/>
            <a:ext cx="9752040" cy="706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-1523880" y="-1447920"/>
            <a:ext cx="12191760" cy="975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4T07:31:41Z</dcterms:created>
  <dc:creator>monacro</dc:creator>
  <dc:description/>
  <dc:language>en-US</dc:language>
  <cp:lastModifiedBy>aidco-sd-tech2</cp:lastModifiedBy>
  <dcterms:modified xsi:type="dcterms:W3CDTF">2010-10-28T11:12:00Z</dcterms:modified>
  <cp:revision>124</cp:revision>
  <dc:subject/>
  <dc:title>Slide 1</dc:title>
</cp:coreProperties>
</file>