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EA870-D99B-412B-8797-B6B93687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1C10-72A4-4F9B-9EEC-6E25C502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DE638-F7F2-4FEF-97DE-A5F92CAF8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2C4DF-DD6A-48EC-A6D3-CF0761C87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3D8B2B-94DE-4ABE-B2ED-3858B27DB3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9B22F-BFAD-4EB4-8B02-4562CB8EA6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DB756-AA6A-4267-BF44-6538B86CF2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E32BC4-E45A-47A4-9352-CF0229FEC6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DE3AC-8DFA-4073-8770-70F8CB83CA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8494D-0F33-42AC-BEBF-E4AA779DC7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92D51-EAB7-498A-88F8-C7C74F34BF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7E443-94B1-4869-A8C2-82281A3EA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116E2-C5A3-4293-902A-B11A7FAE70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AF0C8-5C53-4725-B43D-58D535E959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D59B4-8892-47B9-9B2E-6DE0D87B81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CDBC38-0DF5-4FEC-96C9-4BA0C951EB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F77754-BE4A-4347-8D97-0636877FDF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6702C-B0B2-46DD-9D05-FB9B2DB50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0C46-ACDA-42AD-A40F-5F60BC32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93E0E-24F1-4DBD-8B9E-1D49CE542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A1F7-E5EE-4F4A-BDC2-4A8E3747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E66A-0C04-4CA0-90AC-9DE27390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C53D-046B-483B-A691-F9D2306F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1B51-0BC9-4D49-8129-960F4ABBA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6122E616-3E68-4F9A-AC44-C83FDFA232C2}" type="datetime11">
              <a:rPr b="0" lang="en-US" sz="1400" spc="-1" strike="noStrike">
                <a:solidFill>
                  <a:srgbClr val="ffffff"/>
                </a:solidFill>
                <a:latin typeface="Times New Roman"/>
              </a:rPr>
              <a:t>17:56:4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2CBD-B00F-4FE8-BE68-30832720E2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1A40-3031-4F65-967C-628E2ACC2A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315C8B41-10FF-4CED-88CB-76BBAAEAFBD8}" type="datetime11">
              <a:rPr b="0" lang="en-US" sz="1400" spc="-1" strike="noStrike">
                <a:solidFill>
                  <a:srgbClr val="ffffff"/>
                </a:solidFill>
                <a:latin typeface="Times New Roman"/>
              </a:rPr>
              <a:t>17:56:40</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3439DA2-F94C-4C86-B76F-45E131C567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DEC3793-C965-4DBD-8887-80A79951C9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43E2B03-7AA3-4E08-A73C-2778AFD2C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D481AF1-1C8E-41F3-91B3-FF85F47814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27033CBC-669D-44A9-AC94-E077917FF9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332965A-96F2-474F-BE58-DCCDBC343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3032514-DF23-4E49-BDC8-2491D6429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3F0CE5-C920-413D-A3A3-169AF5412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EE41CE68-7C2E-46B2-82E2-39D131F5A8A7}"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08F189B-B2B7-4795-B841-FDBB71780C4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D94ACB8-72D8-40D6-996A-05A1AD63D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58C0AF9-6029-4D63-AA85-331F5BD511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2D3CA7C-99CE-4D4A-84BB-650E97DDCB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E745C9D-4A45-4BC0-8FBC-D83E6F4E19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E55FC89-6A16-4C37-AF87-24C437550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B74055E-0718-4DA3-A828-BABF8E1E62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D7115BD-3B10-42A9-83D1-68359CF7D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