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1A859-337C-4CFE-B47B-B7FEFD4E0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F4E9D-2B98-4B0E-A760-8AEF9FA7E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9F08D-522F-4AE8-A04F-93735B437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B5961-DFE9-4471-94F6-BF68AC259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618342-621E-4F6F-AAA5-3972287246A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4B0D75-2910-4EB1-B792-7B78F9266B0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B21DF6-DAD1-40FA-9CFC-929ED45365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782FB6-65D6-4591-961D-B22DD73679F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946765-77DF-4090-85BC-ECC31BBE5B3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8BF7F4-2751-445A-8652-8AACF764335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87F03D-18EC-41F7-825A-3E857ADC6B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9D65B-0681-4F98-923B-351153D38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764691-123F-42BD-882D-C1BA2059E6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975C6F-C6CE-44BE-BECD-3DD55E7818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289936-E685-4E82-A037-151949F4332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BE9B6C-9F03-4A01-B967-B70C2AFCDAD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11CEC2-2723-463C-AE39-DED67868261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D3738-9022-4398-B102-318F4B129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16F0A-51BB-42E3-9FD7-AAD710865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1451F-56F5-43B8-B418-466B7E33B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4A328-CB61-4FF8-8F11-5B84F58C6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56685-006B-4FBA-BC4D-4725B2D2C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5C8D9-DD75-4834-BDB4-F80C4AAF1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1505C-4617-4F07-B265-E4B0E63F5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E2B34AD3-72FD-4572-AE7E-BEB0D897109F}" type="datetime11">
              <a:rPr b="0" lang="en-US" sz="1400" spc="-1" strike="noStrike">
                <a:solidFill>
                  <a:srgbClr val="ffffff"/>
                </a:solidFill>
                <a:latin typeface="Times New Roman"/>
              </a:rPr>
              <a:t>17:57:55</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92D5-C5EB-4FD5-85A1-9F267B2AC5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C1EC-A24A-4351-AC37-A3C48958A6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7351CCAC-03CB-4D65-9837-4EB61097A45B}" type="datetime11">
              <a:rPr b="0" lang="en-US" sz="1400" spc="-1" strike="noStrike">
                <a:solidFill>
                  <a:srgbClr val="ffffff"/>
                </a:solidFill>
                <a:latin typeface="Times New Roman"/>
              </a:rPr>
              <a:t>17:57:55</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E155FF2-07DC-4B00-BDD7-09FDD23555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B252E7E-A7F2-4AE2-97BD-3C1514A81A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7BEE291-6110-4499-A628-34823BA307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AFE9C50-52AB-47AD-9B3E-A331562198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8A61631F-BC4B-4BFA-B245-649D668C5A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B40D33B-9BD2-4F48-8DF2-638FDF6254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D96EEC9-E818-40AB-AF2C-B10D50F666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694E587-8373-4AE7-9D78-001C80B798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2F6EF141-3F5B-4C5C-B1B6-7CA19722B2EC}"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96FD4FA-C7C9-484B-9DBD-718B7DECBD1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8B40CA8-EB63-4417-87EB-C06C6D86C0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13E91B7-711E-4A4A-8FDB-3F3EF0BBD6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032FBF3-0CEA-4EA2-973F-6BD9EFDA79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15AD4DA-D716-4094-BC49-A164224320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113A78B-FB2C-4764-A41C-7860C046E0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28885AB-9366-4E19-89CA-CE5A70DD4D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112E824-32B3-4371-95F8-C295E7CCF1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