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3.jpeg" ContentType="image/jpeg"/>
  <Override PartName="/ppt/media/image12.wmf" ContentType="image/x-wm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F45F0-9C7D-4844-9FFB-CA067B0792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99640-1363-4895-B518-BF29F707DE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12ACD-83A7-4F1D-84CF-27DA3122D8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91697-38A7-4D89-83AB-AC29A52AFE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2BD8A-447A-431E-AE2C-E991C1E769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33C05-3E24-41B2-845C-294128AD2D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DDC3C-1CB6-4800-B560-7F34844E08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39AB4-972A-43F5-8D75-A65EB1BE50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59D17-D732-41C3-9663-3D6D5E6021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EECE5-E4E0-4434-A531-F37D029116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FC846-B733-4228-BF36-EE3CB5AF4E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75B1D-3D83-414B-B5CD-44BF20617C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888320" y="5478480"/>
            <a:ext cx="698400" cy="954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87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Click to edit the title text format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3" marL="16066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4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5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6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Pl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E56A-3A46-4F05-AAF8-35EC76DE5AC4}" type="slidenum">
              <a:rPr b="0" lang="en-GB" sz="1400" spc="-1" strike="noStrike">
                <a:solidFill>
                  <a:srgbClr val="000000"/>
                </a:solidFill>
                <a:latin typeface="Pl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3366cc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3366cc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3366cc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47480"/>
            <a:ext cx="77724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Plan"/>
              </a:rPr>
              <a:t>Click to edit the title text format</a:t>
            </a:r>
            <a:endParaRPr b="1" lang="en-US" sz="56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600200"/>
            <a:ext cx="901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ffffff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Plan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lvl="1" marL="192240" indent="0"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2" marL="914400" indent="44280" algn="ctr">
              <a:spcBef>
                <a:spcPts val="601"/>
              </a:spcBef>
              <a:buClr>
                <a:srgbClr val="000000"/>
              </a:buClr>
              <a:buFont typeface="Pl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3" marL="1371600" indent="6480" algn="ctr">
              <a:spcBef>
                <a:spcPts val="499"/>
              </a:spcBef>
              <a:buClr>
                <a:srgbClr val="000000"/>
              </a:buClr>
              <a:buFont typeface="Pl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Samuel.Musyoki@Plan-International.org" TargetMode="External"/><Relationship Id="rId3" Type="http://schemas.openxmlformats.org/officeDocument/2006/relationships/hyperlink" Target="http://www.communityledtotalsanitation.org/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8100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Community-Led Total Sanitation (CLTS)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&amp; Challenges</a:t>
            </a:r>
            <a:endParaRPr b="1" lang="en-US" sz="40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4920" y="2362320"/>
            <a:ext cx="8686800" cy="30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Kenya Experiences, Achievements, Challenges </a:t>
            </a: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ional Water &amp; Sanitation Workshop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airview Hotel – Nairobi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(18</a:t>
            </a:r>
            <a:r>
              <a:rPr b="0" lang="en-US" sz="2000" spc="-1" strike="noStrike" baseline="30000">
                <a:solidFill>
                  <a:srgbClr val="ffffff"/>
                </a:solidFill>
                <a:latin typeface="Plan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 – 21st Oct. 2010)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2"/>
              </a:rPr>
              <a:t>Samuel.Musyoki@Plan-International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3"/>
              </a:rPr>
              <a:t>www.communityledtotalsanitation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6520" y="30456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: Sequence of Key Step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re-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buy-in, selection of sites, training, introduction and building rappo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Sanitation profile –mapping-calculation of quantities-transect walk- flow-channels-effects-costs-ignition moment-action plann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ost-triggering: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mplementation of Action plans, follow-up, monitoring and documentation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caling up:</a:t>
            </a:r>
            <a:r>
              <a:rPr b="1" lang="en-US" sz="3200" spc="-1" strike="noStrike">
                <a:solidFill>
                  <a:srgbClr val="ff33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Going beyond CLTS…what next?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Some Photos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96880" y="2244600"/>
            <a:ext cx="3605400" cy="2703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36960" y="1539720"/>
            <a:ext cx="2935440" cy="2194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191120" y="3962520"/>
            <a:ext cx="3809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Triggering Respons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3886200"/>
            <a:ext cx="2438280" cy="1600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tchbox in a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4952880"/>
            <a:ext cx="1752480" cy="1371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m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l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4572000"/>
            <a:ext cx="22860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Scattered sp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2666880"/>
            <a:ext cx="198108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mp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1676520"/>
            <a:ext cx="3200400" cy="20574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676520"/>
            <a:ext cx="1904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ggering produces different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286000" y="3124080"/>
            <a:ext cx="8380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962160" y="3276720"/>
            <a:ext cx="1522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00600" y="3200400"/>
            <a:ext cx="12193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8195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151920"/>
            <a:ext cx="7313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Background to CLTS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With previous pace and approaches, it would take &gt;100 years and &gt;$30 billion (@$100/HH) to achieve total sanitation in RESA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RESA ins searched of  cost effective,  fast  and sustainable approaches for accelerating sanitation work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Came across CLTS-Origins in Bangladesh  and tried with documented positive  results in South East Asia seemed promis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decided to adopt CLTS as the major approach for sanitation promotion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96520" y="22824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RESA training for 38 participants in Tz-3 participants from Kenya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lan Kenya Management decides to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ilot CLTS in Nyanza, Coast and Eastern region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CLTS training and triggering in (Arujo village Homa Bay and Jaribuni village Kilifi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Sept/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Tharaka Machakos and Kisumu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First village (Jaribuni) attains ODF stat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of CLTS in Bondo and Siaya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KNO/DFID CLTS grant (50,000US$ for Kenya)start-u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lan/IDS AfricaSan CLTS pre-conference worksho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pr.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Sharing UNICEF regional workshop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MOH/PH CLTS training and triggering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ne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rogram conference parallel start-up workshop and the plenary session with Robe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RESA CLTS training in Kilifi; 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96520" y="304920"/>
            <a:ext cx="7364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66cc"/>
                </a:solidFill>
                <a:latin typeface="Plan"/>
              </a:rPr>
              <a:t>CLTS Timeline continued</a:t>
            </a:r>
            <a:endParaRPr b="1" lang="en-US" sz="40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539360"/>
            <a:ext cx="84582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ug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ODF verification exercise of 20 villages of  Siaya district (near Kogelo)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NICEF/MoPH&amp;S Training in Kisumu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Nov. 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World Toilet Week events including the training in Kwal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AfricaSan Durban IDS/Plan pre- conference CLTS session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 09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CLTS Africa sharing event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7364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rained over 600 practitioners (MoPH&amp;S, UNICEF, NGOs, CBOs, local leaders and youth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Kilifi became the  learning centre early ODF statu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Over 860 villages in various parts of the country have been triggered &amp; are at different stages towards ODF 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o date 146 villages have been declared ODF, in Coast (Kilifi) and Nyanza (Homabay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Adoption of CLTS for Rural sanitation by MoPHS- annual targets/CLTS coordination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creased Interest and demand for CLTS-training and support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2819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ange in mindsets &amp; leading to collective action =Increased coverage &amp; use: Kilifi from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30% to 48%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between May 2008-June 2010, Homa Bay-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66 triggered 29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ODF and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Busia- 380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triggered 56 ODF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World Toilet Day celebrated to mark ODF for the past 3 year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Media buy-in and coverage e.g. partnership with KBC series of “Vitimbi”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Networks and partnerships on CLTS have emerged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ildren and youth participation in CLTS-School-Led Total Sanitation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unding for CLTS, scaling-up, capacity building, advocacy  research &amp; documentation (e.g. DGIS/Plan Netherlands 8.5 million Euro in 8 African Countri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LTS moving from Rural to Urban  and to School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Establishment of a CLTS unit within Plan Kenya- responding demand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ystematic documentation of CLTS experiences – PLA CLTS Issue,  “Tales of Shit in Africa”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80880" y="914400"/>
          <a:ext cx="8229600" cy="5405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822960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261000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6294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 International: Who we are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86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 is an international humanitarian, child centered, development organization, without religious, political or governmental affiliation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’s vision is of a world in which all children realize their full potential in societies that respect people’s rights and dignity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75 Years of Existence; 48 Program Countries (13 in ESA Region)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In since Kenya 1982 (28yrs)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  <a:ea typeface="Times New Roman"/>
              </a:rPr>
              <a:t>Challeng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Uptake slow/not the same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in the different regions Plan Kenya works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Conflicting approaches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by different agencies  in the sanitation sector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The allowance culture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Some are in it for the out of pocket-not passionate or committ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Doubt and scepticism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among sanitation professional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Lack of willingness to let go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our professionalism-wanting the communities to start at the top of the ladder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Weak M&amp;E and reporting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 within the mandated institutions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hallenges –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Dependency syndrome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 some areas emanating from previous approach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Finding good facilitators: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Not all trained find it easy and/or develop the passion to take up the CLTS challeng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Triggering without adequate mechanisms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for follow-up and support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adequate support and mentoring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natural leader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Private sector inability to come-up with affordable technological </a:t>
            </a: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novations-dependency!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CLTS health outcomes/Impact research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CLTS intervention on diarrhea control and reduction in child mortality?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Future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itizen Led Total Sanitation –Urban CLT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Politics and governance of urban sanitation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Land tenure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City planning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Tenancy standards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Harnessing ICT4D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Mobile/GIS mapping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Partnership with Map Kibera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Next Map Mathare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anitation Marketing/Sanitation Financing-what options for urban informal settlements and small town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Many Design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3646440" cy="2444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21246600">
            <a:off x="4749480" y="987120"/>
            <a:ext cx="3809880" cy="2516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959400">
            <a:off x="298440" y="339552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038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Achievements-Triggered plus spill over in Kilifi District (May -2008-June 2010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04920" y="1371600"/>
          <a:ext cx="8686800" cy="5405400"/>
        </p:xfrm>
        <a:graphic>
          <a:graphicData uri="http://schemas.openxmlformats.org/drawingml/2006/table">
            <a:tbl>
              <a:tblPr/>
              <a:tblGrid>
                <a:gridCol w="1981080"/>
                <a:gridCol w="1066680"/>
                <a:gridCol w="1219320"/>
                <a:gridCol w="1066680"/>
                <a:gridCol w="1067040"/>
                <a:gridCol w="1066680"/>
                <a:gridCol w="1219320"/>
              </a:tblGrid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trigger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DF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below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above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.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.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.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685800" y="1219320"/>
          <a:ext cx="7966080" cy="4860720"/>
        </p:xfrm>
        <a:graphic>
          <a:graphicData uri="http://schemas.openxmlformats.org/drawingml/2006/table">
            <a:tbl>
              <a:tblPr/>
              <a:tblGrid>
                <a:gridCol w="1036800"/>
                <a:gridCol w="941400"/>
                <a:gridCol w="753840"/>
                <a:gridCol w="1319400"/>
                <a:gridCol w="1137960"/>
                <a:gridCol w="927360"/>
                <a:gridCol w="925560"/>
                <a:gridCol w="923760"/>
              </a:tblGrid>
              <a:tr h="22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p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latrines as at 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July 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 (1 st July 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new latri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 latrines at 3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…20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Cov. ForAug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2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87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74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73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07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3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8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7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7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9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4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1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16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6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7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Kilifi District Latrine Coverage By Division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: Where we Work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88" name="Kenya_400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68580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26316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Country Goal &amp; Programs</a:t>
            </a:r>
            <a:endParaRPr b="1" lang="en-US" sz="32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Plan"/>
              </a:rPr>
              <a:t>Country Goal:</a:t>
            </a:r>
            <a:r>
              <a:rPr b="1" lang="en-GB" sz="2400" spc="-1" strike="noStrike">
                <a:solidFill>
                  <a:srgbClr val="000000"/>
                </a:solidFill>
                <a:latin typeface="Plan"/>
              </a:rPr>
              <a:t> Transformed Institutions &amp; Societies That Respect and Fulfil Rights of All Children in Kenya.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Plan"/>
              </a:rPr>
              <a:t>Country Programs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: Right to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99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Plan"/>
              </a:rPr>
              <a:t>Health [includes Water &amp; Sanitation]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Quality Basic Educa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Inclusion &amp; Protec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Sustainable and Dignified Livelihood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Just and Democratic Governance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3620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 &amp; Others: Long History of Latrine Subsidie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4371840" cy="4114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3280" y="2133720"/>
            <a:ext cx="4156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Let’s Talk About?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933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What is CLTS? Community-Led Total Sanitation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A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“Participatory and Learning Action”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pproach based on stimulating a collective sense of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disgust, shame and fear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mong community members as they confront the crude reality about mass open defecation </a:t>
            </a:r>
            <a:r>
              <a:rPr b="0" i="1" lang="en-US" sz="3200" spc="-1" strike="noStrike">
                <a:solidFill>
                  <a:srgbClr val="000000"/>
                </a:solidFill>
                <a:latin typeface="Plan"/>
              </a:rPr>
              <a:t>[environmental contamination] and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ts negative effects on the entire community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Plan"/>
              </a:rPr>
              <a:t>Underlying Assumptions of CL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60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No one  can stay unmoved once they discover they are ingesting other people’s or their own faec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High sense of shame and disgust hold the power to ignite people to take action and use their resources (not subsidy) to stop open defecation and be totally sanitised; 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191120" y="1295280"/>
            <a:ext cx="4724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 i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mmunity-led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They lead and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everyone in the community is involv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otal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Plan"/>
              </a:rPr>
              <a:t>100%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 elimination of open defecation &amp; practice of good hygien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anitation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Beyond construction of toile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llective action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Often locally decided and not dependent on external subsidies and prescriptions of solutions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05:02:51Z</dcterms:created>
  <dc:creator>cmcc</dc:creator>
  <dc:description/>
  <dc:language>en-US</dc:language>
  <cp:lastModifiedBy>smusyoki</cp:lastModifiedBy>
  <dcterms:modified xsi:type="dcterms:W3CDTF">2010-10-19T07:31:49Z</dcterms:modified>
  <cp:revision>151</cp:revision>
  <dc:subject/>
  <dc:title>Ethics in Human Development; Do the poor really Matter?</dc:title>
</cp:coreProperties>
</file>