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907588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ADBE0-DF35-4CE1-83A8-D94585849D81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1D724A-CE59-4A94-A714-F479DB3D503C}" type="datetime10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7: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698040" y="741240"/>
            <a:ext cx="534852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3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4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9C089-60F3-450D-9224-665AE3AD30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F821F-5B7E-454F-A7DF-00015DC438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6634A-0027-4E20-AD85-8B79947F52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698400" y="741240"/>
            <a:ext cx="534852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82D0-CDE8-4975-8D07-4D136C83F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DCDC-8393-4CA3-BC52-FB924FE5B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16E3-C01C-4277-9AE6-FEB819ABB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2064-257C-4244-897C-23831AB38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91D-A617-4A2E-BD7D-7AAF062B8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F5CE-56D8-427A-B11C-66E08A9617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964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24280" y="16765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500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0964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24280" y="4040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17EC-FB0A-4076-A984-408DFA2CA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C0FE-6E54-46E1-9790-B3B04393F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765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4171-8908-45A5-9C00-07F2FC2B0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E2A2-228C-4AFA-9ACF-0B83F6327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0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4A12-6A27-4171-8EC4-05F4FD22F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765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0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DDAD-3099-44A3-B943-108682484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75720" y="6008760"/>
            <a:ext cx="49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E5A0-11B5-4FE1-AC55-0FBFEFC05CBA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233B-EFB6-4201-A1C2-2A619EF81683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19" descr="GDC Logo"/>
          <p:cNvPicPr/>
          <p:nvPr/>
        </p:nvPicPr>
        <p:blipFill>
          <a:blip r:embed="rId6"/>
          <a:stretch/>
        </p:blipFill>
        <p:spPr>
          <a:xfrm>
            <a:off x="8601120" y="33804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7"/>
          <p:cNvSpPr/>
          <p:nvPr/>
        </p:nvSpPr>
        <p:spPr>
          <a:xfrm>
            <a:off x="304920" y="304920"/>
            <a:ext cx="9242280" cy="6208560"/>
          </a:xfrm>
          <a:prstGeom prst="roundRect">
            <a:avLst>
              <a:gd name="adj" fmla="val 338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1981080" y="304812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56080" y="4724280"/>
            <a:ext cx="32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 of Water Sector Re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i House, Ngong Roa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.O.Box 19512-002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39"/>
          <p:cNvGraphicFramePr/>
          <p:nvPr/>
        </p:nvGraphicFramePr>
        <p:xfrm>
          <a:off x="7532640" y="6173640"/>
          <a:ext cx="39204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2640" y="6173640"/>
                    <a:ext cx="392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40" descr="\\Mark\C\My Documents\logo DED_2002_offiziell.jpg"/>
          <p:cNvPicPr/>
          <p:nvPr/>
        </p:nvPicPr>
        <p:blipFill>
          <a:blip r:embed="rId4"/>
          <a:stretch/>
        </p:blipFill>
        <p:spPr>
          <a:xfrm>
            <a:off x="6959520" y="6235560"/>
            <a:ext cx="35568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031124_KFW_Logo_Entwicklung-Positiv-4c"/>
          <p:cNvPicPr/>
          <p:nvPr/>
        </p:nvPicPr>
        <p:blipFill>
          <a:blip r:embed="rId5"/>
          <a:stretch/>
        </p:blipFill>
        <p:spPr>
          <a:xfrm>
            <a:off x="8077320" y="6172200"/>
            <a:ext cx="685800" cy="293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0c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>
            <a:off x="358920" y="179280"/>
            <a:ext cx="9161280" cy="134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5"/>
          <p:cNvSpPr/>
          <p:nvPr/>
        </p:nvSpPr>
        <p:spPr>
          <a:xfrm>
            <a:off x="358920" y="1619280"/>
            <a:ext cx="9161280" cy="4768920"/>
          </a:xfrm>
          <a:prstGeom prst="roundRect">
            <a:avLst>
              <a:gd name="adj" fmla="val 3778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6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660600" cy="304920"/>
          </a:xfrm>
          <a:custGeom>
            <a:avLst/>
            <a:gdLst>
              <a:gd name="textAreaLeft" fmla="*/ 19440 w 660600"/>
              <a:gd name="textAreaRight" fmla="*/ 641160 w 660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66" h="21600">
                <a:moveTo>
                  <a:pt x="0" y="0"/>
                </a:moveTo>
                <a:lnTo>
                  <a:pt x="46766" y="0"/>
                </a:lnTo>
                <a:lnTo>
                  <a:pt x="46766" y="21600"/>
                </a:lnTo>
                <a:lnTo>
                  <a:pt x="0" y="21600"/>
                </a:lnTo>
                <a:close/>
              </a:path>
              <a:path fill="lightenLess" w="46766" h="21600">
                <a:moveTo>
                  <a:pt x="0" y="0"/>
                </a:moveTo>
                <a:lnTo>
                  <a:pt x="46766" y="0"/>
                </a:lnTo>
                <a:lnTo>
                  <a:pt x="45366" y="1400"/>
                </a:lnTo>
                <a:lnTo>
                  <a:pt x="1400" y="1400"/>
                </a:lnTo>
                <a:close/>
              </a:path>
              <a:path fill="darken" w="46766" h="21600">
                <a:moveTo>
                  <a:pt x="46766" y="0"/>
                </a:moveTo>
                <a:lnTo>
                  <a:pt x="46766" y="21600"/>
                </a:lnTo>
                <a:lnTo>
                  <a:pt x="45366" y="20200"/>
                </a:lnTo>
                <a:lnTo>
                  <a:pt x="45366" y="1400"/>
                </a:lnTo>
                <a:close/>
              </a:path>
              <a:path fill="darkenLess" w="46766" h="21600">
                <a:moveTo>
                  <a:pt x="46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6" y="20200"/>
                </a:lnTo>
                <a:close/>
              </a:path>
              <a:path fill="lighten" w="46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6" h="21600">
                <a:moveTo>
                  <a:pt x="16377" y="10800"/>
                </a:moveTo>
                <a:lnTo>
                  <a:pt x="30390" y="3794"/>
                </a:lnTo>
                <a:lnTo>
                  <a:pt x="303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7">
            <a:hlinkClick r:id="" action="ppaction://hlinkshowjump?jump=previousslide"/>
          </p:cNvPr>
          <p:cNvSpPr/>
          <p:nvPr/>
        </p:nvSpPr>
        <p:spPr>
          <a:xfrm>
            <a:off x="815832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395280" y="6381720"/>
            <a:ext cx="115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9E3-52E6-4597-89A2-CE90937E96EC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3dflagsdotcom_kenya_2fawm"/>
          <p:cNvPicPr/>
          <p:nvPr/>
        </p:nvPicPr>
        <p:blipFill>
          <a:blip r:embed="rId6"/>
          <a:stretch/>
        </p:blipFill>
        <p:spPr>
          <a:xfrm>
            <a:off x="8221680" y="76320"/>
            <a:ext cx="162720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5000" y="16765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5682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inistry of Water and Irrig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irectorate of Water Sector Re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tus of sector refor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cto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0</a:t>
            </a:r>
            <a:endParaRPr b="1" lang="en-US" sz="2000" spc="-1" strike="noStrike">
              <a:solidFill>
                <a:srgbClr val="003a67"/>
              </a:solidFill>
              <a:latin typeface="Arial"/>
            </a:endParaRPr>
          </a:p>
        </p:txBody>
      </p:sp>
      <p:pic>
        <p:nvPicPr>
          <p:cNvPr id="149" name="Picture 37" descr="~AUT0000"/>
          <p:cNvPicPr/>
          <p:nvPr/>
        </p:nvPicPr>
        <p:blipFill>
          <a:blip r:embed="rId1"/>
          <a:stretch/>
        </p:blipFill>
        <p:spPr>
          <a:xfrm>
            <a:off x="3598920" y="457200"/>
            <a:ext cx="21924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The current situation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04920" y="1600200"/>
            <a:ext cx="93726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reforms that commenced in 2004 based on the Water Act 2002 are progressing well creating the intended impacts that included increased access/coverage, professionalizing sector management, stakeholder participation and pro poor orientation both in rural and urba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various sector institutions are progressively taking charge of their respective mandates and carrying their roles effectively albeit with challeng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sector players are embracing and appreciating the new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MWI is increasingly concentrating on policy formulation, sector coordination, oversight and resource mobilization; WRMA on water resources management, WASREB on regulation of WSS, WSTF on pro poor funding in rural, urban and peri urban settings; WSBs on investment planning and development; WSPs on provision of W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transfer plan has since been revised, approved and awaits circulation. Key outstanding issues addressed in the revised transfer plan include transfer of assets and liabilities; complete de-linking of human resources to the respective sector institu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Progress during the last one year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3" name="TextBox 110"/>
          <p:cNvSpPr/>
          <p:nvPr/>
        </p:nvSpPr>
        <p:spPr>
          <a:xfrm>
            <a:off x="304920" y="1600200"/>
            <a:ext cx="92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S assets from all WSBs have now been documented and valued, Cabinet memorandum prepared and ready for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SIs Pension Scheme registered and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adline for HR delinking set for June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confidence in sector reform confirmed by increased financial commitments by development (i.e ADB, KfW) and government (sector budget now over Kshs. 30 bill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Development of secondary legislation including water rules, governance guidelin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d focus on human right to water eg continued formalization of service provision in urban and peri urban set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Impact report on the water services sector performance laun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formation briefs published and issued by the WSRS to clarify and elaborate critic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powerment of right holders eg W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2699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920" y="1676520"/>
            <a:ext cx="929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-aligning the Water Act 2002 to the provisions of the New Con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stainability/viability of several sector institutions at national, regional and local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munication within and outside the sector still inadequ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Governance challenge has given the sector negative publicity eg appointment of board members, misuse of fund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institutional capacities eg. laboratories at treatment, sustainable metering management capacity,  financial management at WSBs and WSPs levels, customer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skills and competencies in the sector eg. chemists, plant mechanics, customer care, finance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ng fencing of sector revenues (lease fees, DWO allocations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ligning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nalize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adequate funding of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Gill Sans MT"/>
              </a:rPr>
              <a:t>Next steps</a:t>
            </a:r>
            <a:endParaRPr b="1" lang="en-US" sz="2800" spc="-1" strike="noStrike">
              <a:solidFill>
                <a:srgbClr val="003a67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676520"/>
            <a:ext cx="944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sk force in place preparing amendments to the Water Act 2002 to complete by Dec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luster WSPs based on viability criteria and county gover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organization of WRMA to separate regulation and implementation in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eed to progressively sustain enforcement of governance guidelines and public reporting by al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 communication promote reporting to public, stakeholder forums, pro active media briefing, publicize the gains/successes of reforms, issue communication brief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rry out capacity needs assessment, both institutional, for the sector (incl WSIs) and propose ac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mplete asset re-assignment and gradually outlaw lease f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 with Treasury to realign budgets to critical sector instit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plement recommendations on restructuring of MWI and NWC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crease funding for the directorate of r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0:10:19Z</dcterms:created>
  <dc:creator>ralf.wegener</dc:creator>
  <dc:description/>
  <dc:language>en-US</dc:language>
  <cp:lastModifiedBy>Administrator</cp:lastModifiedBy>
  <cp:lastPrinted>2000-11-03T14:33:29Z</cp:lastPrinted>
  <dcterms:modified xsi:type="dcterms:W3CDTF">2010-10-19T05:40:23Z</dcterms:modified>
  <cp:revision>220</cp:revision>
  <dc:subject/>
  <dc:title> Study </dc:title>
</cp:coreProperties>
</file>