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E3AC-1F1F-40CF-AB0E-E2548BEBF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CB0-270F-4542-BE9A-A280734C9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CDF-E6F8-48CA-84C6-0557A085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DA9-F6A8-461E-ACA4-06D6BA03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4EF-1410-4493-854E-10855523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AC9-692E-4AC5-A655-041648E9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1CF-B586-4702-A916-4BEE373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644-F51E-4A1D-98CD-09A3EBC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532-5C19-401E-9C11-F6817DF3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D7A-F1B5-4EFA-A0D7-CEB406CF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2BC-DEBC-456F-8BD9-02A0AE3E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63C-0AAD-47FE-B7BC-46F9BEA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07E-A1DD-4812-9F47-F3EBFCC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7B3-9C15-4A1C-BBF6-9942E17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1CA5-311C-4889-95B6-65DF96171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Regional Water and sanitation work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68360" y="150336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xchange of experience between colleagues dealing with water and sanitation programmes / projects on how to face the challenges of the s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1 - Sector dialogue  + field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2 –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3 – Institutional context and Sector budge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y 4 – Finance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ss cutting topics will also be dealt with in group work and 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hat has been achieved so far? What are the remaining challe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o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re they working? How can this instrument be impr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pacity building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- Keeping small systems simple for affordable O&amp;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insufficient resources on capacity building- roles changing – under staffing – contract managment &amp; regulation skills mi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numbers &amp; skills insufficient – governance challenges affec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O&amp;M skills with tools – limited resources for high tech back up – community empowerment is key to capacity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training in O&amp;M – how to support when not a focal 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ordination affects capacity, water good, sanitation not – poor pay, poor staff – information management importa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-  capacity plan completed – loss of skills to nearby countries – project management capac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rivatisation (PPP) and decentralisation – water resources is diffic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Strong leadership – participation of other ministries weak – tertiary education in water sector is weak –  insufficient numbers – cost recovery enhances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ecentralisation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68360" y="1052640"/>
            <a:ext cx="842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he focus is on the towns – how to sustain the sector in low income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regional offices are not involved in planning and budgetting – lack of staff local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transition to new structures takes a long time – changes in the overall decentralisation landsca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significant increases of capacity at local level due to decentralisation – turn over is high – link between water and health needs strengthe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partial deconcentration through regional water boards – rural water supply handled centrally – political interfer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ecentralisation well supported and popular – budget problems forese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– handover to community councils underway – empowering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Districts are clearly seen as the main actors – management capacity is a challenge – will PPP wor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700" spc="-1" strike="noStrike">
                <a:solidFill>
                  <a:srgbClr val="000000"/>
                </a:solidFill>
                <a:latin typeface="Calibri"/>
              </a:rPr>
              <a:t> – Community based management – 13 regional offices to coordinate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3"/>
          <p:cNvSpPr/>
          <p:nvPr/>
        </p:nvSpPr>
        <p:spPr>
          <a:xfrm>
            <a:off x="457200" y="260280"/>
            <a:ext cx="8229600" cy="720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ndicators – some key messages that emerge from the questi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052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ong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o nation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Swaziland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national system started but no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Keny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system in place but baseline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Ethiopia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MDGs ar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lawi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ational system under development – meantime using Malawi growth and development strateg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Chad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no national system – only project defined indicators – health sector has well defined indicators, we could u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Lesotho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– Continous multi purpose survery – harmonised with MTEF – costs probl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Rwand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vision 20/20 has sector indicators – but infrastructure and resource concepts are not fu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Namibia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–  two systems (financial and planning) – national system of 28 indicators for rural water supply – uniform system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1 Sector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9640" y="1916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reforms have been take in the sector in Kenya and how did sector dialogue contrib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What is experience of and lessons learnt from sector dialogue and coordination in Gha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How can the EU delegations contribute when water is not a focal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ay 2 Sani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1700280"/>
            <a:ext cx="82072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Demand – lessons at scale from the CLTS experience – Plan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upply – harnessing market forces - Eco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nabling environment – the role of the public sector, examples from Namibia and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Access to services for informal settlements -  the water services trust fund - 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y 3 Institutional context and Sector budget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24130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Governance and decentralisation – case study from C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Challenges of introducing sector budget support – Namibia and Lesot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Use of indicators - Nam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ay 4 Finance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2413080"/>
            <a:ext cx="813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xperience of the EIB in financing water and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EU procedures – how to apply innovative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nternal support session  on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95280" y="1197000"/>
            <a:ext cx="8209080" cy="5400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 rot="16200000">
            <a:off x="3321000" y="3528720"/>
            <a:ext cx="2405160" cy="32144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14440"/>
              <a:gd name="textAreaBottom" fmla="*/ 321480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NABL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licies,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gulation,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centiv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960480" y="2097000"/>
            <a:ext cx="2752560" cy="23497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349720"/>
              <a:gd name="textAreaBottom" fmla="*/ 2350080 h 234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91" y="0"/>
                </a:lnTo>
                <a:lnTo>
                  <a:pt x="21600" y="10800"/>
                </a:lnTo>
                <a:lnTo>
                  <a:pt x="169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UPPLY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" indent="-95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echnology &amp;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ss to sanitation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anitation as a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flipV="1" rot="10800000">
            <a:off x="5466960" y="2008080"/>
            <a:ext cx="2871720" cy="2478240"/>
          </a:xfrm>
          <a:custGeom>
            <a:avLst/>
            <a:gdLst>
              <a:gd name="textAreaLeft" fmla="*/ 0 w 2871720"/>
              <a:gd name="textAreaRight" fmla="*/ 2872080 w 2871720"/>
              <a:gd name="textAreaTop" fmla="*/ 0 h 2478240"/>
              <a:gd name="textAreaBottom" fmla="*/ 2478240 h 247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0" y="0"/>
                </a:lnTo>
                <a:lnTo>
                  <a:pt x="21600" y="10800"/>
                </a:lnTo>
                <a:lnTo>
                  <a:pt x="169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5f1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176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Generation of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ygiene &amp; sanitation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176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ehavior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132000" y="1312920"/>
            <a:ext cx="2810160" cy="3263760"/>
          </a:xfrm>
          <a:custGeom>
            <a:avLst/>
            <a:gdLst>
              <a:gd name="textAreaLeft" fmla="*/ 641520 w 2810160"/>
              <a:gd name="textAreaRight" fmla="*/ 2168640 w 2810160"/>
              <a:gd name="textAreaTop" fmla="*/ 744840 h 3263760"/>
              <a:gd name="textAreaBottom" fmla="*/ 2518920 h 3263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be5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Accelerated sanitation and hyg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95280" y="274680"/>
            <a:ext cx="8229600" cy="85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Day 2 demand – supply -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45:43Z</dcterms:created>
  <dc:creator>PC</dc:creator>
  <dc:description/>
  <dc:language>en-US</dc:language>
  <cp:lastModifiedBy>PC</cp:lastModifiedBy>
  <dcterms:modified xsi:type="dcterms:W3CDTF">2010-10-05T17:04:01Z</dcterms:modified>
  <cp:revision>15</cp:revision>
  <dc:subject/>
  <dc:title>Water and sanitation EC-EIB seminar</dc:title>
</cp:coreProperties>
</file>