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B93-1F35-4D2E-8E94-FB54CCE5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D8A-6D83-4801-94B4-E420D342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0FD-75ED-4F39-8DC1-5EFDA134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01A-23F9-4A74-B31B-96C128C8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2BEA-FA18-4C59-B011-902C7275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B966-D3D5-4C77-A71A-70C0A6DE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224C-B62B-45CA-9104-6C9480FB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B9B8-1581-4600-9F98-AA17ABC8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7E1A-DC0D-4A1C-A354-F5DADFDB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B0EB-0CEB-4DF6-B1FC-812B8257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878B-D287-46E4-A902-1F6943C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24A-05F4-4159-954E-9E0DF6D4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BD0B-47A5-4796-A195-51583A08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C971-9A38-4A46-8D75-60E035A4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FE34-84D8-4B2C-A92E-AE5E0D3C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521A-0490-4556-9E99-5D1D0200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0C2E-F3EF-4753-BB14-BDB2D8CB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F85-7627-4E6C-815E-E8743E39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2D5-8080-426E-89DE-46C1B56C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C3A-844A-4781-BF1A-C6E70B50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B38-2825-4A39-891A-3B9DAF99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767-A1AA-4C67-85B6-400B2553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487-C9DF-499A-A1AD-028A0AF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F2F-58A6-4567-BC3B-C5249986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04AE-E4E5-464C-B48E-3755965C814E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104A-B669-4BDD-9083-A600268EFBB8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ater and Sanitation programmes within a focal sector in Budget and 10th EDF</a:t>
            </a:r>
            <a:br>
              <a:rPr sz="2000"/>
            </a:br>
            <a:endParaRPr b="1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1343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13396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558972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373720"/>
            <a:ext cx="83534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less than 60% population using improved water sources (UN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Countries with water and sanitation programmes inside a focal sector (10th EDF/               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805360"/>
            <a:ext cx="4316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373720"/>
            <a:ext cx="431640" cy="28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Amounts for Water Sector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Southern Africa :  201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Central Africa : 137,4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East Africa: 25,5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West Africa: 208,6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Neighbourhood South: 253 m€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10:53Z</dcterms:created>
  <dc:creator>aidco-sd-tech2</dc:creator>
  <dc:description/>
  <dc:language>en-US</dc:language>
  <cp:lastModifiedBy>aidco-sd-tech2</cp:lastModifiedBy>
  <dcterms:modified xsi:type="dcterms:W3CDTF">2010-10-14T09:51:59Z</dcterms:modified>
  <cp:revision>6</cp:revision>
  <dc:subject/>
  <dc:title>Water and Sanitation in Budget and 10th EDF </dc:title>
</cp:coreProperties>
</file>