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759A-08C6-453C-A35A-9EE38361DF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834B-A931-4B19-8441-12FFCB14D1A0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7471-B6A9-4AD7-AB4E-95FC5F1825E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873A-89B9-4DD0-888B-384DCAE8BC37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EE1B-F39F-439D-9C41-6B889286CF9B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75D-C489-4582-A3F5-AF76EFC7A29C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97FC-DC8B-49DA-8E0D-1C3246C0FCEA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7214-B22C-4A4F-A24E-59D56667BD18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A733-30D9-49E7-9BB5-C22E8FAE5F2B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6084-1808-403E-ADFE-3D0A68EAA5AE}" type="slidenum">
              <a:rPr b="0" lang="fr-FR" sz="1200" spc="-1" strike="noStrike">
                <a:solidFill>
                  <a:srgbClr val="29293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AB84-F6E9-41C8-BCDF-A35A5567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ACD34-C9D8-4F2B-B7FE-29516D0E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3579-D537-4334-8208-90E862D0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7868-6408-4198-83BE-D39741CC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D211-85FC-4317-A367-8A59A83F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61C7-0111-4529-B24F-D0F215ED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6CFD-D9E6-4F74-9398-6A833264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5DEE-EDC2-42CF-BC77-C5B20B18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8E87-5B0A-4945-AC05-02C0336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0911-4EC1-4E7A-9A0C-EB741F74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DB97-CB87-4607-9A10-917503B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1DAB0-C69A-46F0-AD79-9AAC1BDC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ad8f6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c5a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34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d2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C7ED-3895-4B0E-91AD-C43851589F18}" type="slidenum">
              <a:rPr b="0" lang="fr-F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3f2d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41AF-3A59-4003-919A-C319C5479B77}" type="datetime">
              <a:rPr b="0" lang="fr-FR" sz="1200" spc="-1" strike="noStrike">
                <a:solidFill>
                  <a:srgbClr val="f3f2dc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0" y="1029600"/>
            <a:ext cx="1447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8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34"/>
                </a:solidFill>
                <a:latin typeface="Calibri"/>
              </a:rPr>
              <a:t>Situation des réfugiés de la République centrafricaine (RCA) - Réponse Régionale et Défis </a:t>
            </a:r>
            <a:r>
              <a:rPr b="1" lang="en-US" sz="28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92934"/>
                </a:solidFill>
                <a:latin typeface="Calibri"/>
              </a:rPr>
              <a:t>Statistiques des réfugiés dans la région</a:t>
            </a:r>
            <a:endParaRPr b="0" lang="en-US" sz="32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5CF-8BD8-4BD7-966E-496A1906AC93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295280"/>
            <a:ext cx="475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92934"/>
                </a:solidFill>
                <a:latin typeface="Calibri"/>
                <a:ea typeface="Arial"/>
              </a:rPr>
              <a:t>Population de réfugiés</a:t>
            </a: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465,148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AMEROUN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47.245 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TCHAD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4.02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RDC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97.175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CONGO</a:t>
            </a:r>
            <a:r>
              <a:rPr b="0" lang="en-US" sz="1600" spc="-1" strike="noStrike">
                <a:solidFill>
                  <a:srgbClr val="292934"/>
                </a:solidFill>
                <a:latin typeface="Calibri"/>
                <a:ea typeface="Arial"/>
              </a:rPr>
              <a:t>:                                 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26.704</a:t>
            </a:r>
            <a:endParaRPr b="0" lang="en-US" sz="3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3238560" cy="5841720"/>
          </a:xfrm>
          <a:prstGeom prst="rect">
            <a:avLst/>
          </a:prstGeom>
          <a:ln w="0">
            <a:noFill/>
          </a:ln>
        </p:spPr>
      </p:pic>
      <p:sp>
        <p:nvSpPr>
          <p:cNvPr id="57" name="Content Placeholder 2"/>
          <p:cNvSpPr/>
          <p:nvPr/>
        </p:nvSpPr>
        <p:spPr>
          <a:xfrm>
            <a:off x="76320" y="62485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292934"/>
                </a:solidFill>
                <a:latin typeface="Calibri"/>
                <a:ea typeface="Arial"/>
              </a:rPr>
              <a:t>* Au 1 Mai 2015</a:t>
            </a: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3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0" y="6094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292934"/>
                </a:solidFill>
                <a:latin typeface="Calibri"/>
              </a:rPr>
              <a:t>Stratégie et Réponse Régionale pour les Réfugiés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Modèle de coordination des réfugiés 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lan de Réponse Régionale pour les Réfugiés (PRRR)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Politique, planification, consultations et partage d'informations avec les partenaires de mise en œuvre et de financement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Réponse aux besoins des communautés hôtes impacté par la présence des réfugiés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700" spc="-1" strike="noStrike">
                <a:solidFill>
                  <a:srgbClr val="292934"/>
                </a:solidFill>
                <a:latin typeface="Calibri"/>
              </a:rPr>
              <a:t>Considération des questions transversales comme la protection, le genre et les préoccupations environnementales.</a:t>
            </a: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1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A0A-9C52-4FB5-AA0E-0A2C89EF3DA8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en </a:t>
            </a:r>
            <a:r>
              <a:rPr b="1" lang="fr-FR" sz="4000" spc="-1" strike="noStrike">
                <a:solidFill>
                  <a:srgbClr val="292934"/>
                </a:solidFill>
                <a:latin typeface="Calibri"/>
              </a:rPr>
              <a:t>Protection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600" y="8380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enregistrement de 462,015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elocalisation d’environ 195,000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fugiés de la frontière vers 14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livrance de documentation à 80%</a:t>
            </a:r>
            <a:r>
              <a:rPr b="1" lang="fr-CA" sz="25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es réfugié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Établissement des aires de jeux pour les enfants dans les sit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Réunifications familiales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Prévention et réponse aux cas de v</a:t>
            </a:r>
            <a:r>
              <a:rPr b="0" lang="fr-FR" sz="2500" spc="-1" strike="noStrike">
                <a:solidFill>
                  <a:srgbClr val="292934"/>
                </a:solidFill>
                <a:latin typeface="Calibri"/>
              </a:rPr>
              <a:t>iolence basée sur le genre</a:t>
            </a: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 (médicale, psychosociale et juridique)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assistance aux personnes ayant des besoins spécif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11448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588F-168B-442A-81C1-7C56C9E72435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Réalisations opérationnelles</a:t>
            </a:r>
            <a:br>
              <a:rPr sz="4000"/>
            </a:br>
            <a:r>
              <a:rPr b="1" lang="fr-CA" sz="2400" spc="-1" strike="noStrike">
                <a:solidFill>
                  <a:srgbClr val="292934"/>
                </a:solidFill>
                <a:latin typeface="Calibri"/>
              </a:rPr>
              <a:t>avec les partenaires de mise en œuvre et opérationnels</a:t>
            </a:r>
            <a:endParaRPr b="0" lang="en-US" sz="2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600" y="11426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ménagement de 14 sites et 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provision de 100%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'abris</a:t>
            </a:r>
            <a:r>
              <a:rPr b="0" lang="en-US" sz="20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d’urgences en Cameroun, Tchad, RDC et Congo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s des structures d'eau et d'assainissement (forages, latrines et douches)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Assistance médicale et réponse aux cas de malnutrition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istribution mensuelle des vivres et non vivres pour environ 195,000 </a:t>
            </a:r>
            <a:r>
              <a:rPr b="0" lang="fr-FR" sz="2000" spc="-1" strike="noStrike">
                <a:solidFill>
                  <a:srgbClr val="292934"/>
                </a:solidFill>
                <a:latin typeface="Calibri"/>
              </a:rPr>
              <a:t>réfugiés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Construction des Espaces Temporaires d’Apprentissage et de Protection dans les sites et renforcement des capacités des écoles publiques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Réhabilitation des infrastructures locales</a:t>
            </a:r>
            <a:r>
              <a:rPr b="0" lang="en-CA" sz="2000" spc="-1" strike="noStrike">
                <a:solidFill>
                  <a:srgbClr val="292934"/>
                </a:solidFill>
                <a:latin typeface="Calibri"/>
              </a:rPr>
              <a:t>/</a:t>
            </a: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des services sociaux de bas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2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292934"/>
                </a:solidFill>
                <a:latin typeface="Calibri"/>
              </a:rPr>
              <a:t>Établissements des comités pour la coexistence pacifique</a:t>
            </a:r>
            <a:endParaRPr b="0" lang="en-US" sz="20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A01A-EA1A-4D9B-8781-1A0F0DF121F1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Solutions durable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240" y="9903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majorité des réfugiés optent pour l’intégration locale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s conditions posées pour leur retour :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rétablissement de la sécurité en RCA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e désarmement des groupes armés, la répartition et    l’indemnisation de biens pillés par les groupes armé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poursuite des auteurs de crim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non-discrimination des musulmans et leur reconnaissance àla citoyenneté 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bonne gouvernance et la tenue des élections transparentes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ad8f6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 </a:t>
            </a:r>
            <a:r>
              <a:rPr b="0" lang="fr-CA" sz="2600" spc="-1" strike="noStrike">
                <a:solidFill>
                  <a:srgbClr val="292934"/>
                </a:solidFill>
                <a:latin typeface="Calibri"/>
              </a:rPr>
              <a:t>La cohabitation pacifique inter-religieuse et communautaire</a:t>
            </a: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783C-9B51-48DB-B4F1-BE61A138CA99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Défi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La malnutrition chronique et l’insécurité aliment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capacité des infrastructures publiques (écoles, sanitaires, santé, etc.)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nsécurité pour les réfugiés à proximité des frontières et l'accès humanitaire limité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Défis logistique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Conflits entre les réfugiés et la communauté hôte liée au bois de chauffe, accès à l'eau et pâturage  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Identification et retour des ressortissants des pays tier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Faible éducation des réfugiés au niveau secondaire et tertiaire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500" spc="-1" strike="noStrike">
                <a:solidFill>
                  <a:srgbClr val="292934"/>
                </a:solidFill>
                <a:latin typeface="Calibri"/>
              </a:rPr>
              <a:t>Manque chronique de fonds, qui remet en cause la fourniture de l’assistance humanitaire selon les standards</a:t>
            </a: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3BA6-0C3D-445D-BA4F-7CF2430B6144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92934"/>
                </a:solidFill>
                <a:latin typeface="Calibri"/>
              </a:rPr>
              <a:t>Niveau de financemen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668D-3C7C-4C6B-9B22-AF4DAB9F3E2F}" type="slidenum"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1500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34"/>
                </a:solidFill>
                <a:latin typeface="Calibri"/>
                <a:ea typeface="Arial"/>
              </a:rPr>
              <a:t>13% Financé</a:t>
            </a:r>
            <a:endParaRPr b="0" lang="en-US" sz="1800" spc="-1" strike="noStrike">
              <a:solidFill>
                <a:srgbClr val="292934"/>
              </a:solidFill>
              <a:latin typeface="Calibri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36520" y="7621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demandés pour la Réponse :</a:t>
            </a:r>
            <a:r>
              <a:rPr b="1" lang="en-US" sz="14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240.710.733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400" spc="-1" strike="noStrike">
                <a:solidFill>
                  <a:srgbClr val="292934"/>
                </a:solidFill>
                <a:latin typeface="Calibri"/>
                <a:ea typeface="Arial"/>
              </a:rPr>
              <a:t>Fonds reçus au 19 Mai 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USD 31.464.278</a:t>
            </a:r>
            <a:endParaRPr b="0" lang="en-US" sz="1400" spc="-1" strike="noStrike">
              <a:solidFill>
                <a:srgbClr val="292934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8840" y="3962520"/>
          <a:ext cx="8076960" cy="2495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240"/>
                <a:gridCol w="2019240"/>
              </a:tblGrid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soins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çu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é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ameroun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71.937.91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.046.43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ce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CA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1.415.8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8.620.46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Tchad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46.646.888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.443.64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Congo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0.989.583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69.156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RDC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57.036.389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937.584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%</a:t>
                      </a:r>
                      <a:endParaRPr b="0" lang="en-US" sz="1800" spc="-1" strike="noStrike">
                        <a:solidFill>
                          <a:srgbClr val="292934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pic>
        <p:nvPicPr>
          <p:cNvPr id="79" name="Picture 29" descr=""/>
          <p:cNvPicPr/>
          <p:nvPr/>
        </p:nvPicPr>
        <p:blipFill>
          <a:blip r:embed="rId1"/>
          <a:stretch/>
        </p:blipFill>
        <p:spPr>
          <a:xfrm rot="5732400">
            <a:off x="2263320" y="10364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2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02F-AECA-4FBA-A4EE-21E96EFA2A13}" type="slidenum">
              <a:rPr b="0" lang="fr-FR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92934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005520" cy="594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5364000"/>
            <a:ext cx="762012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ff"/>
                </a:solidFill>
                <a:latin typeface="Calibri"/>
              </a:rPr>
              <a:t>Merci</a:t>
            </a:r>
            <a:endParaRPr b="0" lang="en-US" sz="8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2:42:32Z</dcterms:created>
  <dc:creator>Martha Piper</dc:creator>
  <dc:description/>
  <dc:language>en-US</dc:language>
  <cp:lastModifiedBy>RIGOLLI Cristina (DEVCO)</cp:lastModifiedBy>
  <cp:lastPrinted>2015-05-21T11:59:53Z</cp:lastPrinted>
  <dcterms:modified xsi:type="dcterms:W3CDTF">2015-05-22T12:21:26Z</dcterms:modified>
  <cp:revision>257</cp:revision>
  <dc:subject/>
  <dc:title>PowerPoint Presentation</dc:title>
</cp:coreProperties>
</file>