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DAC2-E01D-48E3-8D78-F3A696230E71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BDB3-8BEF-4210-90C4-BA7BD12318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8E46-CC69-4930-B211-F4AD65BB09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51FF-EB1A-4C41-9D48-AA3EBA5B57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F689-ED1B-49AE-BBCA-1C8F452B15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0302-3CD2-49D5-ADC0-ECC7FE5D41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3991-2F1F-487A-91E8-6C437EE911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8952-FD75-4FDC-A7D9-EEFA6CFD9E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BDDB-EF50-497D-955C-C23EA25176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41F6-CE55-4B4F-A47E-100DF7B3F8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44BB-FDC0-4912-B47E-275659BFCF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AC50-5B66-4929-AF83-E70477E0D3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ica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a unit of measurement, used to describe a situation, monitor the evolution of a situation or measure achievements against an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measurement may be based on quantitative or qualitativ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ar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performance standard to be reached; the concrete translation of an objective, expressed by means of an indicator (possibly expressed against a baseline) associated with a point in time (by which the target is expected to be reach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key step in the process of developing or implementing a policy, programme o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adoption of a policy, law or regulation, establishment of a coordination structure, restructuring of an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lisation/completion of a milestone is a way of measuring progress towards an objective but it is not a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D463-0F6A-4E1A-BD5E-4976097C52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E008-0B94-42CB-A0F6-A749CFEBCF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7753-C608-4F4E-929E-E4A4896B82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9456-C95B-4444-8EF3-010BD17A61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2DDC-4FD2-4C9F-AFE5-A7E985A259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FD82-4C12-4397-A544-E94792555D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5D4E-4538-469B-9237-7161F363E2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A0D-2ABD-4E8E-A6F6-A06FC002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FB21-0C7B-433B-B9BE-7527B955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9367-049E-4348-9265-B8F5A7B6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F2A9-A361-4F7B-AA61-88DE3932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DB03-69CA-483A-9206-979134B9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5830-6335-4CEE-BFF4-4B5D9589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BFB4-4A25-47BE-8869-DF23BEBE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94E9-0CB2-41D6-93F9-AF7E7155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BAA9-8DEA-43B8-917E-FD9A9879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91B1-3E4B-48D9-BBD8-4BB4AD28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E3E0-F280-49E1-963C-80A91ECC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68D-568E-4755-99EE-451B5A52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6F2D-9142-4AE5-8E85-E264DAD5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F9EF-D16A-4A2E-8032-E2DF2EE4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2C10-D31E-4783-B470-166E9B55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C14E-3A0F-41EF-B4E9-E35DC2CA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4EF8-3828-4368-AA16-C8AFF8E0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F1F-4D64-4272-81C0-A83AFEB8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BE45-BE5A-47AE-A424-D1746E52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1270-E364-4BE0-8402-AF8BB66D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277-70B5-4C45-B5F7-8A70C67B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A90-678F-4827-957A-C16380D0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EA3-213E-41E6-A78E-A9E2A9C0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C58-A5C8-4190-8569-C77A7258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237D-5855-4386-A5BD-E1464E7123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3C75-C407-4412-86F6-35042FEFB21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856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8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country 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nitoring system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6625-BA7B-4F0F-9C72-5EC5EEB2C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419640" y="3141720"/>
            <a:ext cx="2232000" cy="33732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Rounded Rectangular Callout 5"/>
          <p:cNvSpPr/>
          <p:nvPr/>
        </p:nvSpPr>
        <p:spPr>
          <a:xfrm>
            <a:off x="755640" y="1700280"/>
            <a:ext cx="1981080" cy="83988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cy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Rounded Rectangular Callout 6"/>
          <p:cNvSpPr/>
          <p:nvPr/>
        </p:nvSpPr>
        <p:spPr>
          <a:xfrm>
            <a:off x="6300720" y="170028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itutional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le 11"/>
          <p:cNvSpPr/>
          <p:nvPr/>
        </p:nvSpPr>
        <p:spPr>
          <a:xfrm>
            <a:off x="152280" y="2708280"/>
            <a:ext cx="3081600" cy="3692520"/>
          </a:xfrm>
          <a:custGeom>
            <a:avLst/>
            <a:gdLst>
              <a:gd name="textAreaLeft" fmla="*/ 150120 w 3081600"/>
              <a:gd name="textAreaRight" fmla="*/ 2931480 w 3081600"/>
              <a:gd name="textAreaTop" fmla="*/ 150120 h 3692520"/>
              <a:gd name="textAreaBottom" fmla="*/ 3542400 h 3692520"/>
            </a:gdLst>
            <a:ahLst/>
            <a:rect l="textAreaLeft" t="textAreaTop" r="textAreaRight" b="textAreaBottom"/>
            <a:pathLst>
              <a:path w="21600" h="25882">
                <a:moveTo>
                  <a:pt x="3600" y="0"/>
                </a:moveTo>
                <a:arcTo wR="3600" hR="3600" stAng="16200000" swAng="-5400000"/>
                <a:lnTo>
                  <a:pt x="0" y="22282"/>
                </a:lnTo>
                <a:arcTo wR="3600" hR="3600" stAng="10800000" swAng="-5400000"/>
                <a:lnTo>
                  <a:pt x="18000" y="258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tegration of environment/climate change considerations in national &amp; sector policies/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adaptation- &amp; mitigation-oriented policies &amp; plans (e.g. DRR, REDD </a:t>
            </a: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ateg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environment-specific policies &amp; plans (e.g. IWRM, biodiversit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le 12"/>
          <p:cNvSpPr/>
          <p:nvPr/>
        </p:nvSpPr>
        <p:spPr>
          <a:xfrm>
            <a:off x="5867280" y="2781360"/>
            <a:ext cx="2971800" cy="367344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673440"/>
              <a:gd name="textAreaBottom" fmla="*/ 3528360 h 3673440"/>
            </a:gdLst>
            <a:ahLst/>
            <a:rect l="textAreaLeft" t="textAreaTop" r="textAreaRight" b="textAreaBottom"/>
            <a:pathLst>
              <a:path w="21600" h="26699">
                <a:moveTo>
                  <a:pt x="3600" y="0"/>
                </a:moveTo>
                <a:arcTo wR="3600" hR="3600" stAng="16200000" swAng="-5400000"/>
                <a:lnTo>
                  <a:pt x="0" y="23099"/>
                </a:lnTo>
                <a:arcTo wR="3600" hR="3600" stAng="10800000" swAng="-5400000"/>
                <a:lnTo>
                  <a:pt x="18000" y="26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olitical leadership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stitutional commit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oordination &amp; participatory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ced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apacity building program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Cloud Callout 8"/>
          <p:cNvSpPr/>
          <p:nvPr/>
        </p:nvSpPr>
        <p:spPr>
          <a:xfrm>
            <a:off x="2705040" y="5257800"/>
            <a:ext cx="3733920" cy="1511280"/>
          </a:xfrm>
          <a:prstGeom prst="cloudCallout">
            <a:avLst>
              <a:gd name="adj1" fmla="val 3097"/>
              <a:gd name="adj2" fmla="val -124351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mainstreaming getting institutionalised at all levels?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6AE3-A91D-4E53-A801-840B2A6E4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492360" y="3860640"/>
            <a:ext cx="230364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5"/>
          <p:cNvSpPr/>
          <p:nvPr/>
        </p:nvSpPr>
        <p:spPr>
          <a:xfrm>
            <a:off x="539640" y="2205000"/>
            <a:ext cx="2133720" cy="838080"/>
          </a:xfrm>
          <a:prstGeom prst="wedgeRoundRectCallout">
            <a:avLst>
              <a:gd name="adj1" fmla="val 116305"/>
              <a:gd name="adj2" fmla="val 126027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mplementation (inputs, outputs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6"/>
          <p:cNvSpPr/>
          <p:nvPr/>
        </p:nvSpPr>
        <p:spPr>
          <a:xfrm>
            <a:off x="5940360" y="1916280"/>
            <a:ext cx="1979640" cy="838080"/>
          </a:xfrm>
          <a:prstGeom prst="wedgeRoundRectCallout">
            <a:avLst>
              <a:gd name="adj1" fmla="val -75393"/>
              <a:gd name="adj2" fmla="val 15375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utcomes, impa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le 11"/>
          <p:cNvSpPr/>
          <p:nvPr/>
        </p:nvSpPr>
        <p:spPr>
          <a:xfrm>
            <a:off x="533520" y="3213000"/>
            <a:ext cx="2700360" cy="334008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3340080"/>
              <a:gd name="textAreaBottom" fmla="*/ 3208320 h 3340080"/>
            </a:gdLst>
            <a:ahLst/>
            <a:rect l="textAreaLeft" t="textAreaTop" r="textAreaRight" b="textAreaBottom"/>
            <a:pathLst>
              <a:path w="21600" h="26716">
                <a:moveTo>
                  <a:pt x="3600" y="0"/>
                </a:moveTo>
                <a:arcTo wR="3600" hR="3600" stAng="16200000" swAng="-5400000"/>
                <a:lnTo>
                  <a:pt x="0" y="23116"/>
                </a:lnTo>
                <a:arcTo wR="3600" hR="3600" stAng="10800000" swAng="-5400000"/>
                <a:lnTo>
                  <a:pt x="18000" y="26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allocation of resour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(Inclusion of) environment/climate change (measures in) programmes/proje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mplementation &amp; enforcement of environment/climate change measures &amp; regula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le 12"/>
          <p:cNvSpPr/>
          <p:nvPr/>
        </p:nvSpPr>
        <p:spPr>
          <a:xfrm>
            <a:off x="5943600" y="2852640"/>
            <a:ext cx="3124080" cy="370044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3700440"/>
              <a:gd name="textAreaBottom" fmla="*/ 3548160 h 3700440"/>
            </a:gdLst>
            <a:ahLst/>
            <a:rect l="textAreaLeft" t="textAreaTop" r="textAreaRight" b="textAreaBottom"/>
            <a:pathLst>
              <a:path w="21600" h="25585">
                <a:moveTo>
                  <a:pt x="3600" y="0"/>
                </a:moveTo>
                <a:arcTo wR="3600" hR="3600" stAng="16200000" swAng="-5400000"/>
                <a:lnTo>
                  <a:pt x="0" y="21985"/>
                </a:lnTo>
                <a:arcTo wR="3600" hR="3600" stAng="10800000" swAng="-5400000"/>
                <a:lnTo>
                  <a:pt x="18000" y="25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Reduced environmental degradation and its incidence on poverty/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vulnerable groups (women, children, farmers, coastal communities, ...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key secto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growth, </a:t>
            </a:r>
            <a:br>
              <a:rPr sz="1400"/>
            </a:b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job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Environmentally sustainable, climate-resilient, low-emission 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Cloud Callout 8"/>
          <p:cNvSpPr/>
          <p:nvPr/>
        </p:nvSpPr>
        <p:spPr>
          <a:xfrm>
            <a:off x="2666880" y="5162400"/>
            <a:ext cx="3810240" cy="1619280"/>
          </a:xfrm>
          <a:prstGeom prst="cloudCallout">
            <a:avLst>
              <a:gd name="adj1" fmla="val 4458"/>
              <a:gd name="adj2" fmla="val -7815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Does the mainstreaming process produce results and impacts?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4000" y="256500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assessment frameworks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d budget suppor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A879-1CCD-42F5-84E6-8BE5192D1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f5494"/>
                </a:solidFill>
                <a:latin typeface="Verdana"/>
              </a:rPr>
              <a:t>Role of PAFs in relation to budget support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4920" y="2349000"/>
            <a:ext cx="83818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gress measured against the PAF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 criteria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 targets provides opportunities for policy dialogue in the context of budget supp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reasingly, the PAF associated with development and poverty reduction strategies is likely to include indicators and targets associated with environmental sustainability, climate change adaptation, disaster risk reduction, energy efficiency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the case of EC budget support, performance against a chosen sub-set of criteria and targets also determines the final amount of disburs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C74A-798B-4169-AF2A-3511E90CB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4920" y="2491920"/>
            <a:ext cx="8534520" cy="2057400"/>
          </a:xfrm>
          <a:prstGeom prst="rect">
            <a:avLst/>
          </a:prstGeom>
          <a:solidFill>
            <a:srgbClr val="f8fbfc"/>
          </a:solidFill>
          <a:ln w="25560">
            <a:solidFill>
              <a:srgbClr val="0f5494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Discussion and action plan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82FB-FA50-44E6-A73B-035D26979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057A-EC07-4AA2-AFDB-9ACDE99EC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ed Rectangle 4"/>
          <p:cNvSpPr/>
          <p:nvPr/>
        </p:nvSpPr>
        <p:spPr>
          <a:xfrm>
            <a:off x="1908000" y="4292640"/>
            <a:ext cx="5410440" cy="194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hat can be done and what are the institutional and capacity needs in your country/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1844280"/>
            <a:ext cx="8713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monitoring, and monitoring of responses for environmental sustainability and climate change, should be integrated into existing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is is a key aspect of the mainstreaming proces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ultiple aspects can be subject to monitor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state of environmental variables closely linked to poverty and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limate variability and change and their impa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hanges in policies and institu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mplementation and outcomes of adaptation and mitigation measur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7D70-4364-484D-966F-2E6EB7303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World Bank report 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ainstreaming Adaptation to Climate Change in Agriculture and Natural Resources Management Projec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climatechange.worldbank.org/content/mainstreaming-adaptation-climate-change-agriculture-and-natural-resources-management-projec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opean Commission Guidance on the Integration of Environment and Climate Change in Development Cooper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europeaid/infopoint/publications/europeaid/172a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837E-9628-496D-BF25-DC5B1B1D8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133360"/>
            <a:ext cx="7924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4) Project Cycle Management Guidelines. Aid Delivery Methods series, Volume 1. European Commission, Brussel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ec.europa.eu/europeaid/infopoint/publications/europeaid/documents/49a_adm_pcm_guidelines_2004_en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9) Guidance on Integration of the Environment and Climate Change in Development Cooperation. EuropeAid Tools and Methods Series Guidelines No. 4, Brussels. Available from: http://ec.europa.eu/europeaid/infopoint/publications/europeaid/172a_en.htm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ECD (2002) Glossary of Key Terms in Evaluation and Results Based Management. OECD Publishing, Pari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www.oecd.org/dataoecd/29/21/2754804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22F2-3157-42E2-876D-B04C45BBA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measurement and monitoring: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Key concept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620E-10E9-4DCF-B3CA-078DCB139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bjectives and related indicators/mileston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58920" y="1773360"/>
            <a:ext cx="297180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Hierarchy of objectiv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292720" y="1773360"/>
            <a:ext cx="2971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Progress measur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295280" y="257976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all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95280" y="349416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Specific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295280" y="4405320"/>
            <a:ext cx="2971800" cy="39888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termediate resul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295280" y="5319720"/>
            <a:ext cx="2971800" cy="39888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257800" y="257652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ac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257800" y="349092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come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257800" y="4253040"/>
            <a:ext cx="2971800" cy="70380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257800" y="5167440"/>
            <a:ext cx="2971800" cy="70380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3"/>
          <p:cNvCxnSpPr>
            <a:stCxn id="105" idx="0"/>
            <a:endCxn id="104" idx="2"/>
          </p:cNvCxnSpPr>
          <p:nvPr/>
        </p:nvCxnSpPr>
        <p:spPr>
          <a:xfrm flipV="1">
            <a:off x="2778480" y="480456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1" name="Straight Arrow Connector 17"/>
          <p:cNvCxnSpPr>
            <a:stCxn id="104" idx="0"/>
            <a:endCxn id="103" idx="2"/>
          </p:cNvCxnSpPr>
          <p:nvPr/>
        </p:nvCxnSpPr>
        <p:spPr>
          <a:xfrm flipV="1">
            <a:off x="2778480" y="3893760"/>
            <a:ext cx="3960" cy="5119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2" name="Straight Arrow Connector 19"/>
          <p:cNvCxnSpPr>
            <a:stCxn id="103" idx="0"/>
            <a:endCxn id="102" idx="2"/>
          </p:cNvCxnSpPr>
          <p:nvPr/>
        </p:nvCxnSpPr>
        <p:spPr>
          <a:xfrm flipV="1">
            <a:off x="2778480" y="297900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3" name="Straight Arrow Connector 21"/>
          <p:cNvCxnSpPr>
            <a:stCxn id="109" idx="1"/>
            <a:endCxn id="105" idx="3"/>
          </p:cNvCxnSpPr>
          <p:nvPr/>
        </p:nvCxnSpPr>
        <p:spPr>
          <a:xfrm flipH="1" flipV="1">
            <a:off x="4266720" y="55195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4" name="Straight Arrow Connector 25"/>
          <p:cNvCxnSpPr>
            <a:stCxn id="108" idx="1"/>
            <a:endCxn id="104" idx="3"/>
          </p:cNvCxnSpPr>
          <p:nvPr/>
        </p:nvCxnSpPr>
        <p:spPr>
          <a:xfrm flipH="1" flipV="1">
            <a:off x="4266720" y="46051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5" name="Straight Arrow Connector 27"/>
          <p:cNvCxnSpPr>
            <a:stCxn id="107" idx="1"/>
            <a:endCxn id="103" idx="3"/>
          </p:cNvCxnSpPr>
          <p:nvPr/>
        </p:nvCxnSpPr>
        <p:spPr>
          <a:xfrm flipH="1">
            <a:off x="4266720" y="36910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6" name="Straight Arrow Connector 29"/>
          <p:cNvCxnSpPr>
            <a:stCxn id="106" idx="1"/>
            <a:endCxn id="102" idx="3"/>
          </p:cNvCxnSpPr>
          <p:nvPr/>
        </p:nvCxnSpPr>
        <p:spPr>
          <a:xfrm flipH="1">
            <a:off x="4266720" y="27766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17" name="Left Brace 30"/>
          <p:cNvSpPr/>
          <p:nvPr/>
        </p:nvSpPr>
        <p:spPr>
          <a:xfrm>
            <a:off x="884160" y="4275000"/>
            <a:ext cx="335160" cy="1600200"/>
          </a:xfrm>
          <a:custGeom>
            <a:avLst/>
            <a:gdLst>
              <a:gd name="textAreaLeft" fmla="*/ 214200 w 335160"/>
              <a:gd name="textAreaRight" fmla="*/ 335520 w 335160"/>
              <a:gd name="textAreaTop" fmla="*/ 8640 h 1600200"/>
              <a:gd name="textAreaBottom" fmla="*/ 15915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"/>
                  <a:pt x="10800" y="377"/>
                </a:cubicBezTo>
                <a:lnTo>
                  <a:pt x="10800" y="10423"/>
                </a:lnTo>
                <a:cubicBezTo>
                  <a:pt x="10800" y="10612"/>
                  <a:pt x="5400" y="10800"/>
                  <a:pt x="0" y="10800"/>
                </a:cubicBezTo>
                <a:cubicBezTo>
                  <a:pt x="5400" y="10800"/>
                  <a:pt x="10800" y="10989"/>
                  <a:pt x="10800" y="11177"/>
                </a:cubicBezTo>
                <a:lnTo>
                  <a:pt x="10800" y="21223"/>
                </a:lnTo>
                <a:cubicBezTo>
                  <a:pt x="10800" y="2141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Left Brace 31"/>
          <p:cNvSpPr/>
          <p:nvPr/>
        </p:nvSpPr>
        <p:spPr>
          <a:xfrm>
            <a:off x="914400" y="2425680"/>
            <a:ext cx="287280" cy="16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620720"/>
              <a:gd name="textAreaBottom" fmla="*/ 1613520 h 16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0"/>
                  <a:pt x="10800" y="319"/>
                </a:cubicBezTo>
                <a:lnTo>
                  <a:pt x="10800" y="10481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60"/>
                  <a:pt x="10800" y="11119"/>
                </a:cubicBezTo>
                <a:lnTo>
                  <a:pt x="10800" y="21281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457200" y="1989000"/>
            <a:ext cx="304920" cy="2040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Outco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457200" y="4273560"/>
            <a:ext cx="304920" cy="17974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0" y="6550200"/>
            <a:ext cx="42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EC (2004), OECD (2002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858000" y="654516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B45E-314A-4B8C-A91A-D1B915FA3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MART indicators and targe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09C6-9BE6-4848-BEC4-1E38D96C2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304920" y="2060640"/>
            <a:ext cx="86868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ors and targets should be: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S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pecific to the related objectiv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surable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vailable at a reasonable cos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evant to information needs of decision maker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T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ime-bound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495680" y="647712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EC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2492280"/>
            <a:ext cx="8534160" cy="1981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 environment and climate change in monitoring systems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8DD7-41DB-4514-9E80-DEBDFA08B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What should be monitored, and why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DB65-E898-45F2-8C67-883FC594D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989000"/>
          <a:ext cx="8686800" cy="4638960"/>
        </p:xfrm>
        <a:graphic>
          <a:graphicData uri="http://schemas.openxmlformats.org/drawingml/2006/table">
            <a:tbl>
              <a:tblPr/>
              <a:tblGrid>
                <a:gridCol w="4038480"/>
                <a:gridCol w="4648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pect to monit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tionale for monitor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s in environmental parameters that influence poverty/development in a significant mann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-informed as possible to take opportunities to enhance effects on poverty reduction and revert adverse trend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mate variability and change, impacts and vulnera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 informed as poss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adaptive manage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and institutional chan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e the institutionalisation of environmental and climate change mainstream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 transparency and accountability of the mainstreaming proces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/Strategy implementation and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ngthen commitment to the objectives set in policies and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mulate the achievement of tangible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nvironment and climate change in the national development monitoring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708280"/>
            <a:ext cx="85341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change monitoring should be integrated into wider national and specific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Verdana"/>
              </a:rPr>
              <a:t>=&gt;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Strengthen and adapt existing monitoring systems (incl. statistical systems) to integrate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uild on existing institutions and sources of information..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... but adapt statistical systems and data 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2E4A-8D82-47A2-B536-B2E19ADD5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Levels at which to measure environment- and climate-related performanc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2349360"/>
            <a:ext cx="845028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dicators and milestones related to environment/climate change and the associated response can be included in the PAFs </a:t>
            </a:r>
            <a:r>
              <a:rPr b="0" lang="en-GB" sz="2400" spc="-1" strike="noStrike" baseline="30000">
                <a:solidFill>
                  <a:srgbClr val="0f5494"/>
                </a:solidFill>
                <a:latin typeface="Verdana"/>
              </a:rPr>
              <a:t>(*)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of environmental and climate change strategies and actions plans, but also those of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ational and sectoral development strategies and programm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b-national (e.g. regional, local) development pla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dividual projects (logical framewor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*) Performance assessment framework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Right Brace 3"/>
          <p:cNvSpPr/>
          <p:nvPr/>
        </p:nvSpPr>
        <p:spPr>
          <a:xfrm>
            <a:off x="8153280" y="4025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600200"/>
              <a:gd name="textAreaBottom" fmla="*/ 1592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ounded Rectangular Callout 4"/>
          <p:cNvSpPr/>
          <p:nvPr/>
        </p:nvSpPr>
        <p:spPr>
          <a:xfrm>
            <a:off x="5364000" y="5867280"/>
            <a:ext cx="3065760" cy="990720"/>
          </a:xfrm>
          <a:prstGeom prst="wedgeRoundRectCallout">
            <a:avLst>
              <a:gd name="adj1" fmla="val 41916"/>
              <a:gd name="adj2" fmla="val -129430"/>
              <a:gd name="adj3" fmla="val 16667"/>
            </a:avLst>
          </a:prstGeom>
          <a:solidFill>
            <a:srgbClr val="0f549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ltimate objective of mainstreaming!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7566-5A9B-4875-962D-DD4DC3DF6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environment &amp;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7D07-4CC2-42D1-81D9-6F1067793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492360" y="3573360"/>
            <a:ext cx="223200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Rounded Rectangular Callout 5"/>
          <p:cNvSpPr/>
          <p:nvPr/>
        </p:nvSpPr>
        <p:spPr>
          <a:xfrm>
            <a:off x="395280" y="1916280"/>
            <a:ext cx="2438280" cy="114444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teorology, climate variability, environmental parameter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Rounded Rectangular Callout 6"/>
          <p:cNvSpPr/>
          <p:nvPr/>
        </p:nvSpPr>
        <p:spPr>
          <a:xfrm>
            <a:off x="6372360" y="220500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ounded Rectangle 11"/>
          <p:cNvSpPr/>
          <p:nvPr/>
        </p:nvSpPr>
        <p:spPr>
          <a:xfrm>
            <a:off x="324000" y="3284640"/>
            <a:ext cx="27003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ata collection, management and dissemin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engthening of meteorological information &amp; 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Rounded Rectangle 12"/>
          <p:cNvSpPr/>
          <p:nvPr/>
        </p:nvSpPr>
        <p:spPr>
          <a:xfrm>
            <a:off x="6012000" y="3284640"/>
            <a:ext cx="29289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New patter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Emerging trend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jections, scenari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 for assessing impacts, vulnerabilities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&amp; risk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Cloud Callout 8"/>
          <p:cNvSpPr/>
          <p:nvPr/>
        </p:nvSpPr>
        <p:spPr>
          <a:xfrm>
            <a:off x="2681280" y="4876920"/>
            <a:ext cx="3781440" cy="1523880"/>
          </a:xfrm>
          <a:prstGeom prst="cloudCallout">
            <a:avLst>
              <a:gd name="adj1" fmla="val 620"/>
              <a:gd name="adj2" fmla="val -10196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the mainstreaming process based on reliable information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8T15:03:59Z</dcterms:modified>
  <cp:revision>119</cp:revision>
  <dc:subject/>
  <dc:title>Slide 1</dc:title>
</cp:coreProperties>
</file>