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EE87-85BF-4E61-8B51-4BDD03F6C044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9CC6-D553-4C6A-A58D-1E5AC1D8C3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5DCE-2B0B-4D0E-9215-49C3F5C6BA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F89C-6DF4-499D-A7B6-CB961268EA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06EA-A8E9-46B0-8755-141B9C3549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A28A-C91A-41E7-8F26-20D1ECA4F3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C1D0-6ADF-443C-A327-E75C77C9F5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Section 6.4 of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838F-37CA-4F26-8820-A512182CDA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national level, a high-level formal or informal climate change coordinating structure can support the overall response – but should catalyse it rather than act as a substitute for action by other government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body with a coordination mandate and decision-making power over line ministries, in particular with regard to budget al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Office of the President or Prime Minister, Ministry of Finance, Ministry of Planning or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6504-6522-4F04-9421-80F6F22A1B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6F06-5EC9-430D-8ED6-2F1BBEED76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6614-68E7-48CD-9FFE-8405BF7A8C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54D4-2399-4218-87B0-1F30AA8E1C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B068-FAFE-4670-BFEA-B4089095CD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1B5B-2563-4D60-B0AB-EA5FC2F9A3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7B22-459A-4607-8D72-37D8F9B7F9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4FB6-BDF2-4DD4-86B9-5C3A21337A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9C6D-EA09-421A-A24F-9F4156B055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A NCSA i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untry-driv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ocally adap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a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cess that aim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ew global environment issues that require priorit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e how capacity development could strengthen management of thes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e a national action plan for capacity develop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national capacity self-assessments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ulnerability and capacity assess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see UNDP-UNEP (2010)  pp. 32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7606-E1EF-4BC7-AC98-3FA0C8DDE5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1552-1D3F-4E47-B03D-5864740FA9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ee UNDP-UNEP (2009) page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683D-4F15-4177-A442-63ACFD1935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5E35-2CEA-4B82-B6DC-2CC3A6042C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inks between the environment and sectoral performance have been addressed in Modul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ance of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ector tends to be underfunded: for example, in Lesotho (2012) the Department of Environment is under the Ministry of Tourism and Environment. The whole Ministry receives about 0.16% of the budget allocated to line ministries, and only a small fraction of that is for the Department of Environment, as the Ministr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main tasks are oriented to promotion of to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der the environment sector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get implemented because of lack of funding. If other sectors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assume responsibility for their environmental dimension, there are very limited options to address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1B8C-75D8-4EFB-9CE7-878A764C1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B3AB-D1D5-4390-9FCC-21BC22F275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Outcomes of main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tion and democrat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olicy and politic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lan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udge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stitutional and capacity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vestmen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ehaviour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velopmental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15A4-EFFF-459F-B0EC-FD9CC11171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286B-B91B-4521-8478-28400D39EF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57FA-391C-4486-8F0D-58ADA255EA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8A4-2A26-4B68-A84F-AEA4E35B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3FC-0D71-4ABC-B6F3-68EA9BA4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C23-163E-4D87-9B49-6EB6DD8E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F10-CEB8-411B-A4AE-A812C749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018E-18A5-4E87-932B-8DFE3ED5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1682-FCCD-47AF-8D0B-80E6BBEF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B36D-3312-45ED-B739-6A9D3B69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1B70-11FE-4561-B913-C7D7B8C2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E5DA-3636-4AA8-8630-DF031921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4670-0983-4680-A257-AD809C18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4DB7-593D-4057-87A2-E31D79C3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B8E-CBB3-4832-ACC1-06149522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5FD8-228A-4DB7-9EC6-53F5061D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63D8-78CB-467D-9D98-A090D5E7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410F-FDDA-4CBE-97A2-7CEC06DD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49CD-940E-4544-9F02-6200A8BA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2C88-5013-498A-A8D7-B12DF31A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932-F3DC-4076-A262-6B02DD1A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230-8146-45AD-842E-E163C1C1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E60-4210-4D9E-A1F4-6BD8D519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D11-198E-4909-8183-59F84653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9EC-89C1-4288-BF67-E8418CE9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164-B632-4FF0-91D8-08721CD2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7CF2-0430-467C-8E74-27468DDB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3586-2EDE-4B1E-B787-4C9BD1D04B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2272-FE6B-48E2-8DAF-1CB8B5F1E6D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and strengthening institutions and capacit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trengthening institutions and capac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6383-9E6B-4795-B2E8-3B5A37729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institutional requirements for effective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Effective 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oss-sectoral &amp; cross-level coordination, cooper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werful champions at national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05740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tegration of new thinking, new research in planning &amp; monitoring systems &amp; proces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xperience sharing, dissemination of good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ly stakeholder participation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rengthening of capacities of stakeholders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04776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e.g. office of prime minister, ministries of finance/budget/plan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6D46-F5A8-42C7-A91E-9C9D538F4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052640"/>
          <a:ext cx="8750160" cy="532116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government (incl. office of prime minister, line ministries, DRR authoritie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, performance management framework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es, standards &amp; regul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cation of budget resourc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&amp; capacity build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arlia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everage, advocacy (especially for budgeting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tional Statistics Offic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velopment and monitoring of indicator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governmen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national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ion with local-level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for losses &amp; opportunities, risk mgm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on to sustainable investments &amp; vulnerability reduction through develop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tific &amp; academic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-oriented research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for decision mak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 promotion agen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vestments; climate-proofing of investments, bridging of development gap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 change adequately addresse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8C7A-C463-4A54-B9C0-91810E1E6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9280" y="6362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use of their expertis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 reflect local rea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ion, 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chdog ro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ch out to community leve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rass-roots level knowled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grate voices of the poores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BDE3-B2D2-45FB-BC79-A6C12D7DA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5494"/>
                </a:solidFill>
                <a:latin typeface="Verdana"/>
              </a:rPr>
              <a:t>Possible entry points for environmental mainstreaming in national development planning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831F-9C7F-4D31-8492-AC5CE22C4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381492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Poin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overnment and cross-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strategy pap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development pla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G-based national development strategy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 allocation process or review (e.g. medium-term expenditure framework, public expenditure review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strategies, plans and policies (e.g. agriculture sector plan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ector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 expenditure revie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national author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entralisation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ct pl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ubnational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rinciples for institutionalising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BC9B-0A02-4A98-917D-553DB9AF9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e coordination to a central body with a coordination mandate and decision-making power over line minis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climate chang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National Development &amp; Reform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ya: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environment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e: EPA under the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Steering Committee on Natural Resourc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2CA4-6AF7-4426-BE9F-DA68A4CC6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ish/strengthen coordination mechanisms, with clear allocation of responsibilities and permanent arran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climate change, Mexico: Inter-Ministerial Commission on Climate Change (CICC) with dedicated working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ild on pre-existing intersectoral coordination mechanisms wherever possi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food security, DRR, sustainable l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4569-96E5-4299-BF46-6459B85B6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0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flexi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commitment to regular policy/strategy revisions and reassessment of available knowled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mainstream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and climate change mitigation/adap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in guidelines, procedures, systems, environmental screening for SEA and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835F-FA03-475D-9C4C-5D2EE854A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effective national–local coordination mechanisms, identifying the most suitable level at which to cooperate/coordin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Rwanda: annual performance contracts between various levels of government, with clear definition of goals, indicators and activit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engthen institutions at the sub-national level, matching the transfer of competences with the transfer of resour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C987-6822-42F6-8CAD-54BB646DE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What is mainstreaming,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why mainstream environment and climate change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6B9A-BA02-4DE8-A80B-0C7168A43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8684-CC32-49D5-820B-7F4B672E2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ourc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ocal capac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ools and actions for supporting institutional and capacity strengthe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7A73-24E3-4668-BE31-39FBC3D50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eps in institutional and capacity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rength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6CFD-4469-47AD-93FB-4765FBE88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eed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Learning by do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Working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instreaming as standard practic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National capacity self-assess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st</a:t>
            </a:r>
            <a:r>
              <a:rPr b="1" lang="ja-JP" sz="1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 arrangemen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nagement framewor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Work pla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Training, exchange visits, on-the-job learning, lesson learning/dissemin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>
            <a:off x="3128400" y="4484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takeholder analy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capacity development for whom, for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pacity development (CD) should take plac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t three complementary level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abling environ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r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ystem level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overall institutional leve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organisation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ndividu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EC8C-FD09-4A27-A3F1-12E732B9F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tart by determining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Capacity development for what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e specific objec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eeds assessment: stakeholders</a:t>
            </a:r>
            <a:r>
              <a:rPr b="1" lang="ja-JP" sz="30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D needs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takeholder capacity build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formation systems &amp; analytical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ning &amp; prioritis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198108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rticipatory engagement &amp; empowerment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tical &amp; communic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3200400" y="51055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ing, evaluation &amp; learning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ecific technical skil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AB6E-C3AB-4E69-A608-ED0127975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Dalal-Clayton &amp; Bass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395280" y="5410080"/>
            <a:ext cx="2286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UNCTIONAL CAPACITI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59236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TECHNICAL CAPACIT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national capacity self-assess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existing or ad hoc institutional assessments, consider for all relevant organisa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 of education &amp; awareness of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ganisation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mandates &amp; functions with regard to environment- and climate-rela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fluence of climate risks on capacity to fun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, financial, legal/regulatory capacities &amp; information systems in relation to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ing, decision-making, budget allocation &amp; programming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laboration &amp; coordination structures &amp;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sessments for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6DDC-021B-4203-A732-D71AC5A5E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etting up working mechanisms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r a mainstreaming initia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e institutional arrangements (political and technical) (e.g. steering and technical committe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t up a management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dership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uman re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inancial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&amp;E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an operational work pl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4A17-8580-4E00-BE2A-25B6F4789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earning-by-doing: multipl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proach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7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l training on mainstreaming and on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pecific technical asp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change vis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the-job learning through national mainstreaming programmes, including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disciplinary tea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winning between organis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monstration proje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sson learning and dissemin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8149-1CCE-4232-88B8-01C5FD78A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is a strong case for mainstreaming environment and climate change into all development plan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are entry points for mainstreaming environment and climate change at all stages of the policy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stitutional and capacity strengthening (rooted in a good diagnosis of the strengths/weaknesses of existing structures and efforts to improve governance) is a key condition for successful mainstream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s assessment, the setting up of effective working mechanisms and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rning by doing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an support the mainstreaming proce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F1D9-D066-4EA0-8E74-54879A7C2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3170-B0DA-4A1E-89F6-6CBE91FA1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eyond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vironment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as a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protection of natural resources is a sector in its own right, but its sustainability also depends on 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erformance depends closely on the state of the environ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t does not suffice to address the environment exclusively as a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sector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 development paths need to take account of environmental sustain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tends to be an underfunded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74C2-B10D-443F-9A3A-29627B162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tion made at the SEA and IDC Conference, Halong Bay, Vietnam, 24-28 January,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A85D-CE80-427D-A4F6-055453009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mainstream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213372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the prevailing or dominant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urse, current, tendency or way of think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ing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informed integration of a relevant value, theme or concern into the decisions of institutions that drive national, local and sectoral development policy, rules, plans, investment and acti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dapted from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Institutional strengthening and chang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5f7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capacity buildin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re at the heart of any mainstreaming eff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9BBA-7E77-4FE8-A048-8F8B59B8F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s of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instreaming is a long-term, iterativ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cess aimed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ransforming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en more importantly, transforming policies, resource allocations and pract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order t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mote desired developmental outcomes (with regard to gender, environment, climate change, governance, human rights, ..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support integrated solutions to human proble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7342-6A3C-4E9B-A9DD-902F34E4F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licy framework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1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ropean Consensus on Development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icitly recognises links between development and environment and highlights need for a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“strengthened approach to mainstreaming of cross-cutting issue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enda for Change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velopment is not sustainable if it damages the environment, biodiversity and natural resources and increases the exposure/vulnerability to natural disaster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 Biodiversity Strategy to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lls to “biodiversity-proof” EC development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mework for mainstreaming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nvironment and climate chan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9D0C-DD8A-4980-B737-D4FE3DEDE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try points for mainstreaming in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e policy cyc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A336-4F2B-4656-B63B-4958A6CBD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71600" y="1523880"/>
            <a:ext cx="5913360" cy="470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 development pla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422440" y="23907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genda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 mak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tion &amp; monitor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457200" y="1600200"/>
            <a:ext cx="1752480" cy="10666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ding the entry points &amp;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804000" y="2060640"/>
            <a:ext cx="1905120" cy="114300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instreaming into policy &amp;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) Figure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inding the entry points and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ainstreaming into policy and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Preliminary assessmen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the challenges and the scien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poverty-environment and CC–development linkag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government, institutional and political contex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295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Raising awareness and building partnership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 consensus and commitment to resilient, low-carbon develop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029200"/>
            <a:ext cx="26640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eeds assess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Working mechanis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Collecting country-specific evidence and influencing policy process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Integrated ecosystem assessment; economic analysis…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(sub)national and sector policies, strategies, programm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uncertain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Developing, costing, assessing and selecting policy measures, 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029200"/>
            <a:ext cx="27432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Learning by do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Budgeting and financ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the budgetary proces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monitoring syste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Performance assessment framework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Indicators and data collec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8654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upporting policy measu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, sector and sub-national level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029200"/>
            <a:ext cx="251928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</a:t>
            </a:r>
            <a:br>
              <a:rPr sz="1500"/>
            </a:b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as standard practi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21440"/>
            <a:ext cx="6769080" cy="4316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Engaging stakeholders and coordinating within the development community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71800" y="323064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3124080" y="2697120"/>
            <a:ext cx="698760" cy="3715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69840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52456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52456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161040" y="1704960"/>
            <a:ext cx="696960" cy="3524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6161040" y="246852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ed from: UNDP-UNEP (2009) Figure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341520" y="5562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61040" y="5592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10T17:46:19Z</dcterms:modified>
  <cp:revision>120</cp:revision>
  <dc:subject/>
  <dc:title>Slide 1</dc:title>
</cp:coreProperties>
</file>