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A3D-C903-42AF-959E-A49F1CB4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D08-9275-4F8A-BDCB-1DDBC004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EC4-5AD4-4B00-AAE0-5E0753C1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A84-8ADA-4FC7-8A02-1CE7B232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486D-EE43-462D-A143-6152BA78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5E92-EE5C-44FD-A83B-AF28E254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4FB2-5A56-47B6-BE66-11E4A26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49C3-61FB-4476-AF24-F17C479D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41CE-E322-4CFE-819F-431F383E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EB92-20E9-4F90-BAD6-A2C0D7E2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A32D-BA21-4113-87AC-64631C5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CE6-5277-4C13-B957-359267D8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322A-68E2-4FCF-90A9-84E48BEC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FAEF-7347-4207-9503-E055133F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1C1B-102B-4A27-898D-20179AB7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ADF0-AE26-4F1C-BCA8-5A9B576B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4D27-7538-4C4E-9951-BEEA5967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DD4-9408-4A49-A47A-FB2B7F3C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21F-CDD8-489A-BFA6-48E489D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2B2-6B0B-4BFD-9DC5-13351F12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E1E-B2FC-4AB4-98EB-7C3547E7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EF3-13B5-4BE6-9CFF-8248FA8E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090-4445-4DBE-BCC8-C594B100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6AF-EC9A-421B-BEE0-E3E1DC9C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8DD2-8FCC-4F27-BFA9-B80680220A7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2954-0E6E-45F5-8ECF-C906D9AEF8F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水资源用途管制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中国水权的另一个视角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66680" y="34286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报告人：李祎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河海大学法学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宏观配置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全国水资源综合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流域和区域综合规划、专业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江河水量分配方案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中长期供求规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年度水量分配方案和调度计划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6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利用环节的用途管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总体要求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区域协调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） 、用水顺序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） 、多种用途、综合利用制度（《水法》第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条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具体制度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水总量控制制度、定额管理制度、计划用水制度、水工程规划同意书制度、取水审批制度、各类规划编制中的水资源论证、建设项目水资源论证制度、跨流域调水论证制度、节约用水制度、循环用水制度、水价机制、高污染、高耗水用水控制机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保护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功能区划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饮用水水源保护区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6-6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入河排污口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质保护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水污染防治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5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污染防治制度（《水污染防治法》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、制度现状及存在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水资源载体保护环节的用途管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河湖水域岸线管理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9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0-2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止围垦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40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占用补偿制度（《水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、《防洪法》第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7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条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二、新时代水资源用途管制制度发展的需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从单一的某种自然资源用途管制走向国土空间用途管制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资源的合理保护——有效利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资源保护、空间要素统筹、空间结构优化、空间效率提升、空间权利公平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然资源部的组建：打破部门藩篱和整合各部门空间责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空间规划约束机制：“多规合一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三、水资源用途管制制度的发展路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目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水资源用途管制不能片面强调资源的经济效益，而忽略对生态环境的保护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内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山水林田湖是一个生命共同体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、管制手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充分发挥市场和政府的作用，实现行政机制与市场机制相协调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、水资源用途管制的制度设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以规划为核心的水资源用途确认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分类用途管制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用途变更监管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河湖水域及岸线的空间保护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、水资源用途监测与监督机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4T12:27:42Z</dcterms:created>
  <dc:creator>李祎恒</dc:creator>
  <dc:description/>
  <dc:language>en-US</dc:language>
  <cp:lastModifiedBy>李祎恒</cp:lastModifiedBy>
  <dcterms:modified xsi:type="dcterms:W3CDTF">2018-12-14T17:45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