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73AD-B4BF-4D07-BC6F-A2345280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D349-114B-4C11-A3C5-B7785FE6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5550-0ACF-42D0-91B6-B33F73B9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664D-EA95-496E-A81F-A4545C1A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54EE-4328-42FA-81C8-27914AEB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7924-8AFB-431D-BE40-9DFF2204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8F8E-5F9F-42A0-A6F9-113065D3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E628-03AB-4B79-8FEC-E4F0D7B4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DA2C-CF1E-46CD-B301-1E956725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22F0-EA9C-455D-8EDA-273A6C22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2A32-509A-4867-8006-0EF34FDD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25F-A9B5-49A1-857B-CECEA64C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A8B9-9E2D-45DB-8F39-5F3CE30D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67F5-2379-4DF1-8C1B-F53029ED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5E6D-EC06-495C-917E-23AE5ABF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0E56-8CCE-42A3-ADE0-EC8EAA11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83D6-E476-4201-956A-310C8EF9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C81C-788B-489E-A81F-753C1FD3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9CD9-B393-4AFC-8347-89E9B77E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FA89-D75F-4083-B00E-535B7F7B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F7C-84AB-4D73-B7DF-D597D7FA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2EA-0A71-4079-8D84-F7FA619E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9C8-064D-4A22-90DB-7A2F6535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931A-AF52-453B-A17E-254F77CD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3542-2AB5-4DD8-9FF0-7688326EF1CF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E927-9C7B-47B4-B5E8-8C1AACE0320A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水资源用途管制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中国水权的另一个视角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66680" y="342864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报告人：李祎恒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河海大学法学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、制度现状及存在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水资源宏观配置环节的用途管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全国水资源综合规划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流域和区域综合规划、专业规划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江河水量分配方案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水中长期供求规划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年度水量分配方案和调度计划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6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、制度现状及存在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水资源利用环节的用途管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总体要求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区域协调制度（《水法》第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条） 、用水顺序制度（《水法》第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条） 、多种用途、综合利用制度（《水法》第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6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条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具体制度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水总量控制制度、定额管理制度、计划用水制度、水工程规划同意书制度、取水审批制度、各类规划编制中的水资源论证、建设项目水资源论证制度、跨流域调水论证制度、节约用水制度、循环用水制度、水价机制、高污染、高耗水用水控制机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、制度现状及存在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水资源保护环节的用途管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水功能区划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饮用水水源保护区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水污染防治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56-6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入河排污口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水污染防治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7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6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水质保护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水污染防治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水污染防治制度（《水污染防治法》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、制度现状及存在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水资源载体保护环节的用途管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河湖水域岸线管理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9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防洪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0-2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止围垦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防洪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占用补偿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防洪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7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二、新时代水资源用途管制制度发展的需求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从单一的某种自然资源用途管制走向国土空间用途管制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空间资源的合理保护——有效利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空间资源保护、空间要素统筹、空间结构优化、空间效率提升、空间权利公平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自然资源部的组建：打破部门藩篱和整合各部门空间责权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空间规划约束机制：“多规合一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三、水资源用途管制制度的发展路径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管制目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水资源用途管制不能片面强调资源的经济效益，而忽略对生态环境的保护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管制内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山水林田湖是一个生命共同体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管制手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充分发挥市场和政府的作用，实现行政机制与市场机制相协调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四、水资源用途管制的制度设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以规划为核心的水资源用途确认机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水资源分类用途管制机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水资源用途变更监管机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河湖水域及岸线的空间保护机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水资源用途监测与监督机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4T12:27:42Z</dcterms:created>
  <dc:creator>李祎恒</dc:creator>
  <dc:description/>
  <dc:language>en-US</dc:language>
  <cp:lastModifiedBy>李祎恒</cp:lastModifiedBy>
  <dcterms:modified xsi:type="dcterms:W3CDTF">2018-12-14T17:45:3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