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056D-549A-4B38-A161-9FBE5EB4CD2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1B94-E70C-4DE4-9580-55333EAE0F0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12C2-0796-4997-A3E7-BE7CC723DD68}" type="datetime">
              <a:rPr b="0" lang="en-US" sz="1200" spc="-1" strike="noStrike">
                <a:solidFill>
                  <a:srgbClr val="ffffff"/>
                </a:solidFill>
                <a:latin typeface="Verdana"/>
              </a:rPr>
              <a:t>07/29/26</a:t>
            </a:fld>
            <a:r>
              <a:rPr b="0" lang="en-US" sz="1200" spc="-1" strike="noStrike">
                <a:solidFill>
                  <a:srgbClr val="ffffff"/>
                </a:solidFill>
                <a:latin typeface="Verdana"/>
              </a:rPr>
              <a:t> </a:t>
            </a:r>
            <a:fld id="{A3DAC1AF-AFEC-4B9F-A00B-EB00AD22F8A4}"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4486-2303-46C1-AC97-9C94B12CA1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27F3-3D2B-43E2-ADBC-F18341AF4B25}" type="datetime">
              <a:rPr b="0" lang="en-US" sz="1200" spc="-1" strike="noStrike">
                <a:solidFill>
                  <a:srgbClr val="ffffff"/>
                </a:solidFill>
                <a:latin typeface="Verdana"/>
              </a:rPr>
              <a:t>07/29/26</a:t>
            </a:fld>
            <a:r>
              <a:rPr b="0" lang="en-US" sz="1200" spc="-1" strike="noStrike">
                <a:solidFill>
                  <a:srgbClr val="ffffff"/>
                </a:solidFill>
                <a:latin typeface="Verdana"/>
              </a:rPr>
              <a:t> </a:t>
            </a:r>
            <a:fld id="{4573D495-C3E9-40DB-8DFC-CEE46FED5ACC}"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F73F-C63D-4E13-9D4C-D1FECF76F5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F8B8-CBA6-4C67-8550-FAB62E2634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1D0D-C33F-45EF-9CA6-7952B3B4CD96}" type="datetime">
              <a:rPr b="0" lang="en-US" sz="1200" spc="-1" strike="noStrike">
                <a:solidFill>
                  <a:srgbClr val="ffffff"/>
                </a:solidFill>
                <a:latin typeface="Verdana"/>
              </a:rPr>
              <a:t>07/29/26</a:t>
            </a:fld>
            <a:r>
              <a:rPr b="0" lang="en-US" sz="1200" spc="-1" strike="noStrike">
                <a:solidFill>
                  <a:srgbClr val="ffffff"/>
                </a:solidFill>
                <a:latin typeface="Verdana"/>
              </a:rPr>
              <a:t> </a:t>
            </a:r>
            <a:fld id="{603D0F57-72BC-433E-BF1C-C77E8EAEEA7B}"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8812-7F77-404D-9DBA-CB200B0AF94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997B-0035-48DA-AF15-0A8A7DA3BC0D}" type="datetime">
              <a:rPr b="0" lang="en-US" sz="1200" spc="-1" strike="noStrike">
                <a:solidFill>
                  <a:srgbClr val="ffffff"/>
                </a:solidFill>
                <a:latin typeface="Verdana"/>
              </a:rPr>
              <a:t>07/29/26</a:t>
            </a:fld>
            <a:r>
              <a:rPr b="0" lang="en-US" sz="1200" spc="-1" strike="noStrike">
                <a:solidFill>
                  <a:srgbClr val="ffffff"/>
                </a:solidFill>
                <a:latin typeface="Verdana"/>
              </a:rPr>
              <a:t> </a:t>
            </a:r>
            <a:fld id="{189779CB-05E3-48FB-883D-B355BE25CC73}"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494D-283D-471E-9715-A2AE9127180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17FD-ECCA-4A6C-AFA1-08B4B3FF04EC}" type="datetime">
              <a:rPr b="0" lang="en-US" sz="1200" spc="-1" strike="noStrike">
                <a:solidFill>
                  <a:srgbClr val="ffffff"/>
                </a:solidFill>
                <a:latin typeface="Verdana"/>
              </a:rPr>
              <a:t>07/29/26</a:t>
            </a:fld>
            <a:r>
              <a:rPr b="0" lang="en-US" sz="1200" spc="-1" strike="noStrike">
                <a:solidFill>
                  <a:srgbClr val="ffffff"/>
                </a:solidFill>
                <a:latin typeface="Verdana"/>
              </a:rPr>
              <a:t> </a:t>
            </a:r>
            <a:fld id="{79221A3E-4AAA-42A8-8C35-FE39D23E35D0}"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1D0E-40FF-4828-A3A1-8FC4E8E127D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663D-2817-4630-B339-7C26E80A6B0F}" type="datetime">
              <a:rPr b="0" lang="en-US" sz="1200" spc="-1" strike="noStrike">
                <a:solidFill>
                  <a:srgbClr val="ffffff"/>
                </a:solidFill>
                <a:latin typeface="Verdana"/>
              </a:rPr>
              <a:t>07/29/26</a:t>
            </a:fld>
            <a:r>
              <a:rPr b="0" lang="en-US" sz="1200" spc="-1" strike="noStrike">
                <a:solidFill>
                  <a:srgbClr val="ffffff"/>
                </a:solidFill>
                <a:latin typeface="Verdana"/>
              </a:rPr>
              <a:t> </a:t>
            </a:r>
            <a:fld id="{D217F2EF-7CF9-4849-AA27-4CC145DC47F9}"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16D5-741C-4F1E-A835-956278F2AC4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3BA7-CA06-46F2-B580-86E8F7E948E8}" type="datetime">
              <a:rPr b="0" lang="en-US" sz="1200" spc="-1" strike="noStrike">
                <a:solidFill>
                  <a:srgbClr val="ffffff"/>
                </a:solidFill>
                <a:latin typeface="Verdana"/>
              </a:rPr>
              <a:t>07/29/26</a:t>
            </a:fld>
            <a:r>
              <a:rPr b="0" lang="en-US" sz="1200" spc="-1" strike="noStrike">
                <a:solidFill>
                  <a:srgbClr val="ffffff"/>
                </a:solidFill>
                <a:latin typeface="Verdana"/>
              </a:rPr>
              <a:t> </a:t>
            </a:r>
            <a:fld id="{ADB6CF13-5E0E-4E82-8B8A-85BDCA87DBCF}"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936A-CF63-4438-A810-5DAD28BB05E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4512-0A19-4B43-99E7-BD1476AEEF1E}" type="datetime">
              <a:rPr b="0" lang="en-US" sz="1200" spc="-1" strike="noStrike">
                <a:solidFill>
                  <a:srgbClr val="ffffff"/>
                </a:solidFill>
                <a:latin typeface="Verdana"/>
              </a:rPr>
              <a:t>07/29/26</a:t>
            </a:fld>
            <a:r>
              <a:rPr b="0" lang="en-US" sz="1200" spc="-1" strike="noStrike">
                <a:solidFill>
                  <a:srgbClr val="ffffff"/>
                </a:solidFill>
                <a:latin typeface="Verdana"/>
              </a:rPr>
              <a:t> </a:t>
            </a:r>
            <a:fld id="{8D0FBEE7-F13C-4853-8667-BA3CF66AAAA1}"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9A33-59FF-4E73-B75D-DFF5DE6DC0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E746-03D1-4B01-836B-6AC379D1B4D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B1CF-B59E-4444-8A8F-7191CF3183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A1E9-72D7-4760-97A9-1E1148027B0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530D-B42C-4E33-B08F-C986032415F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2A00-6A1F-414A-BA57-496FFA46E40D}" type="datetime">
              <a:rPr b="0" lang="en-US" sz="1200" spc="-1" strike="noStrike">
                <a:solidFill>
                  <a:srgbClr val="ffffff"/>
                </a:solidFill>
                <a:latin typeface="Verdana"/>
              </a:rPr>
              <a:t>07/29/26</a:t>
            </a:fld>
            <a:r>
              <a:rPr b="0" lang="en-US" sz="1200" spc="-1" strike="noStrike">
                <a:solidFill>
                  <a:srgbClr val="ffffff"/>
                </a:solidFill>
                <a:latin typeface="Verdana"/>
              </a:rPr>
              <a:t> </a:t>
            </a:r>
            <a:fld id="{7754ADAC-195A-4F96-B10E-BE68BF543816}"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4CCB-1BC4-4C12-8171-3A63E92C9A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C118-0379-4883-A621-8DCE8E3331FA}" type="datetime">
              <a:rPr b="0" lang="en-US" sz="1200" spc="-1" strike="noStrike">
                <a:solidFill>
                  <a:srgbClr val="ffffff"/>
                </a:solidFill>
                <a:latin typeface="Verdana"/>
              </a:rPr>
              <a:t>07/29/26</a:t>
            </a:fld>
            <a:r>
              <a:rPr b="0" lang="en-US" sz="1200" spc="-1" strike="noStrike">
                <a:solidFill>
                  <a:srgbClr val="ffffff"/>
                </a:solidFill>
                <a:latin typeface="Verdana"/>
              </a:rPr>
              <a:t> </a:t>
            </a:r>
            <a:fld id="{AA532129-EC1C-4090-AD4C-147714380359}"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BDDA-EB3B-4EEB-9017-AEA0FE95238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9DB8-EA38-4184-9664-EA8B5DE4064A}" type="datetime">
              <a:rPr b="0" lang="en-US" sz="1200" spc="-1" strike="noStrike">
                <a:solidFill>
                  <a:srgbClr val="ffffff"/>
                </a:solidFill>
                <a:latin typeface="Verdana"/>
              </a:rPr>
              <a:t>07/29/26</a:t>
            </a:fld>
            <a:r>
              <a:rPr b="0" lang="en-US" sz="1200" spc="-1" strike="noStrike">
                <a:solidFill>
                  <a:srgbClr val="ffffff"/>
                </a:solidFill>
                <a:latin typeface="Verdana"/>
              </a:rPr>
              <a:t> </a:t>
            </a:r>
            <a:fld id="{5EF471BE-980B-4065-A76F-BA1F8B240AF9}" type="datetime10">
              <a:rPr b="0" lang="en-US" sz="1200" spc="-1" strike="noStrike">
                <a:solidFill>
                  <a:srgbClr val="ffffff"/>
                </a:solidFill>
                <a:latin typeface="Verdana"/>
              </a:rPr>
              <a:t>17:57</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A2DD-E177-4073-98F1-F4380D00B9B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EFDAF-8562-4677-B56C-2123F0210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F1C7A-E170-4189-A3E1-58666533F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714A9-2813-4421-A1C8-F88A0AF9F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95616-F3DB-4E6C-8035-EB151C745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541B0-39BE-436B-85C1-D5E3A80E0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4CB9B-51E9-4BF6-9095-BD4C217F5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5737F-9B1E-4236-B0D9-B685FB1AF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26CAA-3BB4-42A1-823C-946FE1246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6A57A-7C9B-4894-B2EA-93E69EE6F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14CC1-91BC-41A6-989B-5C65DECF3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87733-5DE0-4F14-99E3-95BD16C9E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4254A-936E-4197-BFF0-019E2E06E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A8FA1-100C-4775-AA84-8734B908A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955F4-AD3B-426F-937F-176AA7A3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E6CF-9EFA-4794-AEE5-DA41F0969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1FA9B-B50B-4F28-93B1-2FB68002C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FF4C3-E467-405A-8A68-2CA2509BD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BFAB8-C75D-4904-8478-9C4ACBBA9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7764-258F-4615-9265-BEEE80261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DC91-E309-4153-B89F-5230DE32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73719-F7B7-4D72-B41F-0BC925DED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C3530-CCDA-4B48-B28C-2172C4F2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5487-FD09-4D31-A6B5-DA9F93C1F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947F-F6B7-4711-ABDD-603515318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A234-8567-426E-B1A7-307F9C396D6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2BC3-1E85-4299-B966-40AE3745016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94A4-02B6-4CF5-943E-BA8CE872725B}"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