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F92A-2BCD-4AE5-83CB-96E0BEA538A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AC85A-E860-4976-813C-176B7FEDE6F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7065-5869-490B-BD00-57151849624E}" type="datetime">
              <a:rPr b="0" lang="en-US" sz="1200" spc="-1" strike="noStrike">
                <a:solidFill>
                  <a:srgbClr val="ffffff"/>
                </a:solidFill>
                <a:latin typeface="Verdana"/>
              </a:rPr>
              <a:t>07/30/26</a:t>
            </a:fld>
            <a:r>
              <a:rPr b="0" lang="en-US" sz="1200" spc="-1" strike="noStrike">
                <a:solidFill>
                  <a:srgbClr val="ffffff"/>
                </a:solidFill>
                <a:latin typeface="Verdana"/>
              </a:rPr>
              <a:t> </a:t>
            </a:r>
            <a:fld id="{48BD07DD-CA1B-4022-9212-F2346CDB9E77}"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E273-51A9-4321-8039-863DFB56EAC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8C457-0B1D-48AC-A2B7-F39514C92CD3}" type="datetime">
              <a:rPr b="0" lang="en-US" sz="1200" spc="-1" strike="noStrike">
                <a:solidFill>
                  <a:srgbClr val="ffffff"/>
                </a:solidFill>
                <a:latin typeface="Verdana"/>
              </a:rPr>
              <a:t>07/30/26</a:t>
            </a:fld>
            <a:r>
              <a:rPr b="0" lang="en-US" sz="1200" spc="-1" strike="noStrike">
                <a:solidFill>
                  <a:srgbClr val="ffffff"/>
                </a:solidFill>
                <a:latin typeface="Verdana"/>
              </a:rPr>
              <a:t> </a:t>
            </a:r>
            <a:fld id="{B5BD78CD-10DC-429D-B1C3-4C23FB618E4B}"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5F29-CA75-4239-947A-E1D9378476E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D5FE7-86C8-4B4D-8C77-C48FCFECE51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24A8D-FAB1-4ACE-9A97-B83C6633FF63}" type="datetime">
              <a:rPr b="0" lang="en-US" sz="1200" spc="-1" strike="noStrike">
                <a:solidFill>
                  <a:srgbClr val="ffffff"/>
                </a:solidFill>
                <a:latin typeface="Verdana"/>
              </a:rPr>
              <a:t>07/30/26</a:t>
            </a:fld>
            <a:r>
              <a:rPr b="0" lang="en-US" sz="1200" spc="-1" strike="noStrike">
                <a:solidFill>
                  <a:srgbClr val="ffffff"/>
                </a:solidFill>
                <a:latin typeface="Verdana"/>
              </a:rPr>
              <a:t> </a:t>
            </a:r>
            <a:fld id="{C2794F8B-1594-4B28-9D9B-15B8F0AD4501}"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EB579-8934-42DC-ADF6-F5A04BB4469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108B-FD4B-4B5D-8530-E3FABB7F18B5}" type="datetime">
              <a:rPr b="0" lang="en-US" sz="1200" spc="-1" strike="noStrike">
                <a:solidFill>
                  <a:srgbClr val="ffffff"/>
                </a:solidFill>
                <a:latin typeface="Verdana"/>
              </a:rPr>
              <a:t>07/30/26</a:t>
            </a:fld>
            <a:r>
              <a:rPr b="0" lang="en-US" sz="1200" spc="-1" strike="noStrike">
                <a:solidFill>
                  <a:srgbClr val="ffffff"/>
                </a:solidFill>
                <a:latin typeface="Verdana"/>
              </a:rPr>
              <a:t> </a:t>
            </a:r>
            <a:fld id="{4A903B0E-0BD5-43B2-A19A-CA286764FFC1}"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F780E-4B32-4F7F-8DE0-776140EF58A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6AA9-50D6-4DDC-A19D-930B9B97AA66}" type="datetime">
              <a:rPr b="0" lang="en-US" sz="1200" spc="-1" strike="noStrike">
                <a:solidFill>
                  <a:srgbClr val="ffffff"/>
                </a:solidFill>
                <a:latin typeface="Verdana"/>
              </a:rPr>
              <a:t>07/30/26</a:t>
            </a:fld>
            <a:r>
              <a:rPr b="0" lang="en-US" sz="1200" spc="-1" strike="noStrike">
                <a:solidFill>
                  <a:srgbClr val="ffffff"/>
                </a:solidFill>
                <a:latin typeface="Verdana"/>
              </a:rPr>
              <a:t> </a:t>
            </a:r>
            <a:fld id="{B6588398-4988-4044-8C35-8B1BBB5667B6}"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7EF5D-898C-4405-8630-4050018A36D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EC556-F262-4422-98C6-61D98CF03612}" type="datetime">
              <a:rPr b="0" lang="en-US" sz="1200" spc="-1" strike="noStrike">
                <a:solidFill>
                  <a:srgbClr val="ffffff"/>
                </a:solidFill>
                <a:latin typeface="Verdana"/>
              </a:rPr>
              <a:t>07/30/26</a:t>
            </a:fld>
            <a:r>
              <a:rPr b="0" lang="en-US" sz="1200" spc="-1" strike="noStrike">
                <a:solidFill>
                  <a:srgbClr val="ffffff"/>
                </a:solidFill>
                <a:latin typeface="Verdana"/>
              </a:rPr>
              <a:t> </a:t>
            </a:r>
            <a:fld id="{84AF1A6C-0764-4F70-8AF4-30E9D20DDDD5}"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4BDB0-1BD8-4F53-8D97-7FD4396D9CB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63B4A-831E-40D2-8DE6-3C9D1323D3CA}" type="datetime">
              <a:rPr b="0" lang="en-US" sz="1200" spc="-1" strike="noStrike">
                <a:solidFill>
                  <a:srgbClr val="ffffff"/>
                </a:solidFill>
                <a:latin typeface="Verdana"/>
              </a:rPr>
              <a:t>07/30/26</a:t>
            </a:fld>
            <a:r>
              <a:rPr b="0" lang="en-US" sz="1200" spc="-1" strike="noStrike">
                <a:solidFill>
                  <a:srgbClr val="ffffff"/>
                </a:solidFill>
                <a:latin typeface="Verdana"/>
              </a:rPr>
              <a:t> </a:t>
            </a:r>
            <a:fld id="{57251904-92F9-4F50-A290-1ED1A0A094DB}"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7F98-2B98-401F-BADD-4590BFAFF95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5C4EF-45F9-4BF4-BA60-347676214B0F}" type="datetime">
              <a:rPr b="0" lang="en-US" sz="1200" spc="-1" strike="noStrike">
                <a:solidFill>
                  <a:srgbClr val="ffffff"/>
                </a:solidFill>
                <a:latin typeface="Verdana"/>
              </a:rPr>
              <a:t>07/30/26</a:t>
            </a:fld>
            <a:r>
              <a:rPr b="0" lang="en-US" sz="1200" spc="-1" strike="noStrike">
                <a:solidFill>
                  <a:srgbClr val="ffffff"/>
                </a:solidFill>
                <a:latin typeface="Verdana"/>
              </a:rPr>
              <a:t> </a:t>
            </a:r>
            <a:fld id="{C148F4FD-A66D-485F-8C13-3990FA7D400E}"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2E93-3101-4BA8-8F33-0948C08DF4F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6D1E-7FDF-44A2-BBB0-F20ECF90FA9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6361-2080-4A4D-904A-CE456CC4127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07612-2852-41E0-9512-A52BE2DCD3F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76543-5FCC-4223-B0EE-DFDD8A82B74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2F95-0C3B-4D67-95A3-31A0085B00AC}" type="datetime">
              <a:rPr b="0" lang="en-US" sz="1200" spc="-1" strike="noStrike">
                <a:solidFill>
                  <a:srgbClr val="ffffff"/>
                </a:solidFill>
                <a:latin typeface="Verdana"/>
              </a:rPr>
              <a:t>07/30/26</a:t>
            </a:fld>
            <a:r>
              <a:rPr b="0" lang="en-US" sz="1200" spc="-1" strike="noStrike">
                <a:solidFill>
                  <a:srgbClr val="ffffff"/>
                </a:solidFill>
                <a:latin typeface="Verdana"/>
              </a:rPr>
              <a:t> </a:t>
            </a:r>
            <a:fld id="{27071524-D733-461B-8073-B5DA77897340}"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77C8-7712-42BF-AD0D-E14B445CAC8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2B3B3-DDF6-4273-9D0F-DED0DFCBB6A4}" type="datetime">
              <a:rPr b="0" lang="en-US" sz="1200" spc="-1" strike="noStrike">
                <a:solidFill>
                  <a:srgbClr val="ffffff"/>
                </a:solidFill>
                <a:latin typeface="Verdana"/>
              </a:rPr>
              <a:t>07/30/26</a:t>
            </a:fld>
            <a:r>
              <a:rPr b="0" lang="en-US" sz="1200" spc="-1" strike="noStrike">
                <a:solidFill>
                  <a:srgbClr val="ffffff"/>
                </a:solidFill>
                <a:latin typeface="Verdana"/>
              </a:rPr>
              <a:t> </a:t>
            </a:r>
            <a:fld id="{D2966E05-AC07-4B67-B612-4539351BBCF4}"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176AF-890F-44DC-AD9D-E3A8DC95406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356B3-61D5-487B-9841-5C9C74A208C7}" type="datetime">
              <a:rPr b="0" lang="en-US" sz="1200" spc="-1" strike="noStrike">
                <a:solidFill>
                  <a:srgbClr val="ffffff"/>
                </a:solidFill>
                <a:latin typeface="Verdana"/>
              </a:rPr>
              <a:t>07/30/26</a:t>
            </a:fld>
            <a:r>
              <a:rPr b="0" lang="en-US" sz="1200" spc="-1" strike="noStrike">
                <a:solidFill>
                  <a:srgbClr val="ffffff"/>
                </a:solidFill>
                <a:latin typeface="Verdana"/>
              </a:rPr>
              <a:t> </a:t>
            </a:r>
            <a:fld id="{1E22853F-83C6-4AA1-9624-9B4B40E42040}"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0F10-9C0F-4E18-9BEB-46F34089F58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EB2B9-C6FE-4A51-B884-9E69D35F7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9C22E-161D-4DCD-86B5-2A358E696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D4D1E-9D5F-4A2D-879E-53812B5D7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E9CD9-8676-4099-9F61-A6ED15FBE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A1172-DC2B-4555-BE45-64D270479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16770-D2DF-4AF1-A75A-6FC74A262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734FB-3620-4AFC-B3F4-A05B40A86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76FBD-F024-4CE2-973C-25037F448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6E4AC-E9EF-4B2D-AC73-B61C62EC1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37AD8-3221-45C9-AD12-7F887F21E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38AED-8D6C-404F-8838-9EA61EC4C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15DB0-D99E-4876-A2B4-7BD1629D9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1D675-8F37-4697-82D2-9C385A099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99039-C0E5-497F-B658-63ECA5066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AB133-266F-426A-A6C7-65B37B284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E7F86B-DCF8-47F0-B4D3-AA38D6C7F6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B3D918-203E-47BC-AB08-730FC4E1A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3B8E9-2E26-4864-837C-293DEF9B2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055AC-467C-4345-8C63-C882E8EDC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27C2B-D569-4CDD-B8ED-D04F30F5A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7174B-509A-4389-96BD-787A43047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EB16B-D178-42E8-9206-27F697F69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7667B-2D12-4C92-9AD0-232388B29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39BC5-EE21-4A20-B5BC-37DFCC6CC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3641-01B9-4067-A94F-5BBBD699643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11B8-F9D7-4BA4-8E63-02574596FE8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B3AF-0A1D-4C14-8C9D-78974B49FD2A}"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