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29F9-AF11-4EF0-B773-28B9E8A8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FF63-47CC-4BD0-A53D-398CA873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1BEA-D07D-4F79-87AB-3F39692E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1C5C-A1DE-49CE-8545-6F28584EE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DB34-69E8-4A02-BC04-F50E6E2C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99B9-ADA3-4E94-AD74-439AB261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D6DD-4596-45A6-8765-9A2F07F6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CBA6-2717-4CA7-856E-E637FDFE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CE01-986B-4AAC-85A9-B95E1961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3331-658F-431D-B96D-E746F150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0CD1-A67C-4847-A980-669F9CE0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0FAD-BA80-46EA-A781-CE9D4C13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D14D-0CB4-4530-BEBD-8827DBE29D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1777-1B0B-40D0-A5E4-94229B924D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Week 201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st Effects of a Lack of Spatial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ld 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40D4-225B-4274-9779-1F0F617428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ng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is new infrastructure financ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 the larger community pay (taxes on existing residents to provide services to new residents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residents of the new community pa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ment Charges = entry fee for urban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siest when you have greenfield and organized develop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ill possible when there are multiple ow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en still possible for servicing in-si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173A-D026-407C-A3DC-6B0267CC6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, Choices, and Trade-Off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charges make explicit the cost of providing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 expensive?  There is a choi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 another 10 or 20 years for someone else to pay for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 and pay for services that you can enjoy now and that increases the value of the prop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1EB1-5AA3-4E17-8CD5-8B9FC787D2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ase of Water Supp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and sanitation is the most difficult and expensive infrastructure to prov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Co is one of the better utilities in Africa, but it doesn’t generate enough excess funds through existing tariffs to pay for major network exten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’t “pre-invest” in new development areas without up-front ca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421B-AB07-4420-A380-FF1321DF6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s of funding for water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entral government or local authority – to service a specific industrial or residential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tside donors – to provide services to underserved areas, at concessional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mal real estate developers?  Effectively paying development charge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ganized communities?  Pooling or raising fund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468A-C053-49F9-A15D-9734C0E28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B357-E660-41DE-A6C7-BD10940C42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DF28-73DE-46DF-A95B-2B00CB0328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roduction and Characteristics of Urban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wnership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erty marketability and transfer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ail financial sector / willingness to l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of urban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characteristics of urban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2470-7EEA-4D4B-BDDC-3937C652D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mpressions of Mase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fficult to draw conclusions about Maseru and envir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limited planning; some haphazard grow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“leapfrog”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x of housing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road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A1DA-90F1-4138-9A2E-AD8DF062CD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l defin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sion of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ractice: the addition of new resi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aw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 cause and consequence of a lack of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D85B-B3C5-4844-83D1-FF1BFD42B3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cope of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e:  roads and paths, water and sanitation, solid waste management, public ligh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:  schools, health clinics, space for places of wo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nities: parks, places for civic gathering, playgr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sion of (and financing of)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A888-42AA-494C-A5AE-AB42D2405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 of Unplanned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resid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ime and monetary costs for transportation and fo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d mo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or safety and secu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unclear costs with respect to electricity and solid waste managemen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service providers for later retrofit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ularly high for water and sanitation serv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8DF5-D4EF-4B92-9B7B-1E3474AD8C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 incidental benefits of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 (or lack of density) means that existing sanitation is accep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lth effects of poor sanitation are relatively mi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isible mix in the quality of housing = neighborhoods are not limited to a single incom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CD61-5358-4561-B85A-5F743CA4E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asuring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alu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 the value of serviced land vs. unserviced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competitive property market, this is the value that society places on thos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ay or may not be a good approximation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providing those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seru, cost &gt;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 the state of affairs (and wait…), 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to reduce the costs of provid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4645-D098-41B1-A78F-DB144AB0C6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nning for Grow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ing ahead for grow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e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human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arent, enforceable land-use reg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dible and transparent way to convert land from non-urban to urban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ly transferable land r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7528-0E95-41F8-825B-DF16F59941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2:43:31Z</dcterms:created>
  <dc:creator>wb112884</dc:creator>
  <dc:description/>
  <dc:language>en-US</dc:language>
  <cp:lastModifiedBy>new</cp:lastModifiedBy>
  <dcterms:modified xsi:type="dcterms:W3CDTF">2011-04-05T09:09:27Z</dcterms:modified>
  <cp:revision>16</cp:revision>
  <dc:subject/>
  <dc:title>Slide 1</dc:title>
</cp:coreProperties>
</file>