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2AE0-00D6-42DB-896A-0788DEF86E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0883-5E35-4DA9-A854-2B07E510383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6179-1DC5-464F-95D6-EFDA3E6451A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7229-306D-42A5-AFA2-F304B6611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DF4E-19F0-4B2F-BF7F-5AEECE2E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A540-97E2-4E70-AE90-EA5F2324B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6FBF-D806-4BDD-9F0E-78939227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3FB4-66A6-4206-BA0C-63FAA9296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3AFF-C8B8-4EB5-ACA5-5A39C3B8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98F7-36FD-45F3-9B34-2DCEC117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77C3-1ACE-4232-83DD-A3DB9264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73D3-CD6C-49F4-9926-3892B5D6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EE72-8B53-453D-BDA1-F51A787D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425E-81F1-4D8E-86A9-B87F4D94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7F35-BF09-42E1-B60F-AF9A85B7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C543-9854-49D8-91DF-F1F4435F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F26C-6AFE-434C-9A7C-C76F038A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2CD7-C8A1-4F3D-83C6-46DFF794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4AD2-B580-4EF7-A273-D1F5088CE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59F9-387E-41B0-A89E-998D120A3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CB29-62AC-4F87-98A3-104A614C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94DD-510F-4E34-ADD3-71F31EE8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FB6B-65EE-4B4A-9438-1ED5457E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D29A-9189-476A-9053-FA6F2640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B669-A94A-494C-BB8E-A6DA28B5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5393-53DB-4DA5-B864-43859B68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E59A-702B-4973-B7BB-CECB85D4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F542-F300-484E-AEE6-F51AA31AA0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1314-9923-4544-AFDA-46F91D7BAC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Lesotho Water Week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emin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hakoe Clu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eru,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pril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: E. M. Les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6179-A033-4CB1-962E-6A5C9B9A841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"/>
          <p:cNvSpPr/>
          <p:nvPr/>
        </p:nvSpPr>
        <p:spPr>
          <a:xfrm>
            <a:off x="247680" y="1371600"/>
            <a:ext cx="1733400" cy="1202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EAR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,264,0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283360" y="76212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06,8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4210200" y="114300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93,2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714840" y="198108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95,3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724120" y="2666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613,6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898640" y="342900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75,6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2394000" y="4952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52,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3054240" y="58672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4,2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733400" y="44956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82,8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47680" y="304920"/>
            <a:ext cx="3137040" cy="916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OWLANDS WATER SCHEME TARGETTED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HOW TO IMPLEMENT THE SECTOR BUDGET SUPPORT: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2164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gal and regulation: EDF-ACP Cotonou Agreemen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ancial regulation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rules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21644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ctor Budget Support  (SBS) and calendar:</a:t>
            </a:r>
            <a:br>
              <a:rPr sz="28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sbursement is foreseen for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¼ of FY following joint revie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280" y="2590920"/>
          <a:ext cx="8839440" cy="4082760"/>
        </p:xfrm>
        <a:graphic>
          <a:graphicData uri="http://schemas.openxmlformats.org/drawingml/2006/table">
            <a:tbl>
              <a:tblPr/>
              <a:tblGrid>
                <a:gridCol w="2127240"/>
                <a:gridCol w="1473480"/>
                <a:gridCol w="1473120"/>
                <a:gridCol w="1228680"/>
                <a:gridCol w="1063440"/>
                <a:gridCol w="147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mounts in M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1/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2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3/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O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xed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 for monitoring and sector dialog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rogram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57200" y="762120"/>
          <a:ext cx="8534520" cy="541008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54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5"/>
          <p:cNvSpPr/>
          <p:nvPr/>
        </p:nvSpPr>
        <p:spPr>
          <a:xfrm>
            <a:off x="2286000" y="990720"/>
            <a:ext cx="4648320" cy="289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ARTNER COUNRY’S CENTRAL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514600" y="1981080"/>
            <a:ext cx="16002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Foreign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serve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4800600" y="1905120"/>
            <a:ext cx="16765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reas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533520" y="198108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x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ssistance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09480" y="4648320"/>
            <a:ext cx="3505320" cy="1218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ditions for disburs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General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pecific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1828800" y="5181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4952880" y="4648320"/>
            <a:ext cx="358164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Budget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hrough partner country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ublic Financial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wn Arrow 14"/>
          <p:cNvSpPr/>
          <p:nvPr/>
        </p:nvSpPr>
        <p:spPr>
          <a:xfrm>
            <a:off x="5715000" y="335268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Up Arrow 15"/>
          <p:cNvSpPr/>
          <p:nvPr/>
        </p:nvSpPr>
        <p:spPr>
          <a:xfrm>
            <a:off x="1752480" y="2971800"/>
            <a:ext cx="228600" cy="1523880"/>
          </a:xfrm>
          <a:prstGeom prst="up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7467480" y="182880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ax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non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Arrow 12"/>
          <p:cNvSpPr/>
          <p:nvPr/>
        </p:nvSpPr>
        <p:spPr>
          <a:xfrm>
            <a:off x="1905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eft Arrow 17"/>
          <p:cNvSpPr/>
          <p:nvPr/>
        </p:nvSpPr>
        <p:spPr>
          <a:xfrm>
            <a:off x="6629400" y="2057400"/>
            <a:ext cx="762120" cy="48420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ight Arrow 18"/>
          <p:cNvSpPr/>
          <p:nvPr/>
        </p:nvSpPr>
        <p:spPr>
          <a:xfrm>
            <a:off x="4191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25"/>
          <p:cNvSpPr/>
          <p:nvPr/>
        </p:nvSpPr>
        <p:spPr>
          <a:xfrm>
            <a:off x="2286000" y="1447920"/>
            <a:ext cx="4648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088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FBA4-0313-4347-93C3-D180D7B16A8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75960"/>
            <a:ext cx="8496360" cy="3985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Foundations &amp; Building Blocks Being Put in 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0" y="5676840"/>
            <a:ext cx="9144000" cy="943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Industrial Wastewater Management Policy, Water and Sanitation Policy, Water Act-2008, After-Care-Strategy, Interim Strategy for Water and Sanitation Sector, other laws establishing Government Agencies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28600" y="312408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H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419720" y="457200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OCAL GOVERNMENT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419720" y="327672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OTHER GOVERNMENT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676520" y="2133720"/>
            <a:ext cx="1828800" cy="660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HWC (LESOTH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28600" y="365760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676520" y="4343400"/>
            <a:ext cx="2616120" cy="1227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DONOR COMMUNITY: TECHNICAL ASSI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676520" y="3009960"/>
            <a:ext cx="2590560" cy="943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NGOs: (TRC, WORLD VISION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733920" y="2133720"/>
            <a:ext cx="2057400" cy="660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228600" y="411480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6819840" y="3733920"/>
            <a:ext cx="201924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WAS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MS Gothic"/>
              </a:rPr>
              <a:t>(WAS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ext Box 13" descr=""/>
          <p:cNvPicPr/>
          <p:nvPr/>
        </p:nvPicPr>
        <p:blipFill>
          <a:blip r:embed="rId1"/>
          <a:stretch/>
        </p:blipFill>
        <p:spPr>
          <a:xfrm>
            <a:off x="6808680" y="4522680"/>
            <a:ext cx="2043360" cy="1055880"/>
          </a:xfrm>
          <a:prstGeom prst="rect">
            <a:avLst/>
          </a:prstGeom>
          <a:ln w="0">
            <a:noFill/>
          </a:ln>
        </p:spPr>
      </p:pic>
      <p:pic>
        <p:nvPicPr>
          <p:cNvPr id="105" name="Text Box 14" descr=""/>
          <p:cNvPicPr/>
          <p:nvPr/>
        </p:nvPicPr>
        <p:blipFill>
          <a:blip r:embed="rId2"/>
          <a:stretch/>
        </p:blipFill>
        <p:spPr>
          <a:xfrm>
            <a:off x="5815080" y="2084400"/>
            <a:ext cx="3103560" cy="1116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28600" y="2590920"/>
            <a:ext cx="114300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C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7162920" y="3276720"/>
            <a:ext cx="1676160" cy="377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E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228600" y="213372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MN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228600" y="518148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W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9"/>
          <p:cNvGrpSpPr/>
          <p:nvPr/>
        </p:nvGrpSpPr>
        <p:grpSpPr>
          <a:xfrm>
            <a:off x="100080" y="837720"/>
            <a:ext cx="8967600" cy="1255320"/>
            <a:chOff x="100080" y="837720"/>
            <a:chExt cx="8967600" cy="1255320"/>
          </a:xfrm>
        </p:grpSpPr>
        <p:sp>
          <p:nvSpPr>
            <p:cNvPr id="111" name="AutoShape 20"/>
            <p:cNvSpPr/>
            <p:nvPr/>
          </p:nvSpPr>
          <p:spPr>
            <a:xfrm rot="10800000">
              <a:off x="100080" y="837360"/>
              <a:ext cx="8967600" cy="1255320"/>
            </a:xfrm>
            <a:prstGeom prst="pie">
              <a:avLst/>
            </a:prstGeom>
            <a:blipFill rotWithShape="0">
              <a:blip r:embed="rId3">
                <a:alphaModFix amt="61000"/>
              </a:blip>
              <a:srcRect/>
              <a:tile tx="0" ty="0" sx="100000" sy="100000" algn="ctr"/>
            </a:blip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1"/>
            <p:cNvSpPr/>
            <p:nvPr/>
          </p:nvSpPr>
          <p:spPr>
            <a:xfrm>
              <a:off x="898200" y="1284120"/>
              <a:ext cx="714204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IMPLEMENT SECTOR BUDGET SUPPOR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Meet: Current and Future Needs (MDG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7"/>
          <p:cNvSpPr/>
          <p:nvPr/>
        </p:nvSpPr>
        <p:spPr>
          <a:xfrm>
            <a:off x="2666880" y="914400"/>
            <a:ext cx="3962520" cy="320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MS Gothic"/>
              </a:rPr>
              <a:t>NOW URGENTLY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228600" y="464832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R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8"/>
          <p:cNvSpPr/>
          <p:nvPr/>
        </p:nvSpPr>
        <p:spPr>
          <a:xfrm>
            <a:off x="8915400" y="2133720"/>
            <a:ext cx="0" cy="3504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42"/>
          <p:cNvSpPr/>
          <p:nvPr/>
        </p:nvSpPr>
        <p:spPr>
          <a:xfrm flipH="1">
            <a:off x="150480" y="2057400"/>
            <a:ext cx="3240" cy="3581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ontent Placeholder 3" descr=""/>
          <p:cNvPicPr/>
          <p:nvPr/>
        </p:nvPicPr>
        <p:blipFill>
          <a:blip r:embed="rId1"/>
          <a:stretch/>
        </p:blipFill>
        <p:spPr>
          <a:xfrm>
            <a:off x="728640" y="181620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access to water suppl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rules for tariffs and connection fees allowing for free basic water to vulnerable households developed, tested and approved by the LEW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0 new public standpipes serving about 15,000 persons established for providing access to water in areas with low connection rates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,000 new domestic connections installed serving about 30,000 pers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rastructure expansion:  connect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ffor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operating efficienc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policy and strategy for meter calibration and replacement developed and being implemented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fW reduced to an average of 27% overall by March 2012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consumption reduced by 20% from M9.3m/annum in 2008/09 to M7.44m/annum in the 2011/12 financial ye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BS PROGRAMME IMPLEMENT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ams: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SOTHO GOVERNMENT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delegated (decentralized) authority by EU to G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FDP: sign financing agreement, donor coordination; GoL procurement procedures (assessment done by Pot for PFM); thresholds of contracts for: works, supplies, services, grant contracts, etc.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NR: implementation: water sector agencies, reporting (M&amp;E)  (supervision and execution, etc.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operation with donor communit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U: procurement ?, ensures agreement is signe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RELAN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IB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LD BANK and financier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TC.,Other stakeholders: NGO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e production capac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2280" y="9903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olong Project: for Maseru, TY, Roma and Mori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3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3-Towns Project: Maputsoe, TY, and Rom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ban and Peri-urban Project: rehabilitation of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Scootvlei WTP (to 5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WTP (to 2,0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ha-Bothe boreholes (to 2,600m3/day);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thing WTP (to 1,500m3/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koe-Thetsane: intake structure at Caledon River, 20ML WTP, transmission main, gravity mai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production capacity increased by 29.52ML/day by March 201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04920" y="1905120"/>
            <a:ext cx="85341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urbishment and upgrading of the Ratjomose WWT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WWTP at Agric Colle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, infilling and extension of sewerage systems in the Ratjomos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sewerage systems in the Agric Colleg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urban sanitation servic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1" lang="en-US" sz="3500" spc="-1" strike="noStrike">
                <a:solidFill>
                  <a:srgbClr val="ff0000"/>
                </a:solidFill>
                <a:latin typeface="Calibri"/>
              </a:rPr>
              <a:t>for Urban Sanit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04920" y="91440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on-site disposal systems (VIPs) and conversion of existing VIP latrines into water born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 and expansion of sewerage networks and treatment plants in Maputsoe, TY and Roma (3-Towns Proje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new</cp:lastModifiedBy>
  <dcterms:modified xsi:type="dcterms:W3CDTF">2011-04-05T08:47:55Z</dcterms:modified>
  <cp:revision>388</cp:revision>
  <dc:subject/>
  <dc:title>Slide 1</dc:title>
</cp:coreProperties>
</file>