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ct" ContentType="image/x-pict"/>
  <Override PartName="/ppt/media/image5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40D2B-D5D3-4CEC-97AC-4BA6A6485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0f51"/>
                </a:solidFill>
                <a:latin typeface="Tahoma"/>
              </a:rPr>
              <a:t>WIEGOand Senior Research AssociateSchool of Development StudiesUniversity of KwaZulu-Natal4041 Durb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social security system remains fragmented, institutionally weak and unevenly regulated; there exist considerable disparities in social security coverage– by location (urban/rural), gender and employment status; coverage is particularly low among women workers and those in the rural are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tutional Mapping and Analysis - legislation, national/local govt domain, who controls the physical environment where informal workers are active, training institutions and curricula, platforms/forums for involvement of informal workers in discussions of work conditions and work improv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d statistic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most all of the workforce is in the informal sector - they exist everywhere, in every sector and in every profession - for some it is their primary earning, for others informal work supplements their earnings from their formal job. Micro-traders are the largest group of informal operat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# 1 – this new expanded definition of the “informal economy” or “informal employment” has been endorsed by the 2002 International Labour Conference and the 2003 International Conference of Labour Statisticia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# 2 – the international definition of the “informal sector” that was adopted by the 1993 International Conference of Labour Statisticians included only those who work in informal enterprises (shown in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italics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abo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dminantly women &amp; youth : high poverty risk, low earnings - base of the pyram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AAF07-4BDC-4F0E-9BD4-A8B84F362C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is engaged in the informal econom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cky entrepreneurs” – to borrow Hernando de Soto’s 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ing poor – as depicted in this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% of working Ghanaians &gt;15 yrs, ….% of working Tanzanians over 15 yrs are employed inform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icy reforms should be done through dialogues and negoi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ps = large and growing share of self-employment, especially own account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B2A7-D7F9-4294-AFAA-6F2BA9EB1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511A-106C-4877-B49D-B522255F4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C9B1-8275-49D6-9DD1-E5862E9FB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5273-3038-4CFE-A90E-677950FDF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E2538-3671-4CEA-A5FD-0D1B89729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2749F-FECA-4FC2-A1D2-2E17C8101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7591C-8344-40B0-BF1F-A86FCCF4E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9E60B-FD2D-487B-8C67-C1BB04B11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6BF65-B3B5-45AD-95ED-7A351C1EA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6A3CE-0D69-4FA0-9A4A-8C2DE1F37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C1575-EBC9-4C5B-BFCA-7869993E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A561-FAC6-457C-BFC7-C7ED94D3C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E7F5E-6BD1-4259-9CCE-33A99BCE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947B0-9561-4F88-B394-B8CB288E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EE565-7CB3-40C6-9759-514BA80B2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46A4E-D7FE-4A15-92AD-B615D841E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FCDFE-AD41-4253-958F-4BBE0DE2A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CE27-3526-4565-821E-7C9FE558E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D7CE-30AF-4230-9731-DEF123171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78D3-45EE-47C0-B0F1-ABDFB9909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17EF-DF30-44D9-8FFC-684E9EA8D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FA4D-24EB-4479-9B73-97199FAD6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3514-3415-4EE1-B85B-55DE06BFF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2A36-EE87-4A41-AC98-947D4FC5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301B3-F2BE-43DB-8670-398F9F3467E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77BDB-3FB7-4C92-9299-87E9B16E86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wiego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3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B8A40-F56A-4B7E-B1C8-55DAE7E877B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CUPATIONAL HEALTH AND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INFORMAL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ial Protection in Afric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ing Experiences on the Informal Econom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 &amp; AU Commission Capacity Building Worksho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-11 March 2011, Nairobi, Keny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uma Mamdani, Senior Researcher, Ifakara Health Institute, Tanzan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ncie Lund, WIEGO (SP-OHS Programme Director) and Senior Research Associate, Univ. of KwaZulu, Durban, S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business_card"/>
          <p:cNvPicPr/>
          <p:nvPr/>
        </p:nvPicPr>
        <p:blipFill>
          <a:blip r:embed="rId1"/>
          <a:stretch/>
        </p:blipFill>
        <p:spPr>
          <a:xfrm>
            <a:off x="3603600" y="274680"/>
            <a:ext cx="19670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cial Protection: The Contex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st majority of poor who work informall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arious &amp; high risk exposu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</a:t>
            </a:r>
            <a:r>
              <a:rPr b="1" lang="en-US" sz="2000" spc="-1" strike="noStrike">
                <a:solidFill>
                  <a:srgbClr val="ce2450"/>
                </a:solidFill>
                <a:latin typeface="Arial"/>
              </a:rPr>
              <a:t>no social security cover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protect against short term risks or life-time conting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afford private insurance, have </a:t>
            </a:r>
            <a:r>
              <a:rPr b="1" lang="en-US" sz="2000" spc="-1" strike="noStrike">
                <a:solidFill>
                  <a:srgbClr val="ce2450"/>
                </a:solidFill>
                <a:latin typeface="Arial"/>
              </a:rPr>
              <a:t>little access to social insu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orer people </a:t>
            </a:r>
            <a:r>
              <a:rPr b="1" lang="en-US" sz="2200" spc="-1" strike="noStrike">
                <a:solidFill>
                  <a:srgbClr val="ce2450"/>
                </a:solidFill>
                <a:latin typeface="Arial"/>
              </a:rPr>
              <a:t>live and work in poor communiti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where it is hard to insure against ri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developing countri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systems of social insurance do not target informal workers, wage employed or self-employ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systems of social assistance for poorer and vulnerable people do not target able bodied people of working 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STRATEGIES FOR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S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2450"/>
                </a:solidFill>
                <a:latin typeface="Arial"/>
              </a:rPr>
              <a:t>Domestic work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tential for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integrating into existing labour policy and legisl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line with ‘extend social protection’ campa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885840" y="1447560"/>
            <a:ext cx="4800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2450"/>
                </a:solidFill>
                <a:latin typeface="Arial"/>
              </a:rPr>
              <a:t>Street and market vendo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local govern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not national government) poli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ourage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infrastructural service deliv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reduce risk AND increase productivity AND protect both informal workers and the pub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STRATEGIES FOR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S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2450"/>
                </a:solidFill>
                <a:latin typeface="Arial"/>
              </a:rPr>
              <a:t>Industrial outwork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ourage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infrastructural deliv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private h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employer/ owner-of-capital insur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clude private h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ate social protection for informal workers into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trade agreements/ codes of con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e2450"/>
                </a:solidFill>
                <a:latin typeface="Arial"/>
              </a:rPr>
              <a:t>Waste-pick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gotiate with municipalities/private sector for provision of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safety equip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reduction of hazards at the place of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access for workers to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local government/private sector social provi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health services and health insurance, training courses, educational burs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HS FOR INFORMAL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re-think OHS as a mor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nclusive discipl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for different types of informal work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nstitutional refor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ould be necessary – at national and local government level - to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r</a:t>
            </a:r>
            <a:r>
              <a:rPr b="1" lang="en-US" sz="2400" spc="-1" strike="noStrike" u="sng">
                <a:solidFill>
                  <a:srgbClr val="ce2450"/>
                </a:solidFill>
                <a:uFillTx/>
                <a:latin typeface="Arial"/>
              </a:rPr>
              <a:t>each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work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informal workers be </a:t>
            </a:r>
            <a:r>
              <a:rPr b="1" lang="en-US" sz="2400" spc="-1" strike="noStrike" u="sng">
                <a:solidFill>
                  <a:srgbClr val="ce2450"/>
                </a:solidFill>
                <a:uFillTx/>
                <a:latin typeface="Arial"/>
              </a:rPr>
              <a:t>integra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inclusive and sustainable platforms for negotiation and policy develop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HS PROGRAMM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rica 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hana, Tanza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i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hmedabad and Pu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in Americ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zil, Pe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upational groups, inclu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et vend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genous cater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based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l recycling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estic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ricultural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aweed far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Understanding the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formal economy in the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itutional mapping and analysis of O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Participatory research on risks and hazards with MB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 groups discussions, mobility mapping, time and motion studies, household/ enterprise interviews, photography, health check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F0B5D-68AF-4F16-BD50-9008C54BCC7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NZANIA MAINLAND: DATA ON OCCUPATIONAL INJU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le data - hugely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underestim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ing i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limi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the workers covered by the system - those largely working in th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formal se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round a tenth of workplaces are register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Environmental hazar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widespr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 especially in th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nformal se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in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SM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re the majority of the work force is employ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ers - often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unaw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bout OH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ssu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remain vulnerable to occupational inju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NZANIA: OPPORTUNITIES FOR IMPROVED STATISTICS ON OCCUPATIONAL INJURY AND DISEASE FOR INFORMAL WORK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engthening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 routine coll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district/council leve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ed (and nested) questions in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periodic survey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BS, LFS, DHS, census) at national leve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Coordin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ongoing data collection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Strengthening the ro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Municipalities or Counci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th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Local Government (LG) lev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management and implementation of O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mproved statistics =&gt; improved understanding of OHS complexity =&gt; informed poli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NZANIA SOCIAL PROTECTION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 protective laws, policies, programmes &amp; project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olving multiple state and non-state 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ttered, ill-coordinated and the general impact of these has been limit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t is therefore not just about building new systems and new programmes. It is also about assessing the effectiveness or rather weaknesses of existing systems and programme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HANA: POOR OPERATORS LACK INCENTIVE TO MAINTAIN CLEAN WORKING ENVIRO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genous Caterers Association, Accra: survey of 20 chop bars (informal eating establishm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 operators on average spent </a:t>
            </a: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around US$ 1,142 annual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water, refuse removal, use of toilets, cleaning equipment, employee health certificates &amp; fire fighting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How to make OHS more affordable for informal business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E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global research and advocacy networ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orking in some 40 countries, promoting and advancing the interests of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poorer informal work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especially w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l work i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norm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not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res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present member-based organisations (MBOs),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works with, builds &amp; strengthe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etworks of informal worker organisations (MBO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s MBOs and informal worker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visibility, voice, and validity (recogni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A96A1-9531-4DD4-8828-0D1C3031B33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HANA &amp; TANZANIA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ITUTIONAL PROBLEMS OF LOCAL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Lack of horizontal coordin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tween local government departments that have jurisdiction over various aspects of health and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Not enough fit betwe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LG and national gov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Lack of institutionalised commun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tween LG and informal work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Poor dissemination of public inform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laws, policies, regulations, by-laws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nsufficient regu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privatise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VENTIONS: PREVENTION OF RISKS, IMPROVING WORK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tory </a:t>
            </a: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health screening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morbidity and r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of prototypes of </a:t>
            </a: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improved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ment of </a:t>
            </a: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impa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new/ modified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Exchanging good practi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tween countries; and between national, regional and international organisations &amp; networks of informal wor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men in Informal Employment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izing and Organiz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33160" y="2428920"/>
            <a:ext cx="830556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wiego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with OHS microsi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inclusivecities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01ACD-2C69-4436-B87E-542AEC62D39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EGO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E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Social Protection, Urban Policies, Global Tra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3 content program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Statistics Pro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fundamental to greater visibility and recognition, changed the way labour force data is collected in many countries, inc. 14 Afr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Organization &amp; Represen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dvocacy wing in direct contact with ‘worker org’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ring &amp; Lear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orkshops, policy dialogue, regional meetings, papers, articles, development and dissemination of accessible materi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ANDED DEFINITION O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INFORMAL ECONOMY (IE)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1357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E - the diversified set of economic activities, enterprises, and </a:t>
            </a:r>
            <a:r>
              <a:rPr b="0" i="1" lang="en-GB" sz="1600" spc="-1" strike="noStrike">
                <a:solidFill>
                  <a:srgbClr val="ce2450"/>
                </a:solidFill>
                <a:latin typeface="Times New Roman"/>
              </a:rPr>
              <a:t>workers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that are </a:t>
            </a:r>
            <a:r>
              <a:rPr b="0" i="1" lang="en-GB" sz="1600" spc="-1" strike="noStrike">
                <a:solidFill>
                  <a:srgbClr val="ce2450"/>
                </a:solidFill>
                <a:latin typeface="Times New Roman"/>
              </a:rPr>
              <a:t>not</a:t>
            </a:r>
            <a:r>
              <a:rPr b="0" lang="en-GB" sz="1600" spc="-1" strike="noStrike">
                <a:solidFill>
                  <a:srgbClr val="ce245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egulated or </a:t>
            </a:r>
            <a:r>
              <a:rPr b="0" i="1" lang="en-GB" sz="1600" spc="-1" strike="noStrike">
                <a:solidFill>
                  <a:srgbClr val="ce2450"/>
                </a:solidFill>
                <a:latin typeface="Times New Roman"/>
              </a:rPr>
              <a:t>protected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by the stat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 (or informal employment) includes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34840" indent="-376920">
              <a:lnSpc>
                <a:spcPct val="80000"/>
              </a:lnSpc>
              <a:spcBef>
                <a:spcPts val="400"/>
              </a:spcBef>
              <a:buClr>
                <a:srgbClr val="ce245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e2450"/>
                </a:solidFill>
                <a:latin typeface="Times New Roman"/>
              </a:rPr>
              <a:t>Self-employment in informal enterprises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mploy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own account oper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unpaid contributing family work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34840" indent="-376920">
              <a:lnSpc>
                <a:spcPct val="80000"/>
              </a:lnSpc>
              <a:spcBef>
                <a:spcPts val="400"/>
              </a:spcBef>
              <a:buClr>
                <a:srgbClr val="ce245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ce2450"/>
                </a:solidFill>
                <a:latin typeface="Times New Roman"/>
              </a:rPr>
              <a:t>Wage employment in informal jobs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non-standard employees of informal enterpri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non-standard employees of formal enterpri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casual or day labour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industrial outworkers (also called homeworke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Italic"/>
              </a:rPr>
              <a:t>IE</a:t>
            </a:r>
            <a:r>
              <a:rPr b="1" lang="en-US" sz="2000" spc="-1" strike="noStrike">
                <a:solidFill>
                  <a:srgbClr val="ce2450"/>
                </a:solidFill>
                <a:latin typeface="Arial Italic"/>
              </a:rPr>
              <a:t> </a:t>
            </a:r>
            <a:r>
              <a:rPr b="1" i="1" lang="en-US" sz="2000" spc="-1" strike="noStrike">
                <a:solidFill>
                  <a:srgbClr val="ce2450"/>
                </a:solidFill>
                <a:latin typeface="Arial Italic"/>
              </a:rPr>
              <a:t>inside</a:t>
            </a:r>
            <a:r>
              <a:rPr b="0" i="1" lang="en-US" sz="2000" spc="-1" strike="noStrike">
                <a:solidFill>
                  <a:srgbClr val="000000"/>
                </a:solidFill>
                <a:latin typeface="Arial Ital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Italic"/>
              </a:rPr>
              <a:t>and </a:t>
            </a:r>
            <a:r>
              <a:rPr b="1" i="1" lang="en-US" sz="2000" spc="-1" strike="noStrike">
                <a:solidFill>
                  <a:srgbClr val="ce2450"/>
                </a:solidFill>
                <a:latin typeface="Arial Italic"/>
              </a:rPr>
              <a:t>outside</a:t>
            </a:r>
            <a:r>
              <a:rPr b="0" lang="en-US" sz="2000" spc="-1" strike="noStrike">
                <a:solidFill>
                  <a:srgbClr val="000000"/>
                </a:solidFill>
                <a:latin typeface="Arial Italic"/>
              </a:rPr>
              <a:t> informal enterprises (whether carried out for formal sector enterprises or househol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IEGO promoted this expanded definition in collaboration with the ILO and the International Expert Group on Informal Sector Statistics (the Delhi Group): it was endorsed by the International Conference of Labour Statisticians (ICLS) in 2003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GMENTED LABOR MARKETS/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MPLOYMENT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do we mean by ‘segmentation’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raints exist which prevent individuals from moving into better employment opportunities (or improving the quality of existing emplo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causes ‘segmentation’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rimination, social norms, unequal wealth/assets, unpaid care responsibilities, lack of credit, lack of public goods/services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y does ‘segmentation’ matt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inforces existing patterns of poverty and social exclu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sue of equity: gender, racial, caste segmen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sue of basic rights and the choices available to individu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e245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e2450"/>
                </a:solidFill>
                <a:latin typeface="Times New Roman"/>
              </a:rPr>
              <a:t>In summary: a social justice 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3240" y="1143000"/>
            <a:ext cx="9144000" cy="5410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"/>
          <p:cNvSpPr/>
          <p:nvPr/>
        </p:nvSpPr>
        <p:spPr>
          <a:xfrm>
            <a:off x="914400" y="228600"/>
            <a:ext cx="783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EGMENTATION OF THE INFORMAL ECONOMY: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Y SEX, AVERAGE EARNINGS, AND POVERTY RISK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ORKING POOR IN THE INFORMAL ECONOM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2"/>
          <p:cNvGraphicFramePr/>
          <p:nvPr/>
        </p:nvGraphicFramePr>
        <p:xfrm>
          <a:off x="6172200" y="1143000"/>
          <a:ext cx="2514600" cy="195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1143000"/>
                    <a:ext cx="2514600" cy="19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3"/>
          <p:cNvGraphicFramePr/>
          <p:nvPr/>
        </p:nvGraphicFramePr>
        <p:xfrm>
          <a:off x="457200" y="5105520"/>
          <a:ext cx="2514600" cy="175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5105520"/>
                    <a:ext cx="25146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Object 4"/>
          <p:cNvGraphicFramePr/>
          <p:nvPr/>
        </p:nvGraphicFramePr>
        <p:xfrm>
          <a:off x="6172200" y="3276720"/>
          <a:ext cx="259092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72200" y="3276720"/>
                    <a:ext cx="259092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Rectangle 6"/>
          <p:cNvSpPr/>
          <p:nvPr/>
        </p:nvSpPr>
        <p:spPr>
          <a:xfrm>
            <a:off x="3200400" y="1219320"/>
            <a:ext cx="441972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 Unregulated Factories: 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arment ma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oe ma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 Small Workshop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crap metal recyclers 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oe ma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eav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arment makers and embroider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per-bag ma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n Streets or In Open Space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reet vendo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ush-cart vendo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arbage collecto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oadside barbe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struction wor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 Fields, Pastures, and Forest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mall farm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gricultural labour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epherd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rest gather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t  Hom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arment worke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mbroider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oemake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rtisans or craft produc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semblers of electronic part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111" name="Object 5"/>
          <p:cNvGraphicFramePr/>
          <p:nvPr/>
        </p:nvGraphicFramePr>
        <p:xfrm>
          <a:off x="457200" y="3200400"/>
          <a:ext cx="2438280" cy="1679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2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3200400"/>
                    <a:ext cx="2438280" cy="16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6"/>
          <p:cNvGraphicFramePr/>
          <p:nvPr/>
        </p:nvGraphicFramePr>
        <p:xfrm>
          <a:off x="457200" y="1219320"/>
          <a:ext cx="2438280" cy="1852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4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" y="1219320"/>
                    <a:ext cx="2438280" cy="18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7"/>
          <p:cNvGraphicFramePr/>
          <p:nvPr/>
        </p:nvGraphicFramePr>
        <p:xfrm>
          <a:off x="6172200" y="5181480"/>
          <a:ext cx="2666880" cy="1676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6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172200" y="5181480"/>
                    <a:ext cx="266688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MPLOYMENT, INFORMALITY, POVERTY</a:t>
            </a:r>
            <a:br>
              <a:rPr sz="36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ment - the most important way in which the benefits of growth can be sha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st of the world’s poor – especially in developing countries – a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ork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l rather than formal employment is on the ri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vast majority of the working poor – those who earn less than US$ 1 per day - earn their living in the informal economy whe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erage earnings are 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s are 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e2450"/>
                </a:solidFill>
                <a:latin typeface="Arial"/>
                <a:ea typeface="Arial"/>
              </a:rPr>
              <a:t>Poverty reduction is not possible with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80000"/>
              </a:lnSpc>
              <a:spcBef>
                <a:spcPts val="451"/>
              </a:spcBef>
              <a:buClr>
                <a:srgbClr val="ce245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e2450"/>
                </a:solidFill>
                <a:latin typeface="Arial"/>
                <a:ea typeface="Arial"/>
              </a:rPr>
              <a:t>Increasing formal employment opportunitie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80000"/>
              </a:lnSpc>
              <a:spcBef>
                <a:spcPts val="451"/>
              </a:spcBef>
              <a:buClr>
                <a:srgbClr val="ce245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e2450"/>
                </a:solidFill>
                <a:latin typeface="Arial"/>
                <a:ea typeface="Arial"/>
              </a:rPr>
              <a:t>Increasing the assets and earning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e2450"/>
                </a:solidFill>
                <a:latin typeface="Arial"/>
                <a:ea typeface="Arial"/>
              </a:rPr>
              <a:t>reducing the risks of those who work in the informal econom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LICY AND INSTITUTIONAL REFORM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THROUGH DIALOGUE AND NEGOT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ipartite dialogues and negot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lti-partite initiativ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involving multiple relevant stakehold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e.g.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</a:rPr>
              <a:t>Fair Trade and Ethical Tra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</a:rPr>
              <a:t>Global Compa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lti-partite reform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24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Times New Roman"/>
              </a:rPr>
              <a:t>Process should involve all relevant key stakeholde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- government (national &amp; local), private sector, civil society (trade unions + MBOs of working poor + NGOs working on labor and employment issues, employer associ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20:03:53Z</dcterms:created>
  <dc:creator>user</dc:creator>
  <dc:description/>
  <dc:language>en-US</dc:language>
  <cp:lastModifiedBy>user</cp:lastModifiedBy>
  <dcterms:modified xsi:type="dcterms:W3CDTF">2011-03-09T12:18:44Z</dcterms:modified>
  <cp:revision>26</cp:revision>
  <dc:subject/>
  <dc:title>PowerPoint Presentation</dc:title>
</cp:coreProperties>
</file>