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5F995-D486-4BEE-95FA-E956B1366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4C19A-7CA1-4A4A-B831-B0B688182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1306E-D36C-4B53-B241-4BA800BBB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7E86F-2163-45CB-AD86-23842632C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D04209-27CE-4672-97F1-AB42A822EA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7EC71-7B52-406D-AB87-CA41DF8C16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410B3-779A-4D69-9EB3-AE32C79441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090C5-440D-4E46-BE95-CB9E072702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7ECC24-4972-478B-AF59-E095D725F59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5BECF-5602-4ADC-ABC3-4996D4188D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30788-FD36-47D8-B220-84A009A3FE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651CB-4C54-4CA0-906C-2D696256A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53DB0-3E41-4F2B-BCEE-84614B6538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D8DD4-2582-4BD3-9F35-D66B4E397F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1769B-D853-472E-B915-6D427C1166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DE21BA-F099-46E6-AD7C-4AEB665F7B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60CC64-1A61-4831-9FCF-59E2D9BBFE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778D0-145B-4BA3-BBC2-6EB5DED7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7D06B-CC89-461C-A97D-DB00BF7B5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B39BB-2FAC-4B19-A23C-305139F43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607F7-39EF-414F-8F41-B119DC53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447A-5EFF-4701-9A12-AE1969EEE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5236-5CD3-4570-B7BC-EA24DBCD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F269D-A8BB-4281-AE36-46C333C9C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0C1D94E1-30FB-4336-9465-4F252B4BDB78}" type="datetime11">
              <a:rPr b="0" lang="en-US" sz="1400" spc="-1" strike="noStrike">
                <a:solidFill>
                  <a:srgbClr val="ffffff"/>
                </a:solidFill>
                <a:latin typeface="Times New Roman"/>
              </a:rPr>
              <a:t>17:55:1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EA70-2DEF-4A13-8BB1-ED6D03295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290A-F90F-471B-A27F-917C2D3EC4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329A95DD-0256-4343-90CF-6BCFB123F908}" type="datetime11">
              <a:rPr b="0" lang="en-US" sz="1400" spc="-1" strike="noStrike">
                <a:solidFill>
                  <a:srgbClr val="ffffff"/>
                </a:solidFill>
                <a:latin typeface="Times New Roman"/>
              </a:rPr>
              <a:t>17:55:12</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0DD0EFE-80AD-436D-807E-91DF572141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D0C20E6-AE38-46B4-89FD-CE17B4FC6B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2E9ABD5-42D3-489F-AEDC-33A8CBFCFF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C770096-A5BF-49AF-B661-919A5A954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816381E9-6561-46AE-BF85-A5860B95A6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7E24AF1-AD47-49B2-B14F-A3E0C1C157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E2A85F6-0002-4DF5-BC40-1246239DC2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F8B04F9-3B59-4AFA-9D9E-F74BFC23BD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DFED8221-B04F-41AE-BB55-F0951915B25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390A859-1806-4CDF-AFE6-856ABC414B0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A740DFA-6B74-470F-A12A-50B3126E41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C29AE17-456D-4D76-8860-C62398E92F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BF7F979-7ED9-4370-87A2-6CC8F61423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AEA7893-3719-49EC-935D-ADFD909A1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2E1FFC5-A77E-4A0C-986F-8F46E56A51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6370CA8-DDDA-4427-AAE6-95F6FF7DE4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A6418BC-B51D-467E-90EA-F5C1975D3D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