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ADEAD-E90C-4410-82E9-5941A826D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4D4E3-4313-4572-9328-909C5E90D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39B63-7390-449B-ABFB-8B221BB4F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480D0-481C-4315-AF2A-B960EEAF7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BE9036-5B8E-470D-9681-1682264252B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6905CC-11EE-40F4-92EA-7EF4187C76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E5E4CD-2EBE-4618-9974-28A4839DAD4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B50341-49DC-480C-862D-D092F6AE760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F0E8D7-9759-40F7-9C04-02969CE3892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CFCF81-02A9-4702-931D-243371A9CA0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BCC198-F173-4333-AB10-786099A5701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CC4CC-E642-4B63-BA0E-91A8F2934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732C78-208F-4AD4-B3B3-19443901CB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915F1D-22BB-4A79-982E-A9A3456947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8E54D7-F0FB-4AC2-BB95-FD325F2894C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FA6D2F-A60D-4679-A0E5-19A845A98E1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40842F-2A58-4E7B-932B-1F446618DC9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F75F2-F8A6-4D91-882F-DDC5E90C8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32B9C-F954-4980-8D57-AC673E309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C9A9E-0EB1-4647-AEF5-3C0488A70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B09A9-F781-4FB2-8C9C-E89A62350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C3FE9-52B8-4BAC-B7C9-C6F00DEEB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98791-29F1-46D9-9C12-E395D44F1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E7B8B-7B5E-4599-BFF5-30B8445FC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BC9339F9-820E-4A01-B018-CCF1952BAE41}" type="datetime11">
              <a:rPr b="0" lang="en-US" sz="1400" spc="-1" strike="noStrike">
                <a:solidFill>
                  <a:srgbClr val="ffffff"/>
                </a:solidFill>
                <a:latin typeface="Times New Roman"/>
              </a:rPr>
              <a:t>17:55:0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21B6-BCAC-4490-93BE-97D53B4336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D91F-6690-47C0-86E8-49B80EDA0C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865A22FA-3F33-4593-A466-EBB988479F31}" type="datetime11">
              <a:rPr b="0" lang="en-US" sz="1400" spc="-1" strike="noStrike">
                <a:solidFill>
                  <a:srgbClr val="ffffff"/>
                </a:solidFill>
                <a:latin typeface="Times New Roman"/>
              </a:rPr>
              <a:t>17:55:06</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6B16154-7B65-4B96-A4E5-DDC0C034CA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E43CB28-A9BD-4775-891D-3C5B4B2E9C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43FC9F2-05DB-409F-A14A-0619B4BBFB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0C36718-F4B1-44E3-B242-79B24309DE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F6A3E139-D58F-47B0-BA01-87F7929DF6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3A91C9D-7C4A-44E5-A6A9-CC5CD26612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009D4F6-B0F4-4423-B1E0-88A5164E16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A27BC45-682F-4639-9537-02AA4550D4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FFAE44DD-31AD-4A10-AD67-DD89CE4C8DE8}"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4E78DBE-23B3-4813-90A8-ECFDE352CAF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A2D49F1-8FC3-40B7-BB54-A7914F2E50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D5FE50B-471B-4B62-AB65-9274861975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55DCEDB-0812-4B26-AA61-03361EC8E6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747038D-9487-42AE-97FE-1B072B07D4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94F4BAC-346E-414A-BC55-CF123C3C6B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1C3727D-FFC7-4C84-A52A-93728109A2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A0865AC-43B0-4458-A2CA-D103EA6923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