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FE7C-C67C-41D9-8D20-9A541C7DD9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5643-3C31-4A93-BCCD-9C497DAED8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A450-7B90-4CF0-B02A-E04B23EE43C5}" type="datetime">
              <a:rPr b="0" lang="en-US" sz="1200" spc="-1" strike="noStrike">
                <a:solidFill>
                  <a:srgbClr val="ffffff"/>
                </a:solidFill>
                <a:latin typeface="Verdana"/>
              </a:rPr>
              <a:t>07/29/26</a:t>
            </a:fld>
            <a:r>
              <a:rPr b="0" lang="en-US" sz="1200" spc="-1" strike="noStrike">
                <a:solidFill>
                  <a:srgbClr val="ffffff"/>
                </a:solidFill>
                <a:latin typeface="Verdana"/>
              </a:rPr>
              <a:t> </a:t>
            </a:r>
            <a:fld id="{155E436A-AAA4-42B8-9CD0-873687BC99E7}"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F514-76CC-4FEF-8CA1-A52A1C278E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8DC8-A9F6-4106-9360-891CF5E779AE}" type="datetime">
              <a:rPr b="0" lang="en-US" sz="1200" spc="-1" strike="noStrike">
                <a:solidFill>
                  <a:srgbClr val="ffffff"/>
                </a:solidFill>
                <a:latin typeface="Verdana"/>
              </a:rPr>
              <a:t>07/29/26</a:t>
            </a:fld>
            <a:r>
              <a:rPr b="0" lang="en-US" sz="1200" spc="-1" strike="noStrike">
                <a:solidFill>
                  <a:srgbClr val="ffffff"/>
                </a:solidFill>
                <a:latin typeface="Verdana"/>
              </a:rPr>
              <a:t> </a:t>
            </a:r>
            <a:fld id="{A386904A-7EF5-46C7-B276-C87EE44279AF}"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9EB5-C9AF-4CFD-AE3E-12A07CBD14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AE0B-9CCA-4665-ABC8-03A0CCBAEF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D51C-C1FE-4A64-920A-0FA306A04134}" type="datetime">
              <a:rPr b="0" lang="en-US" sz="1200" spc="-1" strike="noStrike">
                <a:solidFill>
                  <a:srgbClr val="ffffff"/>
                </a:solidFill>
                <a:latin typeface="Verdana"/>
              </a:rPr>
              <a:t>07/29/26</a:t>
            </a:fld>
            <a:r>
              <a:rPr b="0" lang="en-US" sz="1200" spc="-1" strike="noStrike">
                <a:solidFill>
                  <a:srgbClr val="ffffff"/>
                </a:solidFill>
                <a:latin typeface="Verdana"/>
              </a:rPr>
              <a:t> </a:t>
            </a:r>
            <a:fld id="{8425C64A-FA4B-4310-A9E9-2B4A5E6D2D3C}"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3F4B-A44E-4672-B9D5-610C8A22462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613E-8BC6-49AD-9887-1AB21AC44901}" type="datetime">
              <a:rPr b="0" lang="en-US" sz="1200" spc="-1" strike="noStrike">
                <a:solidFill>
                  <a:srgbClr val="ffffff"/>
                </a:solidFill>
                <a:latin typeface="Verdana"/>
              </a:rPr>
              <a:t>07/29/26</a:t>
            </a:fld>
            <a:r>
              <a:rPr b="0" lang="en-US" sz="1200" spc="-1" strike="noStrike">
                <a:solidFill>
                  <a:srgbClr val="ffffff"/>
                </a:solidFill>
                <a:latin typeface="Verdana"/>
              </a:rPr>
              <a:t> </a:t>
            </a:r>
            <a:fld id="{75CBF40C-728E-44DD-8EC4-3C1620EEE245}"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B3DA-09DF-4209-BAA8-46B1D24FCA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307E-0B0C-4203-9868-92FA94CE415A}" type="datetime">
              <a:rPr b="0" lang="en-US" sz="1200" spc="-1" strike="noStrike">
                <a:solidFill>
                  <a:srgbClr val="ffffff"/>
                </a:solidFill>
                <a:latin typeface="Verdana"/>
              </a:rPr>
              <a:t>07/29/26</a:t>
            </a:fld>
            <a:r>
              <a:rPr b="0" lang="en-US" sz="1200" spc="-1" strike="noStrike">
                <a:solidFill>
                  <a:srgbClr val="ffffff"/>
                </a:solidFill>
                <a:latin typeface="Verdana"/>
              </a:rPr>
              <a:t> </a:t>
            </a:r>
            <a:fld id="{A0C4970F-4EE6-48EC-8CDE-82C38AA1A399}"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4515-E1F6-4DD6-8B75-BD55578E75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898E-CAC1-48C9-BC3D-8CCA6400BA22}" type="datetime">
              <a:rPr b="0" lang="en-US" sz="1200" spc="-1" strike="noStrike">
                <a:solidFill>
                  <a:srgbClr val="ffffff"/>
                </a:solidFill>
                <a:latin typeface="Verdana"/>
              </a:rPr>
              <a:t>07/29/26</a:t>
            </a:fld>
            <a:r>
              <a:rPr b="0" lang="en-US" sz="1200" spc="-1" strike="noStrike">
                <a:solidFill>
                  <a:srgbClr val="ffffff"/>
                </a:solidFill>
                <a:latin typeface="Verdana"/>
              </a:rPr>
              <a:t> </a:t>
            </a:r>
            <a:fld id="{ED634CA9-F64D-49F6-B138-31B1918BC96F}"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92A3-5480-4303-AC4B-86280F2DFEB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078C-1C68-44E7-B72D-22173CC636B6}" type="datetime">
              <a:rPr b="0" lang="en-US" sz="1200" spc="-1" strike="noStrike">
                <a:solidFill>
                  <a:srgbClr val="ffffff"/>
                </a:solidFill>
                <a:latin typeface="Verdana"/>
              </a:rPr>
              <a:t>07/29/26</a:t>
            </a:fld>
            <a:r>
              <a:rPr b="0" lang="en-US" sz="1200" spc="-1" strike="noStrike">
                <a:solidFill>
                  <a:srgbClr val="ffffff"/>
                </a:solidFill>
                <a:latin typeface="Verdana"/>
              </a:rPr>
              <a:t> </a:t>
            </a:r>
            <a:fld id="{212F3EB3-2DE7-43FD-BCB7-6E393032CA22}"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6413-D70B-4483-8268-F48B69A8AE4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C311-BAF2-47BF-AFED-134BCDFFF5B0}" type="datetime">
              <a:rPr b="0" lang="en-US" sz="1200" spc="-1" strike="noStrike">
                <a:solidFill>
                  <a:srgbClr val="ffffff"/>
                </a:solidFill>
                <a:latin typeface="Verdana"/>
              </a:rPr>
              <a:t>07/29/26</a:t>
            </a:fld>
            <a:r>
              <a:rPr b="0" lang="en-US" sz="1200" spc="-1" strike="noStrike">
                <a:solidFill>
                  <a:srgbClr val="ffffff"/>
                </a:solidFill>
                <a:latin typeface="Verdana"/>
              </a:rPr>
              <a:t> </a:t>
            </a:r>
            <a:fld id="{C8B9C32C-BAA9-4DF5-A9EC-4A693573ECD3}"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0390-D7DE-4335-B5EF-6A81A29AE3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A376-455A-4B5B-822D-6D395496F15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9285-0B93-4E75-B4C6-2F488DDC675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0C3C-41A4-4EDA-A9D1-9D1A8BBD4EE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106C-42B3-43A7-B482-DB8CC32FCCE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7769-85CF-4205-8427-0503D86D3374}" type="datetime">
              <a:rPr b="0" lang="en-US" sz="1200" spc="-1" strike="noStrike">
                <a:solidFill>
                  <a:srgbClr val="ffffff"/>
                </a:solidFill>
                <a:latin typeface="Verdana"/>
              </a:rPr>
              <a:t>07/29/26</a:t>
            </a:fld>
            <a:r>
              <a:rPr b="0" lang="en-US" sz="1200" spc="-1" strike="noStrike">
                <a:solidFill>
                  <a:srgbClr val="ffffff"/>
                </a:solidFill>
                <a:latin typeface="Verdana"/>
              </a:rPr>
              <a:t> </a:t>
            </a:r>
            <a:fld id="{4D15AF2F-71F9-4A83-95F7-285036CBC720}"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0117-3206-4356-99F9-AD6E89ED79C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DC19-343F-46DA-AA0A-CA881C3D9354}" type="datetime">
              <a:rPr b="0" lang="en-US" sz="1200" spc="-1" strike="noStrike">
                <a:solidFill>
                  <a:srgbClr val="ffffff"/>
                </a:solidFill>
                <a:latin typeface="Verdana"/>
              </a:rPr>
              <a:t>07/29/26</a:t>
            </a:fld>
            <a:r>
              <a:rPr b="0" lang="en-US" sz="1200" spc="-1" strike="noStrike">
                <a:solidFill>
                  <a:srgbClr val="ffffff"/>
                </a:solidFill>
                <a:latin typeface="Verdana"/>
              </a:rPr>
              <a:t> </a:t>
            </a:r>
            <a:fld id="{7224A186-A176-47C5-83C5-D32409C8E080}"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9283-30A0-4769-845C-4B35EDF06E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6474-1516-4190-93C2-AF97E1CB231F}" type="datetime">
              <a:rPr b="0" lang="en-US" sz="1200" spc="-1" strike="noStrike">
                <a:solidFill>
                  <a:srgbClr val="ffffff"/>
                </a:solidFill>
                <a:latin typeface="Verdana"/>
              </a:rPr>
              <a:t>07/29/26</a:t>
            </a:fld>
            <a:r>
              <a:rPr b="0" lang="en-US" sz="1200" spc="-1" strike="noStrike">
                <a:solidFill>
                  <a:srgbClr val="ffffff"/>
                </a:solidFill>
                <a:latin typeface="Verdana"/>
              </a:rPr>
              <a:t> </a:t>
            </a:r>
            <a:fld id="{0E330EAB-5033-42B7-96E8-DB9C14D0BB4D}" type="datetime10">
              <a:rPr b="0" lang="en-US" sz="1200" spc="-1" strike="noStrike">
                <a:solidFill>
                  <a:srgbClr val="ffffff"/>
                </a:solidFill>
                <a:latin typeface="Verdana"/>
              </a:rPr>
              <a:t>18:07</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A89B-0AB9-4AA8-9362-621C2436E1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50169-034E-4030-AB8F-053ECCF3A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BA73-975B-419C-AE5E-29EDA491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A4AAC-8245-4E74-8BBB-DF5316EB0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4D03C-72A7-4A3D-8040-6E4BB1731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7E61A-8B6D-4D2C-9A1B-B926EFBBF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88256-DB89-44F3-90E5-5604AB100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3CD2F-A94E-46B3-9979-E7B4CCF31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B42D1-035C-4EDD-9E1E-B129B21CE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DFA4C-C6BA-42C7-9F0B-984E476F2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94BE2-CED5-4992-9FF1-3231C9054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24839-3707-4FCB-9291-38E70BBCE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C2726-9F70-415C-9D1F-09CB6E63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AE66E-21DB-4123-8244-736B5D329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3C765-5787-48E4-AD85-2DE6F2212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5D06C-0A4F-49AD-A1D5-88AC9F594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45113-AE5A-44FD-B17B-076D13489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B79AB-895F-439B-A4AD-C86E09D5D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1A7B1-9379-43BF-8865-5A9DDC41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4EBCF-66F0-4D4E-8D25-F03A4D35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29CF3-ED07-4E68-8D99-20E01299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9B1CD-8C79-4B38-8078-D39178E6A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DFCC-CD90-4703-A1CA-AF696A20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39A0-EE2F-483A-A064-F23FDA87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39F4-367B-4D23-84E7-D200939A5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BF9D-0398-4268-8AB0-0BA2F8B4E11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88FC-443D-4D5C-8D3E-C4EC1AE5C31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E8FD-E864-42B5-8AE2-1B00C2308CB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