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5F54-C4FF-46C8-8EFF-22055511FB7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5F319-FCC5-4184-979D-DD4475F803F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C5C5-AF14-4CAA-A0E3-E3A59CF73DFD}" type="datetime">
              <a:rPr b="0" lang="en-US" sz="1200" spc="-1" strike="noStrike">
                <a:solidFill>
                  <a:srgbClr val="ffffff"/>
                </a:solidFill>
                <a:latin typeface="Verdana"/>
              </a:rPr>
              <a:t>07/30/26</a:t>
            </a:fld>
            <a:r>
              <a:rPr b="0" lang="en-US" sz="1200" spc="-1" strike="noStrike">
                <a:solidFill>
                  <a:srgbClr val="ffffff"/>
                </a:solidFill>
                <a:latin typeface="Verdana"/>
              </a:rPr>
              <a:t> </a:t>
            </a:r>
            <a:fld id="{9D6E6D34-E1C7-4FAC-9C8A-2A358D2E7695}"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D1ED-3055-4637-92EA-70849252EB5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1142-1871-406E-8F00-B43145059814}" type="datetime">
              <a:rPr b="0" lang="en-US" sz="1200" spc="-1" strike="noStrike">
                <a:solidFill>
                  <a:srgbClr val="ffffff"/>
                </a:solidFill>
                <a:latin typeface="Verdana"/>
              </a:rPr>
              <a:t>07/30/26</a:t>
            </a:fld>
            <a:r>
              <a:rPr b="0" lang="en-US" sz="1200" spc="-1" strike="noStrike">
                <a:solidFill>
                  <a:srgbClr val="ffffff"/>
                </a:solidFill>
                <a:latin typeface="Verdana"/>
              </a:rPr>
              <a:t> </a:t>
            </a:r>
            <a:fld id="{38A8CE45-A7D7-466C-9987-ADE430147823}"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E54D-89EC-4426-BE1A-FFC9495DF51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C0373-DA9A-4EDB-AD54-9CC9244DAF7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86796-10A9-4582-B3D1-5596B9F8CE9E}" type="datetime">
              <a:rPr b="0" lang="en-US" sz="1200" spc="-1" strike="noStrike">
                <a:solidFill>
                  <a:srgbClr val="ffffff"/>
                </a:solidFill>
                <a:latin typeface="Verdana"/>
              </a:rPr>
              <a:t>07/30/26</a:t>
            </a:fld>
            <a:r>
              <a:rPr b="0" lang="en-US" sz="1200" spc="-1" strike="noStrike">
                <a:solidFill>
                  <a:srgbClr val="ffffff"/>
                </a:solidFill>
                <a:latin typeface="Verdana"/>
              </a:rPr>
              <a:t> </a:t>
            </a:r>
            <a:fld id="{A6A3DB3A-733E-4038-A1AF-3782E1E27580}"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000F0-A1F4-4512-AFA9-4489C6DDA2B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1CD4-9A9C-4EE8-A06B-BC0506177D6F}" type="datetime">
              <a:rPr b="0" lang="en-US" sz="1200" spc="-1" strike="noStrike">
                <a:solidFill>
                  <a:srgbClr val="ffffff"/>
                </a:solidFill>
                <a:latin typeface="Verdana"/>
              </a:rPr>
              <a:t>07/30/26</a:t>
            </a:fld>
            <a:r>
              <a:rPr b="0" lang="en-US" sz="1200" spc="-1" strike="noStrike">
                <a:solidFill>
                  <a:srgbClr val="ffffff"/>
                </a:solidFill>
                <a:latin typeface="Verdana"/>
              </a:rPr>
              <a:t> </a:t>
            </a:r>
            <a:fld id="{0144E0B1-31E7-4F5A-A6BE-69FDEC2B6321}"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E1ED0-E013-4803-94AD-1CA905BA271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997E7-5B98-4AED-B262-2EFFEADF5219}" type="datetime">
              <a:rPr b="0" lang="en-US" sz="1200" spc="-1" strike="noStrike">
                <a:solidFill>
                  <a:srgbClr val="ffffff"/>
                </a:solidFill>
                <a:latin typeface="Verdana"/>
              </a:rPr>
              <a:t>07/30/26</a:t>
            </a:fld>
            <a:r>
              <a:rPr b="0" lang="en-US" sz="1200" spc="-1" strike="noStrike">
                <a:solidFill>
                  <a:srgbClr val="ffffff"/>
                </a:solidFill>
                <a:latin typeface="Verdana"/>
              </a:rPr>
              <a:t> </a:t>
            </a:r>
            <a:fld id="{83905CA7-6BAC-46EB-BFAE-18C683B6F47C}"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883E-6CD0-41A2-8AFE-D70322429A7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3A0CB-AC74-45A2-9ACC-13222B128696}" type="datetime">
              <a:rPr b="0" lang="en-US" sz="1200" spc="-1" strike="noStrike">
                <a:solidFill>
                  <a:srgbClr val="ffffff"/>
                </a:solidFill>
                <a:latin typeface="Verdana"/>
              </a:rPr>
              <a:t>07/30/26</a:t>
            </a:fld>
            <a:r>
              <a:rPr b="0" lang="en-US" sz="1200" spc="-1" strike="noStrike">
                <a:solidFill>
                  <a:srgbClr val="ffffff"/>
                </a:solidFill>
                <a:latin typeface="Verdana"/>
              </a:rPr>
              <a:t> </a:t>
            </a:r>
            <a:fld id="{2B0A9CB3-D734-46A7-A2CB-2A6A2246D6CD}"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E928D-E5BB-4D5B-9D9C-111BE6EDD42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FDD21-BBEB-47B2-B5CB-0FD0E05FA438}" type="datetime">
              <a:rPr b="0" lang="en-US" sz="1200" spc="-1" strike="noStrike">
                <a:solidFill>
                  <a:srgbClr val="ffffff"/>
                </a:solidFill>
                <a:latin typeface="Verdana"/>
              </a:rPr>
              <a:t>07/30/26</a:t>
            </a:fld>
            <a:r>
              <a:rPr b="0" lang="en-US" sz="1200" spc="-1" strike="noStrike">
                <a:solidFill>
                  <a:srgbClr val="ffffff"/>
                </a:solidFill>
                <a:latin typeface="Verdana"/>
              </a:rPr>
              <a:t> </a:t>
            </a:r>
            <a:fld id="{7D82C3A5-897E-4743-89E9-4896A20576ED}"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11BC1-80C2-4582-84BD-F5471C92B6A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3DF8A-53DF-421F-B795-9501BBD4E425}" type="datetime">
              <a:rPr b="0" lang="en-US" sz="1200" spc="-1" strike="noStrike">
                <a:solidFill>
                  <a:srgbClr val="ffffff"/>
                </a:solidFill>
                <a:latin typeface="Verdana"/>
              </a:rPr>
              <a:t>07/30/26</a:t>
            </a:fld>
            <a:r>
              <a:rPr b="0" lang="en-US" sz="1200" spc="-1" strike="noStrike">
                <a:solidFill>
                  <a:srgbClr val="ffffff"/>
                </a:solidFill>
                <a:latin typeface="Verdana"/>
              </a:rPr>
              <a:t> </a:t>
            </a:r>
            <a:fld id="{F688555A-6389-4936-A25B-3878107AD690}"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6BE5-512C-4198-8691-65A97B666A7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2A6FA-6CDE-4806-B6DA-C915FF02A5C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C1812-D90F-4255-9DCA-7F5242D5B07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DC8E6-B52C-4FF9-ACE0-4116F607062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122FD-BF2B-47D0-AAF7-810DC000398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9AC6-BF6C-458E-B61D-5FE42289366A}" type="datetime">
              <a:rPr b="0" lang="en-US" sz="1200" spc="-1" strike="noStrike">
                <a:solidFill>
                  <a:srgbClr val="ffffff"/>
                </a:solidFill>
                <a:latin typeface="Verdana"/>
              </a:rPr>
              <a:t>07/30/26</a:t>
            </a:fld>
            <a:r>
              <a:rPr b="0" lang="en-US" sz="1200" spc="-1" strike="noStrike">
                <a:solidFill>
                  <a:srgbClr val="ffffff"/>
                </a:solidFill>
                <a:latin typeface="Verdana"/>
              </a:rPr>
              <a:t> </a:t>
            </a:r>
            <a:fld id="{53C1CB3E-54E9-49B1-83A7-8DA168CA34A7}"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887D2-706A-4952-85BA-CD7A1E755E5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EDC67-A5D6-4BDF-B2D5-AD68949DCB62}" type="datetime">
              <a:rPr b="0" lang="en-US" sz="1200" spc="-1" strike="noStrike">
                <a:solidFill>
                  <a:srgbClr val="ffffff"/>
                </a:solidFill>
                <a:latin typeface="Verdana"/>
              </a:rPr>
              <a:t>07/30/26</a:t>
            </a:fld>
            <a:r>
              <a:rPr b="0" lang="en-US" sz="1200" spc="-1" strike="noStrike">
                <a:solidFill>
                  <a:srgbClr val="ffffff"/>
                </a:solidFill>
                <a:latin typeface="Verdana"/>
              </a:rPr>
              <a:t> </a:t>
            </a:r>
            <a:fld id="{A3265FC8-F330-4D71-B209-8207CE712A2B}"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886FC-935A-44BB-A3C2-38C9CD7CFAC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AD163-B174-4429-8E2A-4E81169E46FF}" type="datetime">
              <a:rPr b="0" lang="en-US" sz="1200" spc="-1" strike="noStrike">
                <a:solidFill>
                  <a:srgbClr val="ffffff"/>
                </a:solidFill>
                <a:latin typeface="Verdana"/>
              </a:rPr>
              <a:t>07/30/26</a:t>
            </a:fld>
            <a:r>
              <a:rPr b="0" lang="en-US" sz="1200" spc="-1" strike="noStrike">
                <a:solidFill>
                  <a:srgbClr val="ffffff"/>
                </a:solidFill>
                <a:latin typeface="Verdana"/>
              </a:rPr>
              <a:t> </a:t>
            </a:r>
            <a:fld id="{FFBB3243-2204-47E6-B941-0E995DD85648}" type="datetime10">
              <a:rPr b="0" lang="en-US" sz="1200" spc="-1" strike="noStrike">
                <a:solidFill>
                  <a:srgbClr val="ffffff"/>
                </a:solidFill>
                <a:latin typeface="Verdana"/>
              </a:rPr>
              <a:t>17:48</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D70F8-7FBC-41ED-A2B1-F12C9112AA2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D47CC-F46F-4547-A5A0-917B98BD2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327B9-ACB8-4F46-A519-85CD30206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2BA54-552B-4B82-95DB-9B5B668E6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A90E2-4BF7-4ADE-A2E6-A55E5683E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C79647-2BD3-4D23-88BF-65A15C09B0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DC0A23-E78C-476F-A4E7-D879AA9B4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6726A-5E3E-44E7-838C-92832F461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6E5F1-B357-49B2-B2F4-6C1CCD193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70898-BF31-4C7D-970E-3D897504E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D768E-1FF6-4E55-A03E-826BF9E38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4C791-D3B9-4599-BF06-9AD92FF8C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669D2-EBC6-4F99-B9D4-22BB3AF49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613BD-C29A-4246-9913-79F6B8223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8D91A-82A2-4920-831F-180537E29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21B03-FA2E-457A-8D76-666F36CEE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AEFAC0-A8CD-41EB-9148-75044D7059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09CB1E-DFAF-414A-A5C5-A8242F45C7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28A3E-3486-4FE5-87AA-8FAF7AC7C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97C6E-5C6C-45A4-AC6E-1F023A68C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345A6-61D0-4453-B8E1-5071338FE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5DAD5-6328-4DCC-AE47-BB4782245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70931-B276-4271-B7B8-E88DF94C5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7AAD4-C303-4B5F-96BF-E355E5E54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46607-BD76-40A8-9000-4D3A94EE9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F7051-D8DE-4941-A5A4-519E2832C5E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F3DD-5E9F-4420-AD52-063EB294405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76791-60D7-491C-9E32-CBC1D77B10A1}"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