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52D7-AC88-46D3-9753-CE929101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DB0E-AB39-4BCC-98D8-40CD6948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7348-4B5A-4C2F-8A9D-04FE4407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792B-754C-4D03-8027-070E7407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86AB-3923-4A5E-9B5B-533E1E5D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B146-3935-49B9-BDB8-7D05CE68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ED4B-D32F-4D45-AB7E-BDE9A660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8AA0-AEEC-4042-B1C2-25C98439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04A4-F2FB-47EF-BFE1-3EAD84D6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09EB-4478-4855-9F32-3541DAA4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ECA7-FB16-459E-B76D-595CEBDB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9A58-792D-411F-908E-4038EAC7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81E5-6D35-42BB-A24B-983CFEEC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7D42-A26A-45E8-AE0B-A66E0C75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9D38-3A2D-4472-8E7D-D2DB2842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8F21-4B90-48EE-B4CD-9E1ECEFE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9341-EA26-4BE3-AA64-DE665EBD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71F4-C63A-44CC-A36E-A97BAEE0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8AC2-35BA-4D76-AA9C-6AEF1CA8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ADA6-62C4-4E20-845B-C9FA0465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ACE5-1BA1-43B4-984C-0ED83047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F2E2-D281-4530-8B11-D5860F42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8584-AD3F-42DE-8C63-F14E52FF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7F28-17E4-4E33-8700-F5BD877C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A7D8-20D7-4AC6-9657-EF84407BD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1A23-8202-43FC-BBAC-D98EE1DBF7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airobi Water and Sanitation, Workshop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ctor Budget Support: Lesotho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Fairview Hote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Nairobi, 18 - 21 October,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by: E. M. Les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VENTION BY SB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cted results and activ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capacity addres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institutional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water supply and sanitation servic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rban and rural areas im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dialogu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or 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 improved services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among others importan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Coordination Mee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Youth Water and Action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Water Partner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 le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s learned when introducing change and implementing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fully map-up direction you want to tak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stakeholders involved in influencing decisions support refor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fu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tarted reforms for good course go stra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lly everybody aroun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effectivel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the chang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open-up good opportunities for all stakehold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background until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ring 1986-1995 the followings were do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partment of Water Affairs was establis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pleted Lesotho Highlands Water Proje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DRWS and SWAP for rural setting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d Ministry of Lesotho Water Project with Ministry of Water, Energy, and Mining and formed Ministry of Natural Resourc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ctor situation analysis for 1996-199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sector fragmentation became obstacle for project apprais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ced Lesotho Highlands Water Phase-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After-Care-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ad for water sect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Resources Management Policy – 1999 was endorsed by Cabi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Wastewater Management Policy endor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ector Improvement Progr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lands Water Supply Unit was established i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, Planning, and Strategy Unit was established to advise formulation and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3 Commissioner of Water recruited and tasked to driver the reform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binet endorsed Water and  Sanitatio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or coordination, various missions were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ly develo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sector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Poli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strateg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budget and medium-term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balanced Steering Committee (SC)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and Sanitation 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 Sector endorsed feedback from stakehold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 developed IWSS aiming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Water and Sanitation Policy (WSP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ng funding for Water Sector develop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or also developing Financing Strategy for further implementation of IW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IWSS by end of March 2010, and Cabinet endor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IWSS for financial years: 2010 to 2012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, complete, and endorse a Five year sector strategy by end of 2011 for period: 2012 to 2017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cess (roadmap) for developmen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im Water and Sanitation Sector Strategy (IWS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SELINE AND TARGET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SUES OF WATER SERVICE DELIVERY TO MEET MDGs</a:t>
            </a: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of SBS is to address Policy statements: 2 and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2995560"/>
            <a:ext cx="8763120" cy="37861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1720-6C30-4312-8CC2-D459C07C2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1644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Policy Suppor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Budget Support and Technical Assistance – centralized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bursement (in Fixed tranche and Variable tranche) is foreseen for first quarter of Financial Year following joint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nditions for disbursement of each tran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onditions for tranche release of variable tran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evaluation arrangements for variable tranch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≥100%, ≥50%, &lt;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dicators will be used to measure urban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access to water supp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rules for tariffs and connection fees allowing for free basic water to vulnerable households developed, tested and approved by the Reg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 new public standpipes serving about 15,000 persons established for providing access to water in areas with low connection rates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 new domestic connections installed serving about 30,000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operating effici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policy and strategy for meter calibration and replacement developed and being implemen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fW reduced to an average of 27% overall by March 2012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educed by 20% from M9.3m/annum in 2008/09 to M7.44m/annum in the 2011/12 financial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production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A’s production capacity increased by 29.52ML/day by March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lization of Institutional Arran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A is now a registered Water and Sewage Company (WASC) and shall be regulate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 has become multi-sector regulator.  Lesotho Electricity and Water  Authority (LEW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t management agency will be created during 2010/11 Financial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ulk Water Authority will also be created during this Financial Year 2010/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Windows User</cp:lastModifiedBy>
  <dcterms:modified xsi:type="dcterms:W3CDTF">2010-10-20T05:52:49Z</dcterms:modified>
  <cp:revision>378</cp:revision>
  <dc:subject/>
  <dc:title>Slide 1</dc:title>
</cp:coreProperties>
</file>