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CEFD6-7202-491B-BA09-247FA0DE55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2F466-BEFF-4758-8B5F-E6D435374B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8A516-D371-4660-898A-018C787D0E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75A3D-6FDA-40D2-9F5D-8B530D394F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47691-EE64-4E1A-A865-24286A5E94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23AC1-F660-48FD-8770-AD4F5BECD5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E6AB3-B97C-46C4-8F3E-D6309FE123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DA97E-A3C3-4BDF-9A26-3CA3704D0C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4AA6F-8978-459D-AF40-6A776F6FB8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2C053-FD6A-4C06-B478-B647D937BB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0B37F-8E94-4B47-99F8-1BFA849218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82997-D301-41B0-95EE-0930A38C21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90D38-E0EF-4256-9E85-DD0542E056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EA168-8F71-4999-A1F3-BA6E639859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74BB7-A90B-4483-AFD6-18B7AEFD56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528B3-57A0-4836-83F5-8049FDBFFA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D4AE3-CCEC-4E43-AD58-900B2DAAB0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415B9-FCD8-433D-B556-D64B8FB981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0E57B-6A8C-47E9-897D-7C1A031692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FF7A4-2A3D-4955-81F7-0BE34D0ADB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D2E66-3B43-47C6-803D-42335A6A60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E995-3596-42F1-8606-993317971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0DC2-89E8-4C12-9E62-D1E3C156B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3469-A1CB-41E0-8E05-8DBBC7B83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179F-9238-4F61-8FC0-B5E8D36DA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CE55-AC55-48EF-94AC-1F816DC6A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31D8-691F-49FB-A677-0A0A4CB47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6C9B-2EA3-47A7-B026-805FFA864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D1FE-5EC2-4FF1-8459-7D7A95CB0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FBE3-91A0-4FB8-A316-20855605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A757-BB3B-441D-80EA-F95BF795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819A-6CC3-47F8-BE6F-34E69B7A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D351-0472-4419-97C7-490CA233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7B0D7-C2B6-4B53-B743-BCC1B9C497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2CC23-36CF-4073-BA45-D4C538220D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642960" y="357120"/>
            <a:ext cx="807228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58ed5"/>
                </a:solidFill>
                <a:latin typeface="Calibri"/>
              </a:rPr>
              <a:t>Water Services Trust Fu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Urban Projects Concept (UPC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1859c"/>
                </a:solidFill>
                <a:latin typeface="Calibri"/>
              </a:rPr>
              <a:t>Fast-tracking &amp; up scaling provision of water and sanitation services to the urban p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42960" y="2071800"/>
            <a:ext cx="781668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Eng. Jacqueline Musyok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CEO of the WS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7. Commissioning and Operation.jpg"/>
          <p:cNvPicPr/>
          <p:nvPr/>
        </p:nvPicPr>
        <p:blipFill>
          <a:blip r:embed="rId2"/>
          <a:stretch/>
        </p:blipFill>
        <p:spPr>
          <a:xfrm>
            <a:off x="4714920" y="2924280"/>
            <a:ext cx="3844800" cy="3097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5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77A49-C3CE-4017-8BC3-D8CC8A6AA7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1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DC409-3A8E-4364-AC5E-9D8D2DA6CF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285840" y="214200"/>
            <a:ext cx="4786200" cy="714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457200" y="1000080"/>
            <a:ext cx="790092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roval and awarding of proj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WS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 implementation by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SP and the WS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Field Monitors of the WSTF provide support and are part of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ulti-Stakeholder Project Task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5. Proposal Awarding by WSTF.jpg"/>
          <p:cNvPicPr/>
          <p:nvPr/>
        </p:nvPicPr>
        <p:blipFill>
          <a:blip r:embed="rId2"/>
          <a:stretch/>
        </p:blipFill>
        <p:spPr>
          <a:xfrm>
            <a:off x="5286240" y="214200"/>
            <a:ext cx="3230640" cy="2357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27" name="Picture 8" descr="6b.Project Implementaton (Community Sensitisation).jpg"/>
          <p:cNvPicPr/>
          <p:nvPr/>
        </p:nvPicPr>
        <p:blipFill>
          <a:blip r:embed="rId3"/>
          <a:stretch/>
        </p:blipFill>
        <p:spPr>
          <a:xfrm>
            <a:off x="5214960" y="2786040"/>
            <a:ext cx="3286080" cy="24289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0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0D43C-5A3D-48BD-BA3D-B758591756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142920" y="142920"/>
            <a:ext cx="4572000" cy="706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7. Commissioning and Operation.jpg"/>
          <p:cNvPicPr/>
          <p:nvPr/>
        </p:nvPicPr>
        <p:blipFill>
          <a:blip r:embed="rId2"/>
          <a:stretch/>
        </p:blipFill>
        <p:spPr>
          <a:xfrm>
            <a:off x="5286240" y="571680"/>
            <a:ext cx="3356280" cy="25714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35" name="Picture 8" descr="8. Project Evaluation.jpg"/>
          <p:cNvPicPr/>
          <p:nvPr/>
        </p:nvPicPr>
        <p:blipFill>
          <a:blip r:embed="rId3"/>
          <a:stretch/>
        </p:blipFill>
        <p:spPr>
          <a:xfrm>
            <a:off x="5283360" y="3500280"/>
            <a:ext cx="3349440" cy="2357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36" name="Rectangle 3"/>
          <p:cNvSpPr/>
          <p:nvPr/>
        </p:nvSpPr>
        <p:spPr>
          <a:xfrm>
            <a:off x="142920" y="928800"/>
            <a:ext cx="790092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eration of the pro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W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.    Evaluation of the project by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STF or by external evalua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Evaluation should be participative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nvolve the residents  &gt;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9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11E4E-5E6A-41A1-AB7C-FDA14108E6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500040" y="214200"/>
            <a:ext cx="8001000" cy="857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428760" y="1071720"/>
            <a:ext cx="790092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6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he WSTF has developed a number support produc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UPC Brochure &amp; UPC 8-Step Cha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olkit for Urban Water Supply Projects (on  DVD-RO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olkit for Public Sanitation Projects (on  DVD-RO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ater Source -  the water and sanitation literature DV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quaPix  -    the urban pictures DV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e In-situ Water Kiosk Construction Manu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olkit for Urban Sanitation Proj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 number of urban community sensitisation posters. Focus, fetching at the kiosk, on water storage &amp; use, hand washing and HIV/AIDS (laminated, size A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4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15102-FD31-4633-A7DA-BC15C54AA4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500040" y="285840"/>
            <a:ext cx="800100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 provided to the WSBs and WSPs: The Toolki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285840" y="1285920"/>
            <a:ext cx="853272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6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Toolkit for Urban Water Supply Project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ows a project to mainstream HIV/AIDS and to address gender iss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s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organise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n easy accessible modul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ll mainly be used by the Field monitors and by WSP and WSB staff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Was developed with three  WSPs (Oloolaiser Water and Sewerage Company, Mavoko WSC and Naivasha Water, Sewerage and Sanitation Company) during the implementation of the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Kiosk Pilot Project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(funded by GTZ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ll lessons learned resulted in numerous improvements and adapt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The pilot project currently supplies more than 20,000 resident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3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01512-B39B-4A59-9F96-C5C4EA30DE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500040" y="285840"/>
            <a:ext cx="800100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 provided to the WSBs and WSPs: The Toolki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457200" y="1357200"/>
            <a:ext cx="790092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6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oolkit for Urban Water Supply Projec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all tools needed to plan, implement &amp; operate an urban water supply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vers all phases of the project cyc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WSTF Application For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s well as data collection and project evaluation too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ludes all necessar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rawing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bills of quantiti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ccompanying measur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a water supply project (community mobilisation, sensitisation and participation, training of staff and kiosk operators, etc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0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3F5F2-C29E-4AAC-8C8F-9A2D5BE613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285840" y="214200"/>
            <a:ext cx="814392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: Field Monitor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285840" y="1071720"/>
            <a:ext cx="790092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project receives the support from a (1) Engineering-, (2) Social- and an (3) Financial Field Moni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he Field Monito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specialists contracted by the WST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attached to WSTF-funded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ist, facilitate, advice &amp; build capacity at WSP-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so monitor progress and quality on behalf of the WS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k closely together with the WSP and WSB and are part of the Project Task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ject Task Team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consists of: WSP and WSB staff, Council staff, the Public Health Officer (PHO),  the Chief, residents and the Field Mon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8787F-484F-48C2-915B-F675FDF37A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71280" y="71280"/>
            <a:ext cx="8643960" cy="128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chnical Options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Water Supply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457200" y="1285920"/>
            <a:ext cx="790092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oolki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ains a number of technical options (drawings, BoQs, etc.) a WSP can opt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itu closed water kiosk (2 siz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abricated closed kiosk (2 siz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abricated bamboo eco kio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n kiosk (covered and not cover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itu yard ta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abricated yard t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paid  public tap (being develop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ter chambers (for up to 25 met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WSP can also choose to implement a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mixed system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(kiosks and yard taps or kiosk and domestic conn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DSC02807.JPG"/>
          <p:cNvPicPr/>
          <p:nvPr/>
        </p:nvPicPr>
        <p:blipFill>
          <a:blip r:embed="rId2"/>
          <a:stretch/>
        </p:blipFill>
        <p:spPr>
          <a:xfrm>
            <a:off x="4809960" y="2928960"/>
            <a:ext cx="41911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74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E15C8-3625-49C8-A7D1-163DA37ABA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71280" y="142920"/>
            <a:ext cx="8715600" cy="128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chnical Options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anitation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142920" y="1428840"/>
            <a:ext cx="790092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final version of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oolkit for Urban Sanitation Projec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will contain a number of technical options a WSP can opt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public sanitation facility (linked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ewer or to a bio-diges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plot-level (shared fac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household level sanitation fac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n increasing number of residents of low income areas are renting their accommodation. They live on a plot together with other tenants and share the available toilet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8" descr="image 01.jpg"/>
          <p:cNvPicPr/>
          <p:nvPr/>
        </p:nvPicPr>
        <p:blipFill>
          <a:blip r:embed="rId2"/>
          <a:stretch/>
        </p:blipFill>
        <p:spPr>
          <a:xfrm>
            <a:off x="4429080" y="2567160"/>
            <a:ext cx="428616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82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76492-850F-4079-A55B-147E48EEC8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285840" y="214200"/>
            <a:ext cx="80010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st but not least: MajiDat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285840" y="1160640"/>
            <a:ext cx="790092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WSTF, at the request of the Ministry of Water and irrigation, is conducting a pro-poor mapping exerc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ailed data is collected in and o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all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w income urban areas of Keny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on population, current water supply &amp; sanitation (WSS) situation, housing, solid waste, socio-economic activities &amp; infrastructure, land ownership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PS readings are taken of area boundaries, existing WSS infrastructure and of the “area characterisation pictures” ta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data will be used to create a database: 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Maji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ajiData  is supported and implemented together with Google.org, Un-Habitat and Kf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89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1C1D4-60CB-41B9-B2AD-75DE798BFF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428760" y="285840"/>
            <a:ext cx="80010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ives of MajiDat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357120" y="1357200"/>
            <a:ext cx="790092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mproving water supply &amp; sanitation (WSS) in urban low income are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nable Water Services Providers (WSPs) to prepare realistic project proposals for the WST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the WSTF to evaluate and prioritise proposals (value for mone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trengthen the capacity of WSPs to manage WSS sche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the Kenyan water sector to assess the current WSS situation and monitor the impact of programmes and their contribution to the achievement of MDGs &amp; Vision 2030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Team has completed data collection in 6 Water Services Boards regions. Data collection will be complete in November. The Team has collected data on more than 1,100  low income urban ar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7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9A940-4BCC-4801-8048-0789F7B989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500040" y="285840"/>
            <a:ext cx="80010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500040" y="1357200"/>
            <a:ext cx="7929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 large proportion of the urban population in Kenya does not have access to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safe wate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adequate san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P1010648.JPG"/>
          <p:cNvPicPr/>
          <p:nvPr/>
        </p:nvPicPr>
        <p:blipFill>
          <a:blip r:embed="rId2"/>
          <a:stretch/>
        </p:blipFill>
        <p:spPr>
          <a:xfrm>
            <a:off x="857160" y="2874960"/>
            <a:ext cx="3500640" cy="2625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P1010664.JPG"/>
          <p:cNvPicPr/>
          <p:nvPr/>
        </p:nvPicPr>
        <p:blipFill>
          <a:blip r:embed="rId3"/>
          <a:stretch/>
        </p:blipFill>
        <p:spPr>
          <a:xfrm>
            <a:off x="4786200" y="2874960"/>
            <a:ext cx="350064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9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63306-683F-4004-8C84-ADC39F5304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214200" y="214200"/>
            <a:ext cx="4500720" cy="1071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" descr=""/>
          <p:cNvPicPr/>
          <p:nvPr/>
        </p:nvPicPr>
        <p:blipFill>
          <a:blip r:embed="rId2"/>
          <a:stretch/>
        </p:blipFill>
        <p:spPr>
          <a:xfrm>
            <a:off x="5076720" y="216000"/>
            <a:ext cx="3346560" cy="2511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P1020493.JPG"/>
          <p:cNvPicPr/>
          <p:nvPr/>
        </p:nvPicPr>
        <p:blipFill>
          <a:blip r:embed="rId3"/>
          <a:stretch/>
        </p:blipFill>
        <p:spPr>
          <a:xfrm>
            <a:off x="5072040" y="30718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P1020484.JPG"/>
          <p:cNvPicPr/>
          <p:nvPr/>
        </p:nvPicPr>
        <p:blipFill>
          <a:blip r:embed="rId4"/>
          <a:stretch/>
        </p:blipFill>
        <p:spPr>
          <a:xfrm>
            <a:off x="214200" y="2286000"/>
            <a:ext cx="450072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5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9D5F2-2B08-4DA8-9179-3FF198E1E6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00040" y="142920"/>
            <a:ext cx="7858080" cy="714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Respon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57200" y="1000080"/>
            <a:ext cx="821844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 respond to this challenge, the Water Services Trust Fund (WSTF) established an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</a:rPr>
              <a:t>Urban Window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to finance sustainable urban water supply and sanitation projects in low income urban are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is Window is supported by the European Union (EU) and by the German Development Bank (KfW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vailable funds :  € 15.5 million (approx KSh 1.5 Bill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KfW will continue supporting the UPC after the current phase          (€ 5.5. million) with an additional € 12 mill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echnical support is provided by the German Technical Cooperation (GTZ) and by Kf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e WSTF has developed the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</a:rPr>
              <a:t>Urban Projects Concept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(UPC) to provide support and opportunities to the Water Service Providers (WSPs) &amp; Water Services Boards (WSB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1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44F1E-8DAF-47EF-BEA5-35E18D6D16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500040" y="214200"/>
            <a:ext cx="792972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i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457200" y="1143000"/>
            <a:ext cx="797256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does the WSTF intend to achie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Making sustainable safe water and adequate sanitation accessible to a large number of urban po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mproving public heal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ontributing to the improvement of urban liveliho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educing unaccounted for wa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uild capacity at provider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</a:rPr>
              <a:t>Objective of the WSTF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:  reaching the poor…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ater supply:    1.4 million residents (500,000 in 20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anitation: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     400,000 resident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etween January 2009 and December 20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8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FA231-9546-4B7F-8EBD-8C8D241191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500040" y="214200"/>
            <a:ext cx="8001000" cy="6429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ives (cont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457200" y="1000080"/>
            <a:ext cx="797256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Water supply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vestment cost per beneficiary:  Euro 5 – Euro 17 (depending on the required technical works and social constraints) of urban livelih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ducing unaccounted for wa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P1010655.JPG"/>
          <p:cNvPicPr/>
          <p:nvPr/>
        </p:nvPicPr>
        <p:blipFill>
          <a:blip r:embed="rId2"/>
          <a:stretch/>
        </p:blipFill>
        <p:spPr>
          <a:xfrm>
            <a:off x="4238640" y="3498840"/>
            <a:ext cx="390528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CF312-A472-4E28-835F-477CFED4C7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500040" y="214200"/>
            <a:ext cx="8001000" cy="714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ives (cont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457200" y="928800"/>
            <a:ext cx="797256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Sanitatio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vestment cost per beneficiary: KSh 500 (funded by WSTF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WSTF will offer innovativ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public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plot-level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household-level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sanitation solutions: KSh 8,000 for a single household facility and KSh 40,000 – 70,000; for a shared facility (4 – 20 households living on the same pl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Sanitation, in most cases, the outcome of a household decision... or a decision made by the landlo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P1010737.JPG"/>
          <p:cNvPicPr/>
          <p:nvPr/>
        </p:nvPicPr>
        <p:blipFill>
          <a:blip r:embed="rId2"/>
          <a:stretch/>
        </p:blipFill>
        <p:spPr>
          <a:xfrm>
            <a:off x="571680" y="4071960"/>
            <a:ext cx="3524040" cy="2214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image 01.jpg"/>
          <p:cNvPicPr/>
          <p:nvPr/>
        </p:nvPicPr>
        <p:blipFill>
          <a:blip r:embed="rId3"/>
          <a:stretch/>
        </p:blipFill>
        <p:spPr>
          <a:xfrm>
            <a:off x="4500720" y="4071960"/>
            <a:ext cx="407196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5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61E1E-AFFB-4994-BF38-4B6FCC538C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500040" y="214200"/>
            <a:ext cx="792972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ppro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2"/>
          <a:stretch/>
        </p:blipFill>
        <p:spPr>
          <a:xfrm>
            <a:off x="1473120" y="3481560"/>
            <a:ext cx="3527640" cy="26445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457200" y="1428840"/>
            <a:ext cx="80438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funds of the WSTF can only be accessed by licensed Water Service Providers (WS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WSPs are responsible for the management of project funds as well as for the successful implementation and sustainable operation of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3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347CC-5251-49E0-BA0A-69E19B9EEB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214200" y="214200"/>
            <a:ext cx="8358480" cy="857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rban Projects Concept has eight (8) ste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214200" y="1214280"/>
            <a:ext cx="814392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unch of the Call for Propos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WS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llection of data by the W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population demand for wat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1. Announcing the Call for Proposals .jpg"/>
          <p:cNvPicPr/>
          <p:nvPr/>
        </p:nvPicPr>
        <p:blipFill>
          <a:blip r:embed="rId2"/>
          <a:stretch/>
        </p:blipFill>
        <p:spPr>
          <a:xfrm>
            <a:off x="5357880" y="1143000"/>
            <a:ext cx="3214800" cy="2328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09" name="Picture 8" descr="2. Data Collection.jpg"/>
          <p:cNvPicPr/>
          <p:nvPr/>
        </p:nvPicPr>
        <p:blipFill>
          <a:blip r:embed="rId3"/>
          <a:stretch/>
        </p:blipFill>
        <p:spPr>
          <a:xfrm>
            <a:off x="5357880" y="3643200"/>
            <a:ext cx="3286080" cy="23367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2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09726-40B0-4291-80C2-ABAC16C3CA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428760" y="214200"/>
            <a:ext cx="8143920" cy="857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5120" indent="-465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paration of project propos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WSPs and WS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  Appraisal of project propos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the WST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3. Proposal Preparation.jpg"/>
          <p:cNvPicPr/>
          <p:nvPr/>
        </p:nvPicPr>
        <p:blipFill>
          <a:blip r:embed="rId2"/>
          <a:stretch/>
        </p:blipFill>
        <p:spPr>
          <a:xfrm>
            <a:off x="5286240" y="1071720"/>
            <a:ext cx="3286440" cy="2328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18" name="Picture 8" descr="4. Proposal Evaluation by WSTF.jpg"/>
          <p:cNvPicPr/>
          <p:nvPr/>
        </p:nvPicPr>
        <p:blipFill>
          <a:blip r:embed="rId3"/>
          <a:stretch/>
        </p:blipFill>
        <p:spPr>
          <a:xfrm>
            <a:off x="5286240" y="3643200"/>
            <a:ext cx="3321360" cy="23148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2:02:34Z</dcterms:created>
  <dc:creator>dell client</dc:creator>
  <dc:description/>
  <dc:language>en-US</dc:language>
  <cp:lastModifiedBy>rolendo</cp:lastModifiedBy>
  <dcterms:modified xsi:type="dcterms:W3CDTF">2010-10-18T04:54:57Z</dcterms:modified>
  <cp:revision>123</cp:revision>
  <dc:subject/>
  <dc:title>Slide 1</dc:title>
</cp:coreProperties>
</file>