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907588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2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116636-D87C-44C2-BA7B-F6F85E9FDB0A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25F3A4F-0BE8-43A9-9008-43597B68046A}" type="datetime10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8:0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698040" y="741240"/>
            <a:ext cx="534852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3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4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0BA541-F03E-4F75-B0A4-87CEC878C74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A7DE0F-864E-48F9-97D6-45C39DE6B19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2B830A-2E82-4F4E-8DB8-1C08B56F47C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F5670-249A-49E4-BDBA-899F28973F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C85C7-1964-4DAE-9140-C99FF000EF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7BF26-2541-477D-B0E5-F06F24FDAF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44D69-CC42-4173-8FD0-4B208650D5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D33C4-C450-4EE3-B931-CE390D4228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A4FF4-CF67-4EE4-ADC9-E03CB01BA2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9CFDA-31AD-4D34-9AAC-9207967AAF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9F92C-3008-44A0-B14F-B706D4CB4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A4153-8E12-4982-9BC6-2DAE04D9C0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81BD7-C567-4253-99CF-A0E61DFB81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C3CFC-122D-4D4B-A81E-11DB4102F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36C79-C123-4993-B418-45BDA334B9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775720" y="6008760"/>
            <a:ext cx="496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F159-F4EA-4D97-BAEE-E1E016A8D3AE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45C2-40D6-4F4C-990E-2395727EE89E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19" descr="GDC Logo"/>
          <p:cNvPicPr/>
          <p:nvPr/>
        </p:nvPicPr>
        <p:blipFill>
          <a:blip r:embed="rId6"/>
          <a:stretch/>
        </p:blipFill>
        <p:spPr>
          <a:xfrm>
            <a:off x="8601120" y="338040"/>
            <a:ext cx="689040" cy="95724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6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7"/>
          <p:cNvSpPr/>
          <p:nvPr/>
        </p:nvSpPr>
        <p:spPr>
          <a:xfrm>
            <a:off x="304920" y="304920"/>
            <a:ext cx="9242280" cy="6208560"/>
          </a:xfrm>
          <a:prstGeom prst="roundRect">
            <a:avLst>
              <a:gd name="adj" fmla="val 3380"/>
            </a:avLst>
          </a:prstGeom>
          <a:blipFill rotWithShape="0">
            <a:blip r:embed="rId2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1981080" y="3048120"/>
            <a:ext cx="58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56080" y="4724280"/>
            <a:ext cx="328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 of Water Sector Refo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stry of Water and Irrig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i House, Ngong Roa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.O.Box 19512-0020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irobi, Keny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AA38-621E-4ED1-A024-BFC166246677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3dflagsdotcom_kenya_2fawm"/>
          <p:cNvPicPr/>
          <p:nvPr/>
        </p:nvPicPr>
        <p:blipFill>
          <a:blip r:embed="rId6"/>
          <a:stretch/>
        </p:blipFill>
        <p:spPr>
          <a:xfrm>
            <a:off x="8221680" y="76320"/>
            <a:ext cx="1627200" cy="1066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256824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inistry of Water and Irrig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irectorate of Water Sector Refo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tus of sector refor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2010</a:t>
            </a:r>
            <a:endParaRPr b="1" lang="en-US" sz="2000" spc="-1" strike="noStrike">
              <a:solidFill>
                <a:srgbClr val="003a67"/>
              </a:solidFill>
              <a:latin typeface="Arial"/>
            </a:endParaRPr>
          </a:p>
        </p:txBody>
      </p:sp>
      <p:pic>
        <p:nvPicPr>
          <p:cNvPr id="149" name="Picture 37" descr="~AUT0000"/>
          <p:cNvPicPr/>
          <p:nvPr/>
        </p:nvPicPr>
        <p:blipFill>
          <a:blip r:embed="rId1"/>
          <a:stretch/>
        </p:blipFill>
        <p:spPr>
          <a:xfrm>
            <a:off x="3598920" y="457200"/>
            <a:ext cx="21924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The current situation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04920" y="1600200"/>
            <a:ext cx="937260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reforms that commenced in 2004 based on the Water Act 2002 are progressing well creating the intended impacts that included increased access/coverage, professionalizing sector management, stakeholder participation and pro poor orientation both in rural and urba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various sector institutions are progressively taking charge of their respective mandates and carrying their roles effectively albeit with challeng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players are embracing and appreciating the new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MWI is increasingly concentrating on policy formulation, sector coordination, oversight and resource mobilization; WRMA on water resources management, WASREB on regulation of WSS, WSTF on pro poor funding in rural, urban and peri urban settings; WSBs on investment planning and development; WSPs on provision of W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transfer plan has since been revised, approved and awaits circulation. Key outstanding issues addressed in the revised transfer plan include transfer of assets and liabilities; complete de-linking of human resources to the respective sector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Progress during the last one year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3" name="TextBox 110"/>
          <p:cNvSpPr/>
          <p:nvPr/>
        </p:nvSpPr>
        <p:spPr>
          <a:xfrm>
            <a:off x="304920" y="1600200"/>
            <a:ext cx="9219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S assets from all WSBs have now been documented and valued, Cabinet memorandum prepared and ready for submi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Is Pension Scheme registered and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adline for HR delinking set for June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confidence in sector reform confirmed by increased financial commitments by development (i.e ADB, KfW) and government (sector budget now over Kshs. 30 bill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velopment of secondary legislation including water rules, governance guideline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focus on human right to water eg continued formalization of service provision in urban and peri urban set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Impact report on the water services sector performance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formation briefs published and issued by the WSRS to clarify and elaborate critical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mpowerment of right holders eg W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Challenge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304920" y="1676520"/>
            <a:ext cx="9296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-aligning the Water Act 2002 to the provisions of the New Constit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ustainability/viability of several sector institutions at national, regional and local lev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munication within and outside the sector still inadequ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Governance challenge has given the sector negative publicity eg appointment of board members, misuse of fund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institutional capacities eg. laboratories at treatment, sustainable metering management capacity,  financial management at WSBs and WSPs levels, customer 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skills and competencies in the sector eg. chemists, plant mechanics, customer care, finance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ing fencing of sector revenues (lease fees, DWO allocations et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Aligning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inalize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funding of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Next step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304920" y="1676520"/>
            <a:ext cx="9448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ask force in place preparing amendments to the Water Act 2002 to complete by Dec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luster WSPs based on viability criteria and county govern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organization of WRMA to separate regulation and implementation in 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Need to progressively sustain enforcement of governance guidelines and public reporting by al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n communication promote reporting to public, stakeholder forums, pro active media briefing, publicize the gains/successes of reforms, issue communication brief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arry out capacity needs assessment, both institutional, for the sector (incl WSIs) and propose action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plete asset re-assignment and gradually outlaw lease f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ork with Treasury to realign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mplement recommendations on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 funding for the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0:10:19Z</dcterms:created>
  <dc:creator>ralf.wegener</dc:creator>
  <dc:description/>
  <dc:language>en-US</dc:language>
  <cp:lastModifiedBy>Administrator</cp:lastModifiedBy>
  <cp:lastPrinted>2000-11-03T14:33:29Z</cp:lastPrinted>
  <dcterms:modified xsi:type="dcterms:W3CDTF">2010-10-19T05:40:23Z</dcterms:modified>
  <cp:revision>220</cp:revision>
  <dc:subject/>
  <dc:title> Study </dc:title>
</cp:coreProperties>
</file>