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5057-FC06-4AC8-9F3F-A55D082E25E8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B9F1-F379-4280-A506-0E352153EF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0047-23C2-4148-8562-410661CAA6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F2B2-B5F0-4BB7-AB54-7BDD49D5E8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57EB-A95B-4125-B17A-557D2E0D3D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0CF4-C0B8-439C-825E-AF54A1E1A9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B1FC-AB6E-4421-B25E-90F0BEED9A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Section 6.4 of UNDP-UNEP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DE73-330F-45F9-8C84-71A6735118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national level, a high-level formal or informal climate change coordinating structure can support the overall response – but should catalyse it rather than act as a substitute for action by other government ag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body with a coordination mandate and decision-making power over line ministries, in particular with regard to budget allo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Office of the President or Prime Minister, Ministry of Finance, Ministry of Planning or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5BD4-7246-4F7D-B41B-43976D7AC2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2145-489A-433E-8AE7-FB070D93B1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5929-7E9D-49EA-A8A6-9FB669BA05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96C9-C5BF-4820-B953-6D1137657A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7363-EEDF-45D4-884D-D5854D301F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83EB-8C34-492C-B8D2-7BF698BEF6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8E2A-25AC-4E8E-8A93-A69C0914AF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B6FA-29AB-42F2-84FA-406D5C7E92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6E96-029A-4DBC-B835-3F5A6C64FD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P (2011: 72) A NCSA i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untry-driv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ocally adap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nsultati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ocess that aim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review global environment issues that require priority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determine how capacity development could strengthen management of thes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epare a national action plan for capacity develop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national capacity self-assessments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ulnerability and capacity assessment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see UNDP-UNEP (2010)  pp. 32-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F087-315B-4ABC-9C4D-12C58CE281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50C1-10B7-422C-854A-A9E4C466DD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ee UNDP-UNEP (2009) page 7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4353-451E-4798-A1E7-0889585AF0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270A-9695-403B-9B8B-CFBCE9A8EE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inks between the environment and sectoral performance have been addressed in Module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formance of th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ector tends to be underfunded: for example, in Lesotho (2012) the Department of Environment is under the Ministry of Tourism and Environment. The whole Ministry receives about 0.16% of the budget allocated to line ministries, and only a small fraction of that is for the Department of Environment, as the Ministr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main tasks are oriented to promotion of tour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under the environment sector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get implemented because of lack of funding. If other sectors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assume responsibility for their environmental dimension, there are very limited options to address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6F83-67BB-4AAC-82CB-E9B7DD83E8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4AE7-1716-4FD1-8DC0-12485751D4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lal-Clayton &amp; Bass 2009: Outcomes of main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articipation and democratic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olicy and politic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lan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udge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stitutional and capacity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vestmen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ehaviour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velopmental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7910-CEAA-4F6A-8874-E44286E57E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B948-118A-4750-B9BD-4E13A699A9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C6DB-0EEE-464E-8827-F43C36538D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E21-BD58-4B19-B10A-88A1AB0E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C89-5C5C-4C84-9B6E-8BD755F0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FD46-C367-4508-9D09-9F2EE67F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4EC-4C66-4350-B947-ECA655C6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A22C-A009-431E-9B73-28C09DC4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0272-D90C-41A0-AB00-7C3BE409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A2E6-CC7E-4FF5-BA9F-A0CE3979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FAA7-3CDB-44B8-81D1-64914DA7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C1A2-E804-49EA-8F83-8F8775F1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DDBD-52C4-45A3-8221-CCD52146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82F2-8A52-477F-A2FA-7A9FF14A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41D-ECAD-4A17-9DD1-9D9A949E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9412-CE22-4CDA-90E9-D618DB5F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6B08-5FC5-4D47-998A-C1FD8B2F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FBEB-96D7-413D-A4F2-AECE7AA8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1FEA-10A3-4FF6-996B-0B9A7FFA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6D57-DA55-4D3F-93B5-7360240A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5319-F270-462F-9DBD-9A1DAD5B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3AF-B1D2-4E37-B371-42B9D17B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AF7-5C8D-4B12-9F62-B1EE0325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180-777B-4394-A4A6-B4B20AA4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5C0D-91AA-4CF7-B9D6-29FA9AA6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291-A23F-4A5C-A367-25DC22D5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598-67FA-4FD7-807C-2516EAF9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F865-5A7F-4C27-AC19-F9860AE60C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9801-FC87-4758-91AE-F103E1091D2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ndp.org/mainstream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nvironmental-mainstreaming.org/key-lit.html" TargetMode="External"/><Relationship Id="rId2" Type="http://schemas.openxmlformats.org/officeDocument/2006/relationships/hyperlink" Target="http://www.undp.org/climatechange/docs/English/UNDP_Adaptation_final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924280"/>
            <a:ext cx="8640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2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and strengthening institutions and capacit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532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trengthening institutions and capacit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8BFB-76FD-4B93-B824-8E981AA23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institutional requirements for effective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3419640" y="3243240"/>
            <a:ext cx="2304720" cy="67284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Effective 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Rounded Rectangular Callout 5"/>
          <p:cNvSpPr/>
          <p:nvPr/>
        </p:nvSpPr>
        <p:spPr>
          <a:xfrm>
            <a:off x="334800" y="1535040"/>
            <a:ext cx="1981440" cy="1371600"/>
          </a:xfrm>
          <a:prstGeom prst="wedgeRoundRectCallout">
            <a:avLst>
              <a:gd name="adj1" fmla="val 115361"/>
              <a:gd name="adj2" fmla="val 70152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oss-sectoral &amp; cross-level coordination, cooper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Rounded Rectangular Callout 6"/>
          <p:cNvSpPr/>
          <p:nvPr/>
        </p:nvSpPr>
        <p:spPr>
          <a:xfrm>
            <a:off x="3306600" y="1306440"/>
            <a:ext cx="1905120" cy="1067040"/>
          </a:xfrm>
          <a:prstGeom prst="wedgeRoundRectCallout">
            <a:avLst>
              <a:gd name="adj1" fmla="val 21203"/>
              <a:gd name="adj2" fmla="val 118236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werful champions at national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7"/>
          <p:cNvSpPr/>
          <p:nvPr/>
        </p:nvSpPr>
        <p:spPr>
          <a:xfrm>
            <a:off x="6659640" y="1916280"/>
            <a:ext cx="1981080" cy="2057400"/>
          </a:xfrm>
          <a:prstGeom prst="wedgeRoundRectCallout">
            <a:avLst>
              <a:gd name="adj1" fmla="val -98763"/>
              <a:gd name="adj2" fmla="val 18055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tegration of new thinking, new research in planning &amp; monitoring systems &amp; proces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8"/>
          <p:cNvSpPr/>
          <p:nvPr/>
        </p:nvSpPr>
        <p:spPr>
          <a:xfrm>
            <a:off x="487440" y="3821040"/>
            <a:ext cx="1981080" cy="152424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xperience sharing, dissemination of good practi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ular Callout 9"/>
          <p:cNvSpPr/>
          <p:nvPr/>
        </p:nvSpPr>
        <p:spPr>
          <a:xfrm>
            <a:off x="3002040" y="4888080"/>
            <a:ext cx="2057400" cy="1371600"/>
          </a:xfrm>
          <a:prstGeom prst="wedgeRoundRectCallout">
            <a:avLst>
              <a:gd name="adj1" fmla="val 18453"/>
              <a:gd name="adj2" fmla="val -12985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imely stakeholder participation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ular Callout 10"/>
          <p:cNvSpPr/>
          <p:nvPr/>
        </p:nvSpPr>
        <p:spPr>
          <a:xfrm>
            <a:off x="5973840" y="4811760"/>
            <a:ext cx="2057400" cy="1371600"/>
          </a:xfrm>
          <a:prstGeom prst="wedgeRoundRectCallout">
            <a:avLst>
              <a:gd name="adj1" fmla="val -85004"/>
              <a:gd name="adj2" fmla="val -120013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rengthening of capacities of stakeholders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ular Callout 11"/>
          <p:cNvSpPr/>
          <p:nvPr/>
        </p:nvSpPr>
        <p:spPr>
          <a:xfrm>
            <a:off x="5334120" y="1066680"/>
            <a:ext cx="3047760" cy="914400"/>
          </a:xfrm>
          <a:prstGeom prst="wedgeRectCallout">
            <a:avLst>
              <a:gd name="adj1" fmla="val -63527"/>
              <a:gd name="adj2" fmla="val 11472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e.g. office of prime minister, ministries of finance/budget/plann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1AF7-C96F-4A2C-9337-86808AA8D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052640"/>
          <a:ext cx="8750160" cy="532116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 government (incl. office of prime minister, line ministries, DRR authorities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adership, performance management framework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ies, standards &amp; regul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cation of budget resourc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idance &amp; capacity build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arlia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everage, advocacy (especially for budgeting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ational Statistics Offic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evelopment and monitoring of indicator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governmen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tion of national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tion with local-level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te secto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for losses &amp; opportunities, risk mgm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ibution to sustainable investments &amp; vulnerability reduction through develop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ientific &amp; academic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-oriented research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for decision mak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 promotion agen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nvestments; climate-proofing of investments, bridging of development gap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 change adequately addressed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0681-C227-4500-B46C-5EEA21791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79280" y="6362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052640"/>
          <a:ext cx="8750160" cy="259704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 Society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use of their expertis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lp reflect local rea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collection, 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tchdog ro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ach out to community leve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eneral public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rass-roots level knowled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egrate voices of the poores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4"/>
          <p:cNvSpPr/>
          <p:nvPr/>
        </p:nvSpPr>
        <p:spPr>
          <a:xfrm>
            <a:off x="179280" y="6308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BD14-343C-4DDF-BC26-55E8FD9A3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f5494"/>
                </a:solidFill>
                <a:latin typeface="Verdana"/>
              </a:rPr>
              <a:t>Possible entry points for environmental mainstreaming in national development planning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604360" y="6381720"/>
            <a:ext cx="5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9C48-0A0E-439E-AB7A-3AB555960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2565360"/>
          <a:ext cx="8534160" cy="3814920"/>
        </p:xfrm>
        <a:graphic>
          <a:graphicData uri="http://schemas.openxmlformats.org/drawingml/2006/table">
            <a:tbl>
              <a:tblPr/>
              <a:tblGrid>
                <a:gridCol w="2286000"/>
                <a:gridCol w="62481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ry Poin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government and cross-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strategy pap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development pla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DG-based national development strategy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 allocation process or review (e.g. medium-term expenditure framework, public expenditure review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strategies, plans and policies (e.g. agriculture sector plan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ector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 expenditure review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-national author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entralisation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ct pl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ubnational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76" name="TextBox 4"/>
          <p:cNvSpPr/>
          <p:nvPr/>
        </p:nvSpPr>
        <p:spPr>
          <a:xfrm>
            <a:off x="457200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EP-UND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rinciples for institutionalising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419720" y="43434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3176-715A-4CCD-868C-8AAA107D8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2565000"/>
            <a:ext cx="853416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ve coordination to a central body with a coordination mandate and decision-making power over line minis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climate chang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ina: National Development &amp; Reform Commiss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enya: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environment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ierra Leone: EPA under the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lawi: Steering Committee on Natural Resourc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7B92-F96D-43EC-8915-C2ECE78EF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2420640"/>
            <a:ext cx="8370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ish/strengthen coordination mechanisms, with clear allocation of responsibilities and permanent arrang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climate change, Mexico: Inter-Ministerial Commission on Climate Change (CICC) with dedicated working grou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uild on pre-existing intersectoral coordination mechanisms wherever possi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food security, DRR, sustainable land manage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988D-0817-44E5-B076-73F1C9093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0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flexi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commitment to regular policy/strategy revisions and reassessment of available knowled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mainstream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and climate change mitigation/adap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in guidelines, procedures, systems, environmental screening for SEA and EIA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85D2-9F5F-4FE0-BF4F-C5581FFD6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92436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4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effective national–local coordination mechanisms, identifying the most suitable level at which to cooperate/coordina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Rwanda: annual performance contracts between various levels of government, with clear definition of goals, indicators and activit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rengthen institutions at the sub-national level, matching the transfer of competences with the transfer of resour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A968-EFD3-4658-9A17-D397FD29B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492280"/>
            <a:ext cx="8534160" cy="1873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3000"/>
          </a:bodyPr>
          <a:p>
            <a:pPr marL="318960" indent="-318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What is mainstreaming,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why mainstream environment and climate change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5ED5-F5EE-4400-B50B-98A9272F3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E2CC-3F51-4EF1-8B32-066AE0616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4" descr="C:\Documents and Settings\Carlos Soria\My Documents\My Pictures\Alto Huallaga Tingo Maria Monzon Alto Bella julio 23, 2003\IM001873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439560" y="6396120"/>
            <a:ext cx="85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Source: Soria (2005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Local capac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Tools and actions for supporting institutional and capacity strengthe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5404-80D1-4582-85EB-1DCDF1B16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eps in institutional and capacity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rength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846C-3FD8-4122-A937-84CB1CAF2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ounded Rectangle 12"/>
          <p:cNvSpPr/>
          <p:nvPr/>
        </p:nvSpPr>
        <p:spPr>
          <a:xfrm>
            <a:off x="609480" y="1684440"/>
            <a:ext cx="2519640" cy="10429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eed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Rounded Rectangle 13"/>
          <p:cNvSpPr/>
          <p:nvPr/>
        </p:nvSpPr>
        <p:spPr>
          <a:xfrm>
            <a:off x="609480" y="3962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Learning by do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Rounded Rectangle 14"/>
          <p:cNvSpPr/>
          <p:nvPr/>
        </p:nvSpPr>
        <p:spPr>
          <a:xfrm>
            <a:off x="609480" y="2819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Working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Rounded Rectangle 15"/>
          <p:cNvSpPr/>
          <p:nvPr/>
        </p:nvSpPr>
        <p:spPr>
          <a:xfrm>
            <a:off x="609480" y="5432400"/>
            <a:ext cx="2519640" cy="10447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instreaming as standard practic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ounded Rectangle 16"/>
          <p:cNvSpPr/>
          <p:nvPr/>
        </p:nvSpPr>
        <p:spPr>
          <a:xfrm>
            <a:off x="3576600" y="1684440"/>
            <a:ext cx="2651040" cy="1042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National capacity self-assess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Rounded Rectangle 17"/>
          <p:cNvSpPr/>
          <p:nvPr/>
        </p:nvSpPr>
        <p:spPr>
          <a:xfrm>
            <a:off x="3576600" y="2819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Inst</a:t>
            </a:r>
            <a:r>
              <a:rPr b="1" lang="ja-JP" sz="1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l arrangemen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anagement framework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Work pla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Rounded Rectangle 18"/>
          <p:cNvSpPr/>
          <p:nvPr/>
        </p:nvSpPr>
        <p:spPr>
          <a:xfrm>
            <a:off x="3576600" y="3962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Training, exchange visits, on-the-job learning, lesson learning/dissemin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2" name="Straight Arrow Connector 20"/>
          <p:cNvCxnSpPr>
            <a:stCxn id="209" idx="1"/>
            <a:endCxn id="205" idx="3"/>
          </p:cNvCxnSpPr>
          <p:nvPr/>
        </p:nvCxnSpPr>
        <p:spPr>
          <a:xfrm flipH="1">
            <a:off x="3128400" y="220464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3" name="Straight Arrow Connector 21"/>
          <p:cNvCxnSpPr>
            <a:stCxn id="210" idx="1"/>
            <a:endCxn id="207" idx="3"/>
          </p:cNvCxnSpPr>
          <p:nvPr/>
        </p:nvCxnSpPr>
        <p:spPr>
          <a:xfrm flipH="1">
            <a:off x="3128400" y="3341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4" name="Straight Arrow Connector 22"/>
          <p:cNvCxnSpPr>
            <a:stCxn id="211" idx="1"/>
            <a:endCxn id="206" idx="3"/>
          </p:cNvCxnSpPr>
          <p:nvPr/>
        </p:nvCxnSpPr>
        <p:spPr>
          <a:xfrm flipH="1">
            <a:off x="3128400" y="4484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5" name="Straight Arrow Connector 27"/>
          <p:cNvCxnSpPr>
            <a:stCxn id="206" idx="2"/>
            <a:endCxn id="208" idx="0"/>
          </p:cNvCxnSpPr>
          <p:nvPr/>
        </p:nvCxnSpPr>
        <p:spPr>
          <a:xfrm flipH="1">
            <a:off x="1867680" y="5006880"/>
            <a:ext cx="2520" cy="4276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16" name="Elbow Connector 31"/>
          <p:cNvCxnSpPr>
            <a:stCxn id="208" idx="1"/>
            <a:endCxn id="205" idx="1"/>
          </p:cNvCxnSpPr>
          <p:nvPr/>
        </p:nvCxnSpPr>
        <p:spPr>
          <a:xfrm rot="10800000">
            <a:off x="608760" y="2204280"/>
            <a:ext cx="2520" cy="3750480"/>
          </a:xfrm>
          <a:prstGeom prst="bentConnector3">
            <a:avLst>
              <a:gd name="adj1" fmla="val 14383333"/>
            </a:avLst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217" name="Straight Connector 33"/>
          <p:cNvSpPr/>
          <p:nvPr/>
        </p:nvSpPr>
        <p:spPr>
          <a:xfrm>
            <a:off x="1870200" y="2727360"/>
            <a:ext cx="0" cy="9216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traight Connector 35"/>
          <p:cNvSpPr/>
          <p:nvPr/>
        </p:nvSpPr>
        <p:spPr>
          <a:xfrm>
            <a:off x="1870200" y="3863880"/>
            <a:ext cx="0" cy="986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Rounded Rectangle 19"/>
          <p:cNvSpPr/>
          <p:nvPr/>
        </p:nvSpPr>
        <p:spPr>
          <a:xfrm>
            <a:off x="6588000" y="1687680"/>
            <a:ext cx="201636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Stakeholder analysi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20" name="Straight Arrow Connector 23"/>
          <p:cNvCxnSpPr>
            <a:stCxn id="219" idx="1"/>
          </p:cNvCxnSpPr>
          <p:nvPr/>
        </p:nvCxnSpPr>
        <p:spPr>
          <a:xfrm flipH="1" flipV="1">
            <a:off x="6165000" y="2204280"/>
            <a:ext cx="423000" cy="540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capacity development for whom, for what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491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apacity development (CD) should take plac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t three complementary level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abling environment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or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ystem level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overall institutional leve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organisation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ndividu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6E59-8D38-4F4C-9B89-D7422DD3F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Cloud Callout 4"/>
          <p:cNvSpPr/>
          <p:nvPr/>
        </p:nvSpPr>
        <p:spPr>
          <a:xfrm>
            <a:off x="3924360" y="4076640"/>
            <a:ext cx="4876920" cy="1874880"/>
          </a:xfrm>
          <a:prstGeom prst="cloudCallout">
            <a:avLst>
              <a:gd name="adj1" fmla="val -29435"/>
              <a:gd name="adj2" fmla="val -75777"/>
            </a:avLst>
          </a:prstGeom>
          <a:solidFill>
            <a:srgbClr val="0f5494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Start by determining: 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Capacity development for what?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-&gt; Define specific objec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eeds assessment: stakeholders</a:t>
            </a:r>
            <a:r>
              <a:rPr b="1" lang="ja-JP" sz="30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D needs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708360" y="3243240"/>
            <a:ext cx="180036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takeholder capacity build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Rounded Rectangular Callout 5"/>
          <p:cNvSpPr/>
          <p:nvPr/>
        </p:nvSpPr>
        <p:spPr>
          <a:xfrm>
            <a:off x="471600" y="1752480"/>
            <a:ext cx="1600200" cy="1371600"/>
          </a:xfrm>
          <a:prstGeom prst="wedgeRoundRectCallout">
            <a:avLst>
              <a:gd name="adj1" fmla="val 153768"/>
              <a:gd name="adj2" fmla="val 7561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formation systems &amp; analytical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Rounded Rectangular Callout 6"/>
          <p:cNvSpPr/>
          <p:nvPr/>
        </p:nvSpPr>
        <p:spPr>
          <a:xfrm>
            <a:off x="3290760" y="1447920"/>
            <a:ext cx="1752840" cy="990360"/>
          </a:xfrm>
          <a:prstGeom prst="wedgeRoundRectCallout">
            <a:avLst>
              <a:gd name="adj1" fmla="val 22060"/>
              <a:gd name="adj2" fmla="val 131856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lanning &amp; prioritis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Rounded Rectangular Callout 7"/>
          <p:cNvSpPr/>
          <p:nvPr/>
        </p:nvSpPr>
        <p:spPr>
          <a:xfrm>
            <a:off x="6567480" y="2209680"/>
            <a:ext cx="1981080" cy="1371600"/>
          </a:xfrm>
          <a:prstGeom prst="wedgeRoundRectCallout">
            <a:avLst>
              <a:gd name="adj1" fmla="val -101791"/>
              <a:gd name="adj2" fmla="val 3991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rticipatory engagement &amp; empowerment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ounded Rectangular Callout 8"/>
          <p:cNvSpPr/>
          <p:nvPr/>
        </p:nvSpPr>
        <p:spPr>
          <a:xfrm>
            <a:off x="395280" y="3962520"/>
            <a:ext cx="2133720" cy="106668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tical &amp; communic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Rounded Rectangular Callout 9"/>
          <p:cNvSpPr/>
          <p:nvPr/>
        </p:nvSpPr>
        <p:spPr>
          <a:xfrm>
            <a:off x="3200400" y="5105520"/>
            <a:ext cx="1905120" cy="1066680"/>
          </a:xfrm>
          <a:prstGeom prst="wedgeRoundRectCallout">
            <a:avLst>
              <a:gd name="adj1" fmla="val 19240"/>
              <a:gd name="adj2" fmla="val -13828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ing, evaluation &amp; learning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Rounded Rectangular Callout 10"/>
          <p:cNvSpPr/>
          <p:nvPr/>
        </p:nvSpPr>
        <p:spPr>
          <a:xfrm>
            <a:off x="6705720" y="4267080"/>
            <a:ext cx="1828800" cy="990720"/>
          </a:xfrm>
          <a:prstGeom prst="wedgeRoundRectCallout">
            <a:avLst>
              <a:gd name="adj1" fmla="val -116518"/>
              <a:gd name="adj2" fmla="val -97810"/>
              <a:gd name="adj3" fmla="val 16667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ecific technical skil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8503-2FFC-46EC-8735-6730D48A2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484520" y="657684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Dalal-Clayton &amp; Bass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Cloud Callout 12"/>
          <p:cNvSpPr/>
          <p:nvPr/>
        </p:nvSpPr>
        <p:spPr>
          <a:xfrm>
            <a:off x="395280" y="5410080"/>
            <a:ext cx="2286000" cy="1067040"/>
          </a:xfrm>
          <a:prstGeom prst="cloudCallout">
            <a:avLst>
              <a:gd name="adj1" fmla="val 56912"/>
              <a:gd name="adj2" fmla="val -11040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FUNCTIONAL CAPACITIES</a:t>
            </a: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’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Cloud Callout 13"/>
          <p:cNvSpPr/>
          <p:nvPr/>
        </p:nvSpPr>
        <p:spPr>
          <a:xfrm>
            <a:off x="5219640" y="5410080"/>
            <a:ext cx="2592360" cy="1067040"/>
          </a:xfrm>
          <a:prstGeom prst="cloudCallout">
            <a:avLst>
              <a:gd name="adj1" fmla="val 11166"/>
              <a:gd name="adj2" fmla="val -91194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TECHNICAL CAPACIT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national capacity self-assess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206028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ed on existing or ad hoc institutional assessments, consider for all relevant organisation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vel of education &amp; awareness of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rganisations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mandates &amp; functions with regard to environment- and climate-related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fluence of climate risks on capacity to func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, financial, legal/regulatory capacities &amp; information systems in relation to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anning, decision-making, budget allocation &amp; programming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llaboration &amp; coordination structures &amp;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ssessments for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50920" y="65502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8420-AE25-4864-8077-6C7BBC1C9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etting up working mechanisms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or a mainstreaming initiati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249228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fine institutional arrangements (political and technical) (e.g. steering and technical committe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t up a management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dership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uman re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inancial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&amp;E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an operational work pla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5744-D26E-4F1A-A592-2826A2131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003640" y="65502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Learning-by-doing: multipl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approach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060640"/>
            <a:ext cx="87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rmal training on mainstreaming and on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pecific technical asp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change vis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n-the-job learning through national mainstreaming programmes, including: 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rdisciplinary tea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winning between organisa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monstration proje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esson learning and dissemin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0911-7C27-4623-A9E2-7438C28E9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95280" y="6308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2c0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is a strong case for mainstreaming environment and climate change into all development plann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are entry points for mainstreaming environment and climate change at all stages of the policy cyc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stitutional and capacity strengthening (rooted in a good diagnosis of the strengths/weaknesses of existing structures and efforts to improve governance) is a key condition for successful mainstream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eds assessment, the setting up of effective working mechanisms and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rning by doing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can support the mainstreaming proces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866F-C3D9-4744-A5D3-954F8C6B9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092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(2011) Practitioner</a:t>
            </a:r>
            <a:r>
              <a:rPr b="0" lang="ja-JP" sz="22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 Guide: Capacity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evelopment for Environmental Sustainability. United Nations Development Programme, New York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09) Mainstreaming Poverty-Environment Linkages into Development Planning: A Handbook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– Integrating environment into development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undp.org/mainstreaming/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30D4-C1D4-4B97-8733-31705F57F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eyond 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nvironment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as a sector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2397240"/>
            <a:ext cx="838188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protection of natural resources is a sector in its own right, but its sustainability also depends on 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erformance depends closely on the state of the environ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t does not suffice to address the environment exclusively as a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ther sector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 development paths need to take account of environmental sustainabilit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tends to be an underfunded sect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208A-E34D-4CE8-B126-EABD7A1B4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851120"/>
            <a:ext cx="864072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alal-Clayton B. &amp; Bass S. (2009) The challenges of environmental mainstreaming: experience of integrating environment into development institutions and decisions. International Institute for Environment and Development, London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nvironmental-mainstreaming.org/key-lit.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chipper E.L., Paz Cigarán M. &amp; McKenzie Hedger M. (2008) Adaptation to Climate Change: The new challenge for development in the developing world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undp.org/climatechange/docs/English/UNDP_Adaptation_final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oria, C (2005) SEA and the NGO community in Latin America. Presentation made at the SEA and IDC Conference, Halong Bay, Vietnam, 24-28 January, 2005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661C-64E0-4800-9F85-17064A701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What is mainstreaming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2133720"/>
            <a:ext cx="84582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the prevailing or dominant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urse, current, tendency or way of think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ing</a:t>
            </a:r>
            <a:r>
              <a:rPr b="0" lang="en-GB" sz="2400" spc="-1" strike="noStrike">
                <a:solidFill>
                  <a:srgbClr val="00206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informed integration of a relevant value, theme or concern into the decisions of institutions that drive national, local and sectoral development policy, rules, plans, investment and acti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dapted from Dalal-Clayton &amp; Bass 2009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Institutional strengthening and change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</a:t>
            </a:r>
            <a:r>
              <a:rPr b="0" lang="en-GB" sz="2400" spc="-1" strike="noStrike">
                <a:solidFill>
                  <a:srgbClr val="005f7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capacity building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re at the heart of any mainstreaming eff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4A67-43D3-4CFE-9999-833AD1C4A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es of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22050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instreaming is a long-term, iterativ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cess aimed a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ransforming ide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ven more importantly, transforming policies, resource allocations and pract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order t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mote desired developmental outcomes (with regard to gender, environment, climate change, governance, human rights, ...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d support integrated solutions to human proble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026E-2404-4662-AC47-A61260C85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olicy framework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131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ropean Consensus on Development (2005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plicitly recognises links between development and environment and highlights need for a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“strengthened approach to mainstreaming of cross-cutting issue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enda for Change (2011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evelopment is not sustainable if it damages the environment, biodiversity and natural resources and increases the exposure/vulnerability to natural disaster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 Biodiversity Strategy to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alls to “biodiversity-proof” EC development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mework for mainstreaming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nvironment and climate chang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BCB5-6278-43C2-9726-55A0C8739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ntry points for mainstreaming in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he policy cyc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B4B7-9BF3-479C-B9D5-4BF7ABAC7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" name="Picture 3" descr="_Pic3"/>
          <p:cNvPicPr/>
          <p:nvPr/>
        </p:nvPicPr>
        <p:blipFill>
          <a:blip r:embed="rId1"/>
          <a:stretch/>
        </p:blipFill>
        <p:spPr>
          <a:xfrm>
            <a:off x="1371600" y="1523880"/>
            <a:ext cx="5913360" cy="4705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3718080" y="3414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ational development pla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422440" y="239076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genda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470560" y="3381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olicy mak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184560" y="5019840"/>
            <a:ext cx="21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lementation &amp; monitor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Rounded Rectangular Callout 11"/>
          <p:cNvSpPr/>
          <p:nvPr/>
        </p:nvSpPr>
        <p:spPr>
          <a:xfrm>
            <a:off x="457200" y="1600200"/>
            <a:ext cx="1752480" cy="1066680"/>
          </a:xfrm>
          <a:prstGeom prst="wedgeRoundRectCallout">
            <a:avLst>
              <a:gd name="adj1" fmla="val 77625"/>
              <a:gd name="adj2" fmla="val 54203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inding the entry points &amp;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Rounded Rectangular Callout 12"/>
          <p:cNvSpPr/>
          <p:nvPr/>
        </p:nvSpPr>
        <p:spPr>
          <a:xfrm>
            <a:off x="6804000" y="2060640"/>
            <a:ext cx="1905120" cy="1143000"/>
          </a:xfrm>
          <a:prstGeom prst="wedgeRoundRectCallout">
            <a:avLst>
              <a:gd name="adj1" fmla="val -46481"/>
              <a:gd name="adj2" fmla="val 84250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instreaming into policy &amp;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ounded Rectangular Callout 13"/>
          <p:cNvSpPr/>
          <p:nvPr/>
        </p:nvSpPr>
        <p:spPr>
          <a:xfrm>
            <a:off x="250920" y="5257800"/>
            <a:ext cx="2187360" cy="990720"/>
          </a:xfrm>
          <a:prstGeom prst="wedgeRoundRectCallout">
            <a:avLst>
              <a:gd name="adj1" fmla="val 90509"/>
              <a:gd name="adj2" fmla="val -3349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050920" y="6308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) Figure 3.2, p. 1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ounded Rectangle 3"/>
          <p:cNvSpPr/>
          <p:nvPr/>
        </p:nvSpPr>
        <p:spPr>
          <a:xfrm>
            <a:off x="611280" y="7632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inding the entry points and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3429000" y="76320"/>
            <a:ext cx="26668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ainstreaming into policy and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Rounded Rectangle 5"/>
          <p:cNvSpPr/>
          <p:nvPr/>
        </p:nvSpPr>
        <p:spPr>
          <a:xfrm>
            <a:off x="6400800" y="76320"/>
            <a:ext cx="25192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Rounded Rectangle 6"/>
          <p:cNvSpPr/>
          <p:nvPr/>
        </p:nvSpPr>
        <p:spPr>
          <a:xfrm>
            <a:off x="581040" y="1066680"/>
            <a:ext cx="2663640" cy="2514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Preliminary assessmen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the challenges and the scien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poverty-environment and CC–development linkag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government, institutional and political contex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ounded Rectangle 7"/>
          <p:cNvSpPr/>
          <p:nvPr/>
        </p:nvSpPr>
        <p:spPr>
          <a:xfrm>
            <a:off x="609480" y="3657600"/>
            <a:ext cx="2667240" cy="1295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Raising awareness and building partnership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 consensus and commitment to resilient, low-carbon develop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Rounded Rectangle 8"/>
          <p:cNvSpPr/>
          <p:nvPr/>
        </p:nvSpPr>
        <p:spPr>
          <a:xfrm>
            <a:off x="612720" y="5029200"/>
            <a:ext cx="26640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eeds assess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Working mechanis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ounded Rectangle 9"/>
          <p:cNvSpPr/>
          <p:nvPr/>
        </p:nvSpPr>
        <p:spPr>
          <a:xfrm>
            <a:off x="3429000" y="1066680"/>
            <a:ext cx="2743200" cy="27432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Collecting country-specific evidence and influencing policy process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Integrated ecosystem assessment; economic analysis…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(sub)national and sector policies, strategies, programm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uncertain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ounded Rectangle 10"/>
          <p:cNvSpPr/>
          <p:nvPr/>
        </p:nvSpPr>
        <p:spPr>
          <a:xfrm>
            <a:off x="3429000" y="396252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Developing, costing, assessing and selecting policy measures, 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Rounded Rectangle 11"/>
          <p:cNvSpPr/>
          <p:nvPr/>
        </p:nvSpPr>
        <p:spPr>
          <a:xfrm>
            <a:off x="3429000" y="5029200"/>
            <a:ext cx="27432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Learning by do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Rounded Rectangle 12"/>
          <p:cNvSpPr/>
          <p:nvPr/>
        </p:nvSpPr>
        <p:spPr>
          <a:xfrm>
            <a:off x="6396120" y="1066680"/>
            <a:ext cx="2519280" cy="12193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Budgeting and financ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the budgetary proces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Rounded Rectangle 13"/>
          <p:cNvSpPr/>
          <p:nvPr/>
        </p:nvSpPr>
        <p:spPr>
          <a:xfrm>
            <a:off x="6400800" y="2352600"/>
            <a:ext cx="2519280" cy="1533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monitoring syste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Performance assessment framework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Indicators and data collec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ounded Rectangle 14"/>
          <p:cNvSpPr/>
          <p:nvPr/>
        </p:nvSpPr>
        <p:spPr>
          <a:xfrm>
            <a:off x="6396120" y="4011480"/>
            <a:ext cx="2519280" cy="8654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upporting policy measur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, sector and sub-national level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ounded Rectangle 15"/>
          <p:cNvSpPr/>
          <p:nvPr/>
        </p:nvSpPr>
        <p:spPr>
          <a:xfrm>
            <a:off x="6396120" y="5029200"/>
            <a:ext cx="251928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</a:t>
            </a:r>
            <a:br>
              <a:rPr sz="1500"/>
            </a:b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as standard practi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ounded Rectangle 16"/>
          <p:cNvSpPr/>
          <p:nvPr/>
        </p:nvSpPr>
        <p:spPr>
          <a:xfrm>
            <a:off x="1332000" y="6121440"/>
            <a:ext cx="6769080" cy="4316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Engaging stakeholders and coordinating within the development community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Flowchart: Document 17"/>
          <p:cNvSpPr/>
          <p:nvPr/>
        </p:nvSpPr>
        <p:spPr>
          <a:xfrm>
            <a:off x="76320" y="1371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owchart: Document 18"/>
          <p:cNvSpPr/>
          <p:nvPr/>
        </p:nvSpPr>
        <p:spPr>
          <a:xfrm>
            <a:off x="2971800" y="323064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4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owchart: Document 19"/>
          <p:cNvSpPr/>
          <p:nvPr/>
        </p:nvSpPr>
        <p:spPr>
          <a:xfrm>
            <a:off x="108000" y="39625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Flowchart: Document 20"/>
          <p:cNvSpPr/>
          <p:nvPr/>
        </p:nvSpPr>
        <p:spPr>
          <a:xfrm>
            <a:off x="115920" y="5334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Flowchart: Document 22"/>
          <p:cNvSpPr/>
          <p:nvPr/>
        </p:nvSpPr>
        <p:spPr>
          <a:xfrm>
            <a:off x="3124080" y="2697120"/>
            <a:ext cx="698760" cy="37152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6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Flowchart: Document 23"/>
          <p:cNvSpPr/>
          <p:nvPr/>
        </p:nvSpPr>
        <p:spPr>
          <a:xfrm>
            <a:off x="3276720" y="3916440"/>
            <a:ext cx="69840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7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traight Connector 25"/>
          <p:cNvSpPr/>
          <p:nvPr/>
        </p:nvSpPr>
        <p:spPr>
          <a:xfrm>
            <a:off x="3276720" y="5524560"/>
            <a:ext cx="15228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traight Connector 29"/>
          <p:cNvSpPr/>
          <p:nvPr/>
        </p:nvSpPr>
        <p:spPr>
          <a:xfrm>
            <a:off x="6172200" y="5524560"/>
            <a:ext cx="22392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Flowchart: Document 32"/>
          <p:cNvSpPr/>
          <p:nvPr/>
        </p:nvSpPr>
        <p:spPr>
          <a:xfrm>
            <a:off x="6161040" y="1704960"/>
            <a:ext cx="696960" cy="3524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8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Flowchart: Document 33"/>
          <p:cNvSpPr/>
          <p:nvPr/>
        </p:nvSpPr>
        <p:spPr>
          <a:xfrm>
            <a:off x="6161040" y="246852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9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76320" y="6581880"/>
            <a:ext cx="85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Adapted from: UNDP-UNEP (2009) Figure 3.1, p. 15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Flowchart: Document 27"/>
          <p:cNvSpPr/>
          <p:nvPr/>
        </p:nvSpPr>
        <p:spPr>
          <a:xfrm>
            <a:off x="76320" y="1905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lowchart: Document 30"/>
          <p:cNvSpPr/>
          <p:nvPr/>
        </p:nvSpPr>
        <p:spPr>
          <a:xfrm>
            <a:off x="3341520" y="5562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lowchart: Document 31"/>
          <p:cNvSpPr/>
          <p:nvPr/>
        </p:nvSpPr>
        <p:spPr>
          <a:xfrm>
            <a:off x="6161040" y="5592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Flowchart: Document 31"/>
          <p:cNvSpPr/>
          <p:nvPr/>
        </p:nvSpPr>
        <p:spPr>
          <a:xfrm>
            <a:off x="120600" y="25909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Flowchart: Document 19"/>
          <p:cNvSpPr/>
          <p:nvPr/>
        </p:nvSpPr>
        <p:spPr>
          <a:xfrm>
            <a:off x="3200400" y="2133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10T17:46:19Z</dcterms:modified>
  <cp:revision>120</cp:revision>
  <dc:subject/>
  <dc:title>Slide 1</dc:title>
</cp:coreProperties>
</file>