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81B-3B73-4DF0-AE44-822B0A47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3301-51B1-4A50-BD6D-9F260B0D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E11-DDAE-45AE-91AE-8B351B0E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D8F-5FB7-4C73-B353-2A2AC157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8DBD-EC47-4073-A647-6D000E0E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8BFC-6C74-4C16-84B8-B6B44B4F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9350-F6A4-4B23-AD1B-542B4CAE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0767-F5FB-40EB-9100-75A39920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ED4-12B1-4795-B416-831BB2A7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704-D335-4F09-A570-B6185E2B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D29-9114-4F5D-8A5E-56D33625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1C19-C9BD-4BAC-A95E-AFF9E475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F697-B4A1-41BD-9939-1B1C3AFCCB1A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Європейському Союз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704360" cy="5766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792800" y="333360"/>
            <a:ext cx="60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96280" cy="5301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657440" y="549360"/>
            <a:ext cx="60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остий 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652040" y="54936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71640" y="1106640"/>
            <a:ext cx="7623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684360" y="177336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і їздові цикли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Сполучених штатах Амер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50280" cy="482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214080" y="40464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215880" y="404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за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89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Японі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0" t="57850" r="0" b="0"/>
          <a:stretch/>
        </p:blipFill>
        <p:spPr>
          <a:xfrm>
            <a:off x="684360" y="1557360"/>
            <a:ext cx="7851600" cy="36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3354840" y="3333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1:01:02Z</dcterms:created>
  <dc:creator>Користувач</dc:creator>
  <dc:description/>
  <dc:language>en-US</dc:language>
  <cp:lastModifiedBy>Користувач</cp:lastModifiedBy>
  <dcterms:modified xsi:type="dcterms:W3CDTF">2012-07-11T12:36:13Z</dcterms:modified>
  <cp:revision>10</cp:revision>
  <dc:subject/>
  <dc:title>Слайд 1</dc:title>
</cp:coreProperties>
</file>