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0BCF-4EB6-4B81-AF49-A7003EB6C6B4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4F1B-0D91-4F52-9A0E-3C980DDA0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A425-0E5F-4654-9869-46BA84360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BA81-998A-49C8-9EFD-1BD24C5ED4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A712-A8C8-459F-B86E-C878F6B6CC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4252-F102-46C5-939D-C46D5C441B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76D5-064F-454A-B440-1CEA5A45F6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DD3-A541-44EC-98DC-1867A29D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29B-337D-4DD0-A595-DC2F2977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6C1-CD22-4B99-AB82-A28C9834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7D03-454A-42EB-AB57-B639365A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2885-CC8F-45F6-A437-EEE96D7A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23A1-CF3B-4846-BBFA-4D87A5AF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28E0-7EF1-46E7-83A7-AEC539D9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4C6B-D137-47A3-8DD1-EC34B8FA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4761-EC73-465D-B9A7-55EBAE28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78FC-03F9-4A18-8A32-7AF8F860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52A9-4116-4595-B653-5F14DC59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D0A-62CF-4A3B-AB33-1A1FFD29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11BE-2941-4BCB-8D92-E60A5D3D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FA0D-C3D5-4F9A-9063-FBABE73D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CA10-2155-49FB-8581-7C4DE119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9D6B-CF12-4E4E-AB4B-204E8E30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DB92-BB9A-4228-A629-15423DB8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7C7-B2FA-4516-8C20-F27110F3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6ED-BA7E-45B0-B420-09AA3DE2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B72-231C-41A6-BE02-15D28FDE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D4C-579F-4B3C-8E47-2A478C68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C16-668E-4C62-A329-F247EE69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D3E7-A069-4D22-9BA6-8C3BCB51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292-5A15-4FD3-B89B-5EE768F5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B99A-C91F-4F98-8A6D-795B7290BE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9F32-2826-4B36-8F3A-923B0B90EDC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4883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ound Table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onors Experience with PEFA Assessments in Latin America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3680" y="4005000"/>
            <a:ext cx="853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Workshop PEFA in Latin America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Seven Years of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Brussels, 4th December 2012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hairperson: Jose Correia Nunes - EUROPEAID - UNIT A2: Budget Support, Public Finance and Macroeconomic Analysi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E516-0176-4B7F-8850-43219EA5D92C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anelis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s Falkner-Olmedo – Inter-American Development Bank – Chief of the Operations Financial Management and Procurement Services Offic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Balakrishnan – World Bank – Latin America and Caribbean Manager at Financial Manage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Pessoa - IMF – Deputy Division Chief at the PFM Division of the Fiscal Affairs Department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Salinas – EuropeAid – Coordinator Budget Support Operations at Latin America and Caribbean Directorat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3D32-52F3-4F24-99B2-0EF3113A9F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Discussions of this round table will cover two topics</a:t>
            </a:r>
            <a:br>
              <a:rPr sz="3200"/>
            </a:b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elopment partners' experience from PEFA assessments to PFM reform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the experience on PEFA repeat assessments has been used to measure progress and support PFM reform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976A-2A86-412E-AC47-E6771E24BA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2 countries in LAC region have seen changes in CPIA ratings for PFM for the period 2001-2011.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      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Source: World Bank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A250-4358-4C50-9233-632B237A60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12680" y="2421000"/>
            <a:ext cx="6944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1052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Out of 75 PEFA assessments in the region since 2006 the EU has been involved in 40 assessment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26E6-6555-4EE5-A60A-CB3F6A5171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6280" y="2060640"/>
          <a:ext cx="8686800" cy="3922560"/>
        </p:xfrm>
        <a:graphic>
          <a:graphicData uri="http://schemas.openxmlformats.org/drawingml/2006/table">
            <a:tbl>
              <a:tblPr/>
              <a:tblGrid>
                <a:gridCol w="1868760"/>
                <a:gridCol w="1063440"/>
                <a:gridCol w="892080"/>
                <a:gridCol w="841320"/>
                <a:gridCol w="1571760"/>
                <a:gridCol w="717480"/>
                <a:gridCol w="890640"/>
                <a:gridCol w="841320"/>
              </a:tblGrid>
              <a:tr h="703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1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ill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, DFID, IMF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/Ongoing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b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errat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ze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Chiclayo Municipalit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2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Gobierno Regional Amazon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Vincent and Grenadin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s and Caicos Islands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U heavily involved in supporting PFM reforms in the reg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1773360"/>
          <a:ext cx="7490160" cy="493848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cus of suppor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xpenditure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mbi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ght against corrup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ivil society oversight of the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Dominican Republic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ublic procur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cu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formation Management Syste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l Salv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scal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Hondur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icaragu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aragua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Support to </a:t>
                      </a: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reform</a:t>
                      </a: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programm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E9E0-2A53-40A9-A775-FCBECB5F92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casado</cp:lastModifiedBy>
  <cp:lastPrinted>2012-12-03T18:16:55Z</cp:lastPrinted>
  <dcterms:modified xsi:type="dcterms:W3CDTF">2012-12-04T17:24:39Z</dcterms:modified>
  <cp:revision>333</cp:revision>
  <dc:subject/>
  <dc:title>Slide 1</dc:title>
</cp:coreProperties>
</file>