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6A07-844F-4A2B-93BF-EE5D3CA21FD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ly, make clear that another crucial aspect of the design process is having clarity on the </a:t>
            </a:r>
            <a:r>
              <a:rPr b="0" i="1" lang="en-GB" sz="1200" spc="-1" strike="noStrike">
                <a:solidFill>
                  <a:srgbClr val="000000"/>
                </a:solidFill>
                <a:latin typeface="Calibri"/>
              </a:rPr>
              <a:t>capacity development approach (CD) </a:t>
            </a:r>
            <a:r>
              <a:rPr b="0" lang="en-GB" sz="1200" spc="-1" strike="noStrike">
                <a:solidFill>
                  <a:srgbClr val="000000"/>
                </a:solidFill>
                <a:latin typeface="Calibri"/>
              </a:rPr>
              <a:t>to be followed. This includes issues such as the feasibility and affordability of an intervention, its sustainability after the support is ended, options for coordination and management by partners and how to strengthen capacities. However, the capacity building approach is often not well thought through and a lack of sustainability of development partner interventions has been an ongoing concern (OECD,1999). </a:t>
            </a:r>
            <a:endParaRPr b="0" lang="en-US" sz="1200" spc="-1" strike="noStrike">
              <a:solidFill>
                <a:srgbClr val="000000"/>
              </a:solidFill>
              <a:latin typeface="Calibri"/>
            </a:endParaRPr>
          </a:p>
        </p:txBody>
      </p:sp>
      <p:sp>
        <p:nvSpPr>
          <p:cNvPr id="3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6989-C270-4AC9-A347-3C21B87DD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pproach takes the existing base of capacities in every situation as its starting point and supports national efforts to extend and retain them, building on nationally determined priorities, policies and desired results</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very context, the process begins by jointly establishing the need for a rigorous approach to capacity development, conducting assessments to establish the capacity baseline, suggesting responses based on the assessment outcomes, providing implementation support to the responses and helping with measuring change in capacity are the fundamental steps to be followed. This approach is then adapted and tailored to the specific situation.</a:t>
            </a:r>
            <a:endParaRPr b="0" lang="en-US" sz="1200" spc="-1" strike="noStrike">
              <a:solidFill>
                <a:srgbClr val="000000"/>
              </a:solidFill>
              <a:latin typeface="Calibri"/>
            </a:endParaRPr>
          </a:p>
        </p:txBody>
      </p:sp>
      <p:sp>
        <p:nvSpPr>
          <p:cNvPr id="3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EEC5-4027-4F0A-ABB5-B867CD222B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 that the CD approach must move beyond training and low-level technical assistance in order to address broader questions of political changes, institutional change, leadership, empowerment and public participation, thus, ensuring sustain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ystem level </a:t>
            </a:r>
            <a:r>
              <a:rPr b="0" lang="en-GB" sz="1200" spc="-1" strike="noStrike">
                <a:solidFill>
                  <a:srgbClr val="000000"/>
                </a:solidFill>
                <a:latin typeface="Calibri"/>
              </a:rPr>
              <a:t>(</a:t>
            </a:r>
            <a:r>
              <a:rPr b="1" lang="en-GB" sz="1200" spc="-1" strike="noStrike">
                <a:solidFill>
                  <a:srgbClr val="000000"/>
                </a:solidFill>
                <a:latin typeface="Calibri"/>
              </a:rPr>
              <a:t>Enabling environment) </a:t>
            </a:r>
            <a:r>
              <a:rPr b="0" lang="en-GB" sz="1200" spc="-1" strike="noStrike">
                <a:solidFill>
                  <a:srgbClr val="000000"/>
                </a:solidFill>
                <a:latin typeface="Calibri"/>
              </a:rPr>
              <a:t>– Organisations and people work within a broader system. The enabling environment includes policies, legislation, power relations, culture and social norms – also known as the “rules of the g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rganisational level </a:t>
            </a:r>
            <a:r>
              <a:rPr b="0" lang="en-GB" sz="1200" spc="-1" strike="noStrike">
                <a:solidFill>
                  <a:srgbClr val="000000"/>
                </a:solidFill>
                <a:latin typeface="Calibri"/>
              </a:rPr>
              <a:t>– This includes policies, procedures and frameworks that allow an organisation to fulfil its man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dividual level </a:t>
            </a:r>
            <a:r>
              <a:rPr b="0" lang="en-GB" sz="1200" spc="-1" strike="noStrike">
                <a:solidFill>
                  <a:srgbClr val="000000"/>
                </a:solidFill>
                <a:latin typeface="Calibri"/>
              </a:rPr>
              <a:t>– This refers to the skills, experience and knowledge of the people within an organisation (or with the organisation), acquired through formal training and education, or through learning-by-doing. The individual level should not be limited to people working within the organisation but also include partners and civil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31AB-6E1F-4006-8B31-0C413ADF04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isation: The ultimate form of sustainability is where the content or practice of a programme is completely institutionalised in government policy or decision-making procedures </a:t>
            </a:r>
            <a:r>
              <a:rPr b="0" lang="en-GB" sz="1200" spc="-1" strike="noStrike">
                <a:solidFill>
                  <a:srgbClr val="000000"/>
                </a:solidFill>
                <a:latin typeface="Arial"/>
              </a:rPr>
              <a:t>in the partner count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scaling: In order for donor programmes with limited geographical focus to become institutionally sustainable at the national level they need to be scaled up and replicated in all </a:t>
            </a:r>
            <a:r>
              <a:rPr b="0" lang="en-GB" sz="1200" spc="-1" strike="noStrike">
                <a:solidFill>
                  <a:srgbClr val="000000"/>
                </a:solidFill>
                <a:latin typeface="Arial"/>
              </a:rPr>
              <a:t>distri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ltimate goal of every external actor in governance reform should be to make itself redundant as soon as possible. However, a clear exit strategy is often still missing in project documents.</a:t>
            </a:r>
            <a:endParaRPr b="0" lang="en-US" sz="1200" spc="-1" strike="noStrike">
              <a:solidFill>
                <a:srgbClr val="000000"/>
              </a:solidFill>
              <a:latin typeface="Calibri"/>
            </a:endParaRPr>
          </a:p>
        </p:txBody>
      </p:sp>
      <p:sp>
        <p:nvSpPr>
          <p:cNvPr id="35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5ADF-34AE-4ACF-9269-1EAAD12B6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erience clearly suggests that this phase tends to be labour-intensive and time-consuming and that careful management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5204-E32E-4457-9F9C-4F1987ADF2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urop Aid - ADM Support Team                                                                  Decentralisation and Local Governance</a:t>
            </a:r>
            <a:endParaRPr b="0" lang="en-US" sz="1200" spc="-1" strike="noStrike">
              <a:solidFill>
                <a:srgbClr val="000000"/>
              </a:solidFill>
              <a:latin typeface="Arial"/>
            </a:endParaRPr>
          </a:p>
        </p:txBody>
      </p:sp>
      <p:sp>
        <p:nvSpPr>
          <p:cNvPr id="35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6 October 2006</a:t>
            </a:r>
            <a:endParaRPr b="0" lang="en-US" sz="1200" spc="-1" strike="noStrike">
              <a:solidFill>
                <a:srgbClr val="000000"/>
              </a:solidFill>
              <a:latin typeface="Arial"/>
            </a:endParaRPr>
          </a:p>
        </p:txBody>
      </p:sp>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B192-0C3C-46F2-AA75-5240FA4F39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344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lementation of a division of labour amongst DP’s so that the mix of support programmes and aid modalities covers the key issues and actors in the country specific DLG process - </a:t>
            </a:r>
            <a:r>
              <a:rPr b="0" i="1" lang="en-GB" sz="1200" spc="-1" strike="noStrike">
                <a:solidFill>
                  <a:srgbClr val="000000"/>
                </a:solidFill>
                <a:latin typeface="Calibri"/>
              </a:rPr>
              <a:t>(IDPWGs’ country specific guiding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t>
            </a:r>
            <a:r>
              <a:rPr b="0" lang="en-GB" sz="1100" spc="-1" strike="noStrike">
                <a:solidFill>
                  <a:srgbClr val="000000"/>
                </a:solidFill>
                <a:latin typeface="Calibri"/>
              </a:rPr>
              <a:t>Actively decentralising countrie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Ps can support programmes that provide comprehensive and harmonised support to all key aspects of decentralisation reforms (policy, legal, political, fiscal and human resource manage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lso support development of management capacities at central and local level and adjustments of institutional arrangements during implementation of National Decentralisation Strategies, fiscal reforms to balance local revenue and fiscal transfer syste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t>
            </a:r>
            <a:r>
              <a:rPr b="0" lang="en-GB" sz="1100" spc="-1" strike="noStrike">
                <a:solidFill>
                  <a:srgbClr val="000000"/>
                </a:solidFill>
                <a:latin typeface="Calibri"/>
              </a:rPr>
              <a:t>Advanced intermediate decentralising countrie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isting central level authorities to implement, monitor and evaluate decentralisation policies and their impacts on poverty and public service deliver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upporting fiscal decentralisation (this is strategic when some basic legal framework and LG responsibilities are in plac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eveloping capacities for effective local govern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upporting inter-municipal cooperation</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romoting local accountability and community empower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isting central government to coordinate donor support for decentralisa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402A-EF37-4BB5-A980-7DF6565E57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early intermediate decentralising count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ing the design of national decentralisation policies and building the related capacities (support LGAs and/or mechanisms for representation of LGs in policy dialo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non-decentralising countr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no formal coordination structure exists among DPs working on decentralisation and local governance in a country, such a forum should be set up. All relevant DPs, including DPs working with decentralisation within specific sectors, should be invi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 advocacy for public administration reform and decentralisation (policy dialogue, support to national policy research cent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imulating the demand side for reforms (general public, municipalities, NGO’s and private s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9DDE-EAB4-4D19-BB43-192CF6BDEE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lignment of DP support to country strategies depends strongly on the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ded by partner governments, and the alignment process can take various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D6F0-0E86-4B41-B047-4E2D6427014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FDBF-4F95-4960-8DBC-95A0FB370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participants that, in order to move towards more harmonised and aligned approaches for decentralisation and local governance, a first step would be to understand the factors inhibiting and supporting this in their own and other DPs organisations. A next step would be to try to alter these factors, in order to create a climate that is more conducive to working in a aligned and harmonised manner.</a:t>
            </a:r>
            <a:endParaRPr b="0" lang="en-US" sz="1200" spc="-1" strike="noStrike">
              <a:solidFill>
                <a:srgbClr val="000000"/>
              </a:solidFill>
              <a:latin typeface="Calibri"/>
            </a:endParaRPr>
          </a:p>
        </p:txBody>
      </p:sp>
      <p:sp>
        <p:nvSpPr>
          <p:cNvPr id="3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BD2C-073A-455E-B22D-F4A37D8B9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the fishbowl discussion run for approximately 30 minutes, before wrapping things up. The discussion including introduction and wrap-up is expected to take approximately 45 minu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5031-A9A3-482E-A4F5-BD779DBE2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278A-1DC1-4B7F-BEC9-16963A7874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344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1EBD-3720-4B10-8F17-F106F303D4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344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f</a:t>
            </a:r>
            <a:r>
              <a:rPr b="0" i="1" lang="en-GB" sz="1200" spc="-1" strike="noStrike">
                <a:solidFill>
                  <a:srgbClr val="000000"/>
                </a:solidFill>
                <a:latin typeface="Calibri"/>
              </a:rPr>
              <a:t>ocus</a:t>
            </a:r>
            <a:r>
              <a:rPr b="0" lang="en-GB" sz="1200" spc="-1" strike="noStrike">
                <a:solidFill>
                  <a:srgbClr val="000000"/>
                </a:solidFill>
                <a:latin typeface="Calibri"/>
              </a:rPr>
              <a:t> very much determines the nature of the decentralisation programme or project(s), which can be grounded in a philosophy of supporting processes in sever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bottom-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op-down (which might be justifiable under cer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 combination of bo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rity is also needed on whether the support is to strengthen administrative de-concentration, fiscal decentralisation and/or political decentralisation (promoting the emergence of local governance and democracy). Other important focus questions are to what extent should the support concentrate on service delivery, stimulate economic (rural) development and strengthen state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84C6-ECC1-46CA-9092-BFF5DAC6CE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344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ntry point to cho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the philosophy of supporting processes in either a bottom-up fashion, a top-down fashion or a combination of both, as mentioned above, can be operationalised through focusing on one of these different actors and entry poi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ternatively, there might be times, or opportunities, when the decentralisation process can be supported through broad involvement of central government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oices can be thematic (and all-encompassing, like providing training to local councillors throughout a country) or sector-specific whereby one or more levels are supported (e.g. the central, regional, district and commune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E403-E474-42C9-B338-6AE83C9758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344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ow to sequence the support? At which right time/ moment is it relevant to come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participants that a choice concerning </a:t>
            </a:r>
            <a:r>
              <a:rPr b="0" i="1" lang="en-GB" sz="1200" spc="-1" strike="noStrike">
                <a:solidFill>
                  <a:srgbClr val="000000"/>
                </a:solidFill>
                <a:latin typeface="Calibri"/>
              </a:rPr>
              <a:t>sequencing</a:t>
            </a:r>
            <a:r>
              <a:rPr b="0" lang="en-GB" sz="1200" spc="-1" strike="noStrike">
                <a:solidFill>
                  <a:srgbClr val="000000"/>
                </a:solidFill>
                <a:latin typeface="Calibri"/>
              </a:rPr>
              <a:t> requires a good understanding of the decentralisation process in terms of its maturity, momentum, the time it takes to advance the reform and how it can be linked with complementary government reform initiatives, such as public finance reform. The sequencing aspect also demands thorough coordination with other development partners and the processes they are engaged in. Activities engaged in by other actors can help to determine whether development partner support should link with that of other partners or whether the focus should be on unattended area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43784-A8C5-4605-9126-2B8133DC4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CFFA4-EF6E-45D4-9896-238909EA7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6AB41-5412-4FB0-B9BB-B56617DDB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9688D-9CB4-4FF1-87C5-0EC99B620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EC6B9-7D01-427A-8292-9AD0AF236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6C7F9-F6ED-4AD1-B059-63934322E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FB6C0-0D4C-40BF-9BC0-1192ACD5E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81BAC-1956-40FE-BDD5-6AD837B01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C8FEE-0C76-43CA-BD18-CD6DE1DD2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564F5-189E-4F86-B2DF-E77DAF637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A1FE2-688E-4651-B312-9913586C4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4D9A-7D3C-4C72-A6A2-94205A3A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25AA1-B999-41A9-B207-9A6E638F8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F6132-3F22-4A06-9338-F5CB44F4A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080BF-78B3-48FE-A8AC-490562287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FE1DA-45D2-4CBF-956B-EC8DAA7CB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B2654-5F1A-4BCF-9819-7A429282A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1D0E89-3F9C-4A68-9426-457FF28CC6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C0B44-F17A-4719-941B-EDF22EEC9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AB1F8-4560-4E27-85C3-AE3AA9937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D7D20-006D-4B6B-AD7D-726C9E940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3999A-FE84-48F0-9452-1B0D27BA9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DAB66-C451-40B8-B180-F0B87BDD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4F119-A7AA-436C-A631-1127EBAF3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EAD92-F14C-4FF6-ACCD-4A120025A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99BC1-C4B7-4A63-A2AD-32C8FB400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3379E-B766-4822-9483-8C8FACBCE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E1016-84B8-43EA-AE20-7892F6EA2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672A3C-2576-45B4-8974-054CEBD61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180A8F-6853-4666-B156-05B5CC52CF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1C662-C172-4678-B653-77D0007139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87C4F-D0D6-4EAE-A03D-32002F2C9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C5192-1346-4E34-9D7B-5222E4420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84F1A-6AF6-475A-AC78-76576A238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938CA-CE71-4785-9DD4-62BEF12C1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E5EE7-3CEF-46EA-BD78-E978DB05D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FEA4F-4426-415B-820A-52D5B1B00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5067A-5E87-483E-8BD1-02BF4978B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CF4AE-6A8C-461E-AE87-0D3EBA276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127BE-98BA-49C7-ACA0-387EA14CA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03ABB-C019-4BDE-948D-41E70884E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1E070-67E1-43EB-94C5-70DF3440F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CDF36-4B3A-4C2B-A89E-807F88345D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8BEB716-F737-4165-BFA3-041E54880D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51D54-FC86-4F05-9A4F-C0FF7A736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D62B81-A511-4444-8362-699CA4D120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16C9B2-3020-41A8-86D2-FC04596E12A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C1D0343-4E86-4FFB-9EB1-EA4F49ABC92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3E3BDF-00A1-4A91-9274-F999F4836B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7900A8-F3E5-4869-90D8-BC65519BE84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D37BBD-6D07-44D0-8691-C664F9BCF55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06464F-8FA9-4539-ABA6-3AC6E11B24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B6F772-661B-4369-97D1-5051A57907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63AA63-9302-4DA5-B9AD-1760E2F7CB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A24DBA-15A1-44EA-BEE1-224FDF4DA7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7D52B-6B3F-44D3-955E-46F034044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76791ED-F91D-48DF-A147-8AB7970004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9F27-2CF9-422D-A24B-194497E9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E0E6-6D77-48D4-A568-EE04A928C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72F8-D6C1-483D-AB3F-777F4B105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E9D3-5372-430D-A05B-9C584FFCBA17}" type="slidenum">
              <a:rPr b="0" lang="en-GB"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C6EF-CDE7-4A5A-AA70-D12CC85A74A6}" type="slidenum">
              <a:rPr b="0" lang="en-GB"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A8FF-467D-4971-B515-4C26FD63A81E}" type="slidenum">
              <a:rPr b="0" lang="en-GB"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56FC-733E-406E-9CAE-ABFC059B6DA8}" type="slidenum">
              <a:rPr b="0" lang="en-GB"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2268000" y="6248520"/>
            <a:ext cx="4751640" cy="4572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Decentralisation and Local Governance</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7524720" y="6248520"/>
            <a:ext cx="1162080" cy="4572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660E-FED9-48CF-B7D0-3A6DBEAB96D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el 1" descr=""/>
          <p:cNvPicPr/>
          <p:nvPr/>
        </p:nvPicPr>
        <p:blipFill>
          <a:blip r:embed="rId1"/>
          <a:stretch/>
        </p:blipFill>
        <p:spPr>
          <a:xfrm>
            <a:off x="2779560" y="1352520"/>
            <a:ext cx="6278760" cy="2865600"/>
          </a:xfrm>
          <a:prstGeom prst="rect">
            <a:avLst/>
          </a:prstGeom>
          <a:ln w="0">
            <a:noFill/>
          </a:ln>
        </p:spPr>
      </p:pic>
      <p:sp>
        <p:nvSpPr>
          <p:cNvPr id="252" name="PlaceHolder 1"/>
          <p:cNvSpPr>
            <a:spLocks noGrp="1"/>
          </p:cNvSpPr>
          <p:nvPr>
            <p:ph/>
          </p:nvPr>
        </p:nvSpPr>
        <p:spPr>
          <a:xfrm>
            <a:off x="642960" y="428616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42960" y="571320"/>
            <a:ext cx="82296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apacity development approach</a:t>
            </a:r>
            <a:endParaRPr b="0" lang="en-US" sz="4800" spc="-1" strike="noStrike">
              <a:solidFill>
                <a:srgbClr val="04617b"/>
              </a:solidFill>
              <a:latin typeface="Calibri"/>
            </a:endParaRPr>
          </a:p>
        </p:txBody>
      </p:sp>
      <p:sp>
        <p:nvSpPr>
          <p:cNvPr id="277" name=""/>
          <p:cNvSpPr txBox="1"/>
          <p:nvPr/>
        </p:nvSpPr>
        <p:spPr>
          <a:xfrm>
            <a:off x="428760" y="1571760"/>
            <a:ext cx="8229600" cy="46814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2800" spc="-1" strike="noStrike">
                <a:solidFill>
                  <a:srgbClr val="000000"/>
                </a:solidFill>
                <a:latin typeface="Constantia"/>
              </a:rPr>
              <a:t>To ensure sustainability, strengthening of capacities needs to be considered, as well as how capacity building should occu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feasible is an interven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sustainable will it be after the support is end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are the options for coordination and management by partner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can we strengthen capacities?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57200" y="1500120"/>
            <a:ext cx="727416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The UNDP Approach to Capacity Development </a:t>
            </a:r>
            <a:br>
              <a:rPr sz="2400"/>
            </a:br>
            <a:endParaRPr b="0" lang="en-US" sz="3600" spc="-1" strike="noStrike">
              <a:solidFill>
                <a:srgbClr val="04617b"/>
              </a:solidFill>
              <a:latin typeface="Calibri"/>
            </a:endParaRPr>
          </a:p>
        </p:txBody>
      </p:sp>
      <p:pic>
        <p:nvPicPr>
          <p:cNvPr id="279" name="Diagram 5" descr=""/>
          <p:cNvPicPr/>
          <p:nvPr/>
        </p:nvPicPr>
        <p:blipFill>
          <a:blip r:embed="rId1"/>
          <a:stretch/>
        </p:blipFill>
        <p:spPr>
          <a:xfrm>
            <a:off x="353880" y="1676520"/>
            <a:ext cx="8436240" cy="5290920"/>
          </a:xfrm>
          <a:prstGeom prst="rect">
            <a:avLst/>
          </a:prstGeom>
          <a:ln w="0">
            <a:noFill/>
          </a:ln>
        </p:spPr>
      </p:pic>
      <p:grpSp>
        <p:nvGrpSpPr>
          <p:cNvPr id="280" name="Ellips 6"/>
          <p:cNvGrpSpPr/>
          <p:nvPr/>
        </p:nvGrpSpPr>
        <p:grpSpPr>
          <a:xfrm>
            <a:off x="3627360" y="3627360"/>
            <a:ext cx="2030400" cy="1743120"/>
            <a:chOff x="3627360" y="3627360"/>
            <a:chExt cx="2030400" cy="1743120"/>
          </a:xfrm>
        </p:grpSpPr>
        <p:pic>
          <p:nvPicPr>
            <p:cNvPr id="281" name="Ellips 6" descr=""/>
            <p:cNvPicPr/>
            <p:nvPr/>
          </p:nvPicPr>
          <p:blipFill>
            <a:blip r:embed="rId2"/>
            <a:stretch/>
          </p:blipFill>
          <p:spPr>
            <a:xfrm>
              <a:off x="3627360" y="3627360"/>
              <a:ext cx="2030400" cy="1743120"/>
            </a:xfrm>
            <a:prstGeom prst="rect">
              <a:avLst/>
            </a:prstGeom>
            <a:ln w="0">
              <a:noFill/>
            </a:ln>
          </p:spPr>
        </p:pic>
        <p:sp>
          <p:nvSpPr>
            <p:cNvPr id="282" name=""/>
            <p:cNvSpPr/>
            <p:nvPr/>
          </p:nvSpPr>
          <p:spPr>
            <a:xfrm>
              <a:off x="3936960" y="3894120"/>
              <a:ext cx="1413000" cy="1212840"/>
            </a:xfrm>
            <a:prstGeom prst="rect">
              <a:avLst/>
            </a:prstGeom>
            <a:no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apacity </a:t>
              </a:r>
              <a:r>
                <a:rPr b="1" lang="sv-SE" sz="1700" spc="-1" strike="noStrike">
                  <a:solidFill>
                    <a:srgbClr val="000000"/>
                  </a:solidFill>
                  <a:latin typeface="Constantia"/>
                </a:rPr>
                <a:t>Development Process</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4296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04617b"/>
                </a:solidFill>
                <a:latin typeface="Calibri"/>
              </a:rPr>
              <a:t>Levels of capacity building</a:t>
            </a:r>
            <a:endParaRPr b="0" lang="en-US" sz="5400" spc="-1" strike="noStrike">
              <a:solidFill>
                <a:srgbClr val="04617b"/>
              </a:solidFill>
              <a:latin typeface="Calibri"/>
            </a:endParaRPr>
          </a:p>
        </p:txBody>
      </p:sp>
      <p:sp>
        <p:nvSpPr>
          <p:cNvPr id="284" name=""/>
          <p:cNvSpPr txBox="1"/>
          <p:nvPr/>
        </p:nvSpPr>
        <p:spPr>
          <a:xfrm>
            <a:off x="571320" y="1571400"/>
            <a:ext cx="8086680" cy="438948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Capacity needs to be build at three levels:</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ystem level (enabling environment)</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Organisational level</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nstantia"/>
              </a:rPr>
              <a:t> </a:t>
            </a:r>
            <a:r>
              <a:rPr b="0" lang="en-GB" sz="3200" spc="-1" strike="noStrike">
                <a:solidFill>
                  <a:srgbClr val="000000"/>
                </a:solidFill>
                <a:latin typeface="Constantia"/>
              </a:rPr>
              <a:t>Individual level</a:t>
            </a:r>
            <a:endParaRPr b="0" lang="en-US" sz="3200" spc="-1" strike="noStrike">
              <a:solidFill>
                <a:srgbClr val="000000"/>
              </a:solidFill>
              <a:latin typeface="Constantia"/>
            </a:endParaRPr>
          </a:p>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It’s crucial to understand the relationship between all three levels in designing </a:t>
            </a:r>
            <a:r>
              <a:rPr b="0" lang="en-GB" sz="3200" spc="-1" strike="noStrike">
                <a:solidFill>
                  <a:srgbClr val="000000"/>
                </a:solidFill>
                <a:latin typeface="Constantia"/>
                <a:ea typeface="Times New Roman"/>
              </a:rPr>
              <a:t>a coherent support strategy for decentralisation</a:t>
            </a:r>
            <a:r>
              <a:rPr b="0" lang="en-GB"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14240" y="1285920"/>
            <a:ext cx="650088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Capacity development and sustainability concerns</a:t>
            </a:r>
            <a:endParaRPr b="0" lang="en-US" sz="4400" spc="-1" strike="noStrike">
              <a:solidFill>
                <a:srgbClr val="04617b"/>
              </a:solidFill>
              <a:latin typeface="Calibri"/>
            </a:endParaRPr>
          </a:p>
        </p:txBody>
      </p:sp>
      <p:sp>
        <p:nvSpPr>
          <p:cNvPr id="286" name="Rectangle 3"/>
          <p:cNvSpPr/>
          <p:nvPr/>
        </p:nvSpPr>
        <p:spPr>
          <a:xfrm>
            <a:off x="500040" y="2000160"/>
            <a:ext cx="8072640" cy="307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n OECD-DAC evaluation points out that there seems to be great potential for ensuring longer-term sustainability throug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Better institutionalisation or up-scaling of pilot programmes.</a:t>
            </a:r>
            <a:endParaRPr b="0" lang="en-US" sz="32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Formulation of exit and/or mainstreaming strategies in every support programme from the initial stag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71640" y="549360"/>
            <a:ext cx="7199280" cy="576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Small group exercise</a:t>
            </a:r>
            <a:endParaRPr b="0" lang="en-US" sz="4800" spc="-1" strike="noStrike">
              <a:solidFill>
                <a:srgbClr val="04617b"/>
              </a:solidFill>
              <a:latin typeface="Calibri"/>
            </a:endParaRPr>
          </a:p>
        </p:txBody>
      </p:sp>
      <p:sp>
        <p:nvSpPr>
          <p:cNvPr id="288" name="Rectangle 3"/>
          <p:cNvSpPr/>
          <p:nvPr/>
        </p:nvSpPr>
        <p:spPr>
          <a:xfrm>
            <a:off x="785880" y="1071720"/>
            <a:ext cx="7923240" cy="2876400"/>
          </a:xfrm>
          <a:prstGeom prst="rect">
            <a:avLst/>
          </a:prstGeom>
          <a:noFill/>
          <a:ln w="0">
            <a:noFill/>
          </a:ln>
        </p:spPr>
        <p:style>
          <a:lnRef idx="0"/>
          <a:fillRef idx="0"/>
          <a:effectRef idx="0"/>
          <a:fontRef idx="minor"/>
        </p:style>
        <p:txBody>
          <a:bodyPr lIns="90000" rIns="90000" tIns="46800" bIns="46800" anchor="t">
            <a:noAutofit/>
          </a:bodyPr>
          <a:p>
            <a:pPr>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Constantia"/>
              </a:rPr>
              <a:t>Try to come up with examples of decentralisation strategies that - in your opinion – were successful</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y do you think were they successful?</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Make a list of lessons learnt from these examples, try to group the examples according to four steps of the identification process:</a:t>
            </a:r>
            <a:endParaRPr b="0" lang="en-US" sz="28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i="1" lang="en-GB" sz="2400" spc="-1" strike="noStrike">
                <a:solidFill>
                  <a:srgbClr val="000000"/>
                </a:solidFill>
                <a:latin typeface="Constantia"/>
              </a:rPr>
              <a:t>Focus</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Entry points</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Sequencing of support</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Capacity development approa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nstantia"/>
              </a:rPr>
              <a:t>(ca. 25 minu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800" spc="-1" strike="noStrike">
                <a:solidFill>
                  <a:srgbClr val="000000"/>
                </a:solidFill>
                <a:latin typeface="Constantia"/>
              </a:rPr>
              <a:t>One group member presents the findings in the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42600" y="713880"/>
            <a:ext cx="761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Overall recommendations for managing the identification process</a:t>
            </a:r>
            <a:endParaRPr b="0" lang="en-US" sz="4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vest time to produce clear terms of refer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e and facilitate a multi-actor dialogue throughout the proces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ke sure that government stays onboar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obilise existing sources of local knowledg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oach the consulta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 transparent and communicate about out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el 1" descr=""/>
          <p:cNvPicPr/>
          <p:nvPr/>
        </p:nvPicPr>
        <p:blipFill>
          <a:blip r:embed="rId1"/>
          <a:stretch/>
        </p:blipFill>
        <p:spPr>
          <a:xfrm>
            <a:off x="853920" y="2206800"/>
            <a:ext cx="7948800" cy="2011320"/>
          </a:xfrm>
          <a:prstGeom prst="rect">
            <a:avLst/>
          </a:prstGeom>
          <a:ln w="0">
            <a:noFill/>
          </a:ln>
        </p:spPr>
      </p:pic>
      <p:sp>
        <p:nvSpPr>
          <p:cNvPr id="292" name="PlaceHolder 1"/>
          <p:cNvSpPr>
            <a:spLocks noGrp="1"/>
          </p:cNvSpPr>
          <p:nvPr>
            <p:ph/>
          </p:nvPr>
        </p:nvSpPr>
        <p:spPr>
          <a:xfrm>
            <a:off x="642960" y="4286160"/>
            <a:ext cx="7772400" cy="1509840"/>
          </a:xfrm>
          <a:prstGeom prst="rect">
            <a:avLst/>
          </a:prstGeom>
          <a:noFill/>
          <a:ln w="0">
            <a:noFill/>
          </a:ln>
        </p:spPr>
        <p:txBody>
          <a:bodyPr lIns="45720" rIns="45720" anchor="t">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Participants’ experiences </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Lessons learnt on harmonisation</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42960" y="499680"/>
            <a:ext cx="765792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Harmonisation of responses</a:t>
            </a:r>
            <a:endParaRPr b="0" lang="en-US" sz="4800" spc="-1" strike="noStrike">
              <a:solidFill>
                <a:srgbClr val="04617b"/>
              </a:solidFill>
              <a:latin typeface="Calibri"/>
            </a:endParaRPr>
          </a:p>
        </p:txBody>
      </p:sp>
      <p:sp>
        <p:nvSpPr>
          <p:cNvPr id="294" name=""/>
          <p:cNvSpPr txBox="1"/>
          <p:nvPr/>
        </p:nvSpPr>
        <p:spPr>
          <a:xfrm>
            <a:off x="571320" y="1785600"/>
            <a:ext cx="8072280" cy="4786200"/>
          </a:xfrm>
          <a:prstGeom prst="rect">
            <a:avLst/>
          </a:prstGeom>
          <a:noFill/>
          <a:ln w="0">
            <a:noFill/>
          </a:ln>
        </p:spPr>
        <p:txBody>
          <a:bodyPr anchor="t">
            <a:normAutofit/>
          </a:bodyPr>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DPWG-LGDs country specific guiding </a:t>
            </a:r>
            <a:endParaRPr b="0" lang="en-US" sz="3000" spc="-1" strike="noStrike">
              <a:solidFill>
                <a:srgbClr val="000000"/>
              </a:solidFill>
              <a:latin typeface="Constantia"/>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Principles call for DPs to:</a:t>
            </a:r>
            <a:endParaRPr b="0" lang="en-US" sz="3000" spc="-1" strike="noStrike">
              <a:solidFill>
                <a:srgbClr val="000000"/>
              </a:solidFill>
              <a:latin typeface="Constantia"/>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	</a:t>
            </a:r>
            <a:r>
              <a:rPr b="0" lang="en-US" sz="3000" spc="-1" strike="noStrike">
                <a:solidFill>
                  <a:srgbClr val="000000"/>
                </a:solidFill>
                <a:latin typeface="Constantia"/>
              </a:rPr>
              <a:t>“</a:t>
            </a:r>
            <a:r>
              <a:rPr b="0" lang="en-GB" sz="3000" spc="-1" strike="noStrike">
                <a:solidFill>
                  <a:srgbClr val="000000"/>
                </a:solidFill>
                <a:latin typeface="Constantia"/>
              </a:rPr>
              <a:t>Build on and strengthen nationally driven DLG policies with harmonised strategic responses from DP according to different degrees of and commitment to decentralisation and local governance”. </a:t>
            </a:r>
            <a:endParaRPr b="0" lang="en-US" sz="3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95" name="Tekstvak 4"/>
          <p:cNvSpPr/>
          <p:nvPr/>
        </p:nvSpPr>
        <p:spPr>
          <a:xfrm>
            <a:off x="571680" y="2857680"/>
            <a:ext cx="814356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13840"/>
            <a:ext cx="80866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ountry typologies (1)</a:t>
            </a:r>
            <a:endParaRPr b="0" lang="en-US" sz="4800" spc="-1" strike="noStrike">
              <a:solidFill>
                <a:srgbClr val="04617b"/>
              </a:solidFill>
              <a:latin typeface="Calibri"/>
            </a:endParaRPr>
          </a:p>
        </p:txBody>
      </p:sp>
      <p:sp>
        <p:nvSpPr>
          <p:cNvPr id="297" name=""/>
          <p:cNvSpPr txBox="1"/>
          <p:nvPr/>
        </p:nvSpPr>
        <p:spPr>
          <a:xfrm>
            <a:off x="500040" y="1571400"/>
            <a:ext cx="8229600" cy="4389480"/>
          </a:xfrm>
          <a:prstGeom prst="rect">
            <a:avLst/>
          </a:prstGeom>
          <a:noFill/>
          <a:ln w="0">
            <a:noFill/>
          </a:ln>
        </p:spPr>
        <p:txBody>
          <a:bodyPr anchor="t">
            <a:normAutofit fontScale="86000"/>
          </a:bodyPr>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Actively decentralising countries: </a:t>
            </a:r>
            <a:r>
              <a:rPr b="0" lang="en-GB" sz="3200" spc="-1" strike="noStrike">
                <a:solidFill>
                  <a:srgbClr val="000000"/>
                </a:solidFill>
                <a:latin typeface="Constantia"/>
              </a:rPr>
              <a:t>DPs are invited to fully align their strategies, approaches, funding instruments and procedures to the national framework.</a:t>
            </a:r>
            <a:endParaRPr b="0" lang="en-US" sz="3200" spc="-1" strike="noStrike">
              <a:solidFill>
                <a:srgbClr val="000000"/>
              </a:solidFill>
              <a:latin typeface="Constantia"/>
            </a:endParaRPr>
          </a:p>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Advanced intermediate decentralising countries: </a:t>
            </a:r>
            <a:r>
              <a:rPr b="0" lang="en-GB" sz="3200" spc="-1" strike="noStrike">
                <a:solidFill>
                  <a:srgbClr val="000000"/>
                </a:solidFill>
                <a:latin typeface="Constantia"/>
              </a:rPr>
              <a:t>Stimulate the emergence and consolidation of a coherent national policy on decentralisation while providing support for policy experiments with selected national and local stakeholders</a:t>
            </a:r>
            <a:endParaRPr b="0" lang="en-US" sz="3200" spc="-1" strike="noStrike">
              <a:solidFill>
                <a:srgbClr val="000000"/>
              </a:solidFill>
              <a:latin typeface="Constantia"/>
            </a:endParaRPr>
          </a:p>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13880" y="500040"/>
            <a:ext cx="794412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ountry typologies (2)</a:t>
            </a:r>
            <a:endParaRPr b="0" lang="en-US" sz="4800" spc="-1" strike="noStrike">
              <a:solidFill>
                <a:srgbClr val="04617b"/>
              </a:solidFill>
              <a:latin typeface="Calibri"/>
            </a:endParaRPr>
          </a:p>
        </p:txBody>
      </p:sp>
      <p:sp>
        <p:nvSpPr>
          <p:cNvPr id="299" name=""/>
          <p:cNvSpPr txBox="1"/>
          <p:nvPr/>
        </p:nvSpPr>
        <p:spPr>
          <a:xfrm>
            <a:off x="428760" y="157140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arly intermediate decentralising countries: </a:t>
            </a:r>
            <a:r>
              <a:rPr b="0" lang="en-US" sz="2600" spc="-1" strike="noStrike">
                <a:solidFill>
                  <a:srgbClr val="000000"/>
                </a:solidFill>
                <a:latin typeface="Constantia"/>
              </a:rPr>
              <a:t>response strategies will have to build on existing windows of opportunities (in sectors or at local level) and support drivers of chang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Non-decentralising / (post-) conflict countries: </a:t>
            </a:r>
            <a:r>
              <a:rPr b="0" lang="en-GB" sz="2600" spc="-1" strike="noStrike">
                <a:solidFill>
                  <a:srgbClr val="000000"/>
                </a:solidFill>
                <a:latin typeface="Constantia"/>
              </a:rPr>
              <a:t>Focus first on creating a basic legitimacy (i.e. rule of law) and invest then in shaping the pre-conditions for a decentralisation vision through a variety of entry points and instruments. It is of critical importance to act jointly as donor community.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14240" y="571320"/>
            <a:ext cx="707256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Learning objectives</a:t>
            </a:r>
            <a:endParaRPr b="0" lang="en-US" sz="3600" spc="-1" strike="noStrike">
              <a:solidFill>
                <a:srgbClr val="04617b"/>
              </a:solidFill>
              <a:latin typeface="Calibri"/>
            </a:endParaRPr>
          </a:p>
        </p:txBody>
      </p:sp>
      <p:sp>
        <p:nvSpPr>
          <p:cNvPr id="254" name=""/>
          <p:cNvSpPr txBox="1"/>
          <p:nvPr/>
        </p:nvSpPr>
        <p:spPr>
          <a:xfrm>
            <a:off x="428760" y="1499760"/>
            <a:ext cx="8229600" cy="438948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Participants will gain insight into:</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lements to take into account when designing a support strategy: </a:t>
            </a:r>
            <a:endParaRPr b="0" lang="en-US" sz="24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different entry points of support to decentralisation</a:t>
            </a:r>
            <a:endParaRPr b="0" lang="en-US" sz="22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sequencing of support </a:t>
            </a:r>
            <a:endParaRPr b="0" lang="en-US" sz="22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approaches to capacity development;</a:t>
            </a:r>
            <a:endParaRPr b="0" lang="en-US" sz="22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ow to use and reinforce national procedures and mechanisms in designing support strategies;</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centives and obstacles within each others’ organisations and within partner country governments that might help or hinder harmonisation and alignment.</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3880" y="1071360"/>
            <a:ext cx="80154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Steps to be considered for counties with limited commitment</a:t>
            </a:r>
            <a:endParaRPr b="0" lang="en-US" sz="4400" spc="-1" strike="noStrike">
              <a:solidFill>
                <a:srgbClr val="04617b"/>
              </a:solidFill>
              <a:latin typeface="Calibri"/>
            </a:endParaRPr>
          </a:p>
        </p:txBody>
      </p:sp>
      <p:sp>
        <p:nvSpPr>
          <p:cNvPr id="301" name=""/>
          <p:cNvSpPr txBox="1"/>
          <p:nvPr/>
        </p:nvSpPr>
        <p:spPr>
          <a:xfrm>
            <a:off x="428760" y="19998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f you cannot align, then harmonis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lthough only few advances may be made within the five critical pillars for decentralisation, these few advances could be used as the first “building blocks” for harmonisation</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1680" y="8568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Steps to be considered for countries with stronger commitment</a:t>
            </a:r>
            <a:endParaRPr b="0" lang="en-US" sz="4400" spc="-1" strike="noStrike">
              <a:solidFill>
                <a:srgbClr val="04617b"/>
              </a:solidFill>
              <a:latin typeface="Calibri"/>
            </a:endParaRPr>
          </a:p>
        </p:txBody>
      </p:sp>
      <p:sp>
        <p:nvSpPr>
          <p:cNvPr id="303" name=""/>
          <p:cNvSpPr txBox="1"/>
          <p:nvPr/>
        </p:nvSpPr>
        <p:spPr>
          <a:xfrm>
            <a:off x="428760" y="19998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One or more roundtables should be promoted for dialogue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 road map for alignment and harmonisation should be agre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The principles from the General Guiding Principles on alignment and harmonisation should be appli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42600" y="428760"/>
            <a:ext cx="80154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General steps to be considered</a:t>
            </a:r>
            <a:endParaRPr b="0" lang="en-US" sz="4800" spc="-1" strike="noStrike">
              <a:solidFill>
                <a:srgbClr val="04617b"/>
              </a:solidFill>
              <a:latin typeface="Calibri"/>
            </a:endParaRPr>
          </a:p>
        </p:txBody>
      </p:sp>
      <p:sp>
        <p:nvSpPr>
          <p:cNvPr id="305" name=""/>
          <p:cNvSpPr txBox="1"/>
          <p:nvPr/>
        </p:nvSpPr>
        <p:spPr>
          <a:xfrm>
            <a:off x="500040" y="1499760"/>
            <a:ext cx="8143920" cy="438948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tart up a dialogue with stakeholders without waiting until all DPs commit themselves  to A&amp;H</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valuate periodically the progress made by DPs toward harmonisation</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quire each DP to draw up A&amp;H strategies  including coordination between general DLG support and sector programme support</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armonise support to civil society participating in DLG processes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ry to develop a common technical assistance plan</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stablishment of joint monitoring, evaluation and audit mechanisms a key issue</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713880"/>
            <a:ext cx="82864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4617b"/>
                </a:solidFill>
                <a:latin typeface="Calibri"/>
              </a:rPr>
              <a:t>Participants experiences with sequencing of support modalities</a:t>
            </a:r>
            <a:endParaRPr b="0" lang="en-US" sz="4400" spc="-1" strike="noStrike">
              <a:solidFill>
                <a:srgbClr val="04617b"/>
              </a:solidFill>
              <a:latin typeface="Calibri"/>
            </a:endParaRPr>
          </a:p>
        </p:txBody>
      </p:sp>
      <p:sp>
        <p:nvSpPr>
          <p:cNvPr id="307" name=""/>
          <p:cNvSpPr txBox="1"/>
          <p:nvPr/>
        </p:nvSpPr>
        <p:spPr>
          <a:xfrm>
            <a:off x="571680" y="2071440"/>
            <a:ext cx="8015040" cy="43894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applicable  are the country typologies in practice:</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o what extent does the case follow the response strategies suggested?</a:t>
            </a: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at was the rationale behind the choice for this sequencing of support modalities?</a:t>
            </a: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o what extent has the support reinforced and used national procedures and mechanisms?</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571320"/>
            <a:ext cx="8229600" cy="86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DP Alignment to country strategies</a:t>
            </a:r>
            <a:endParaRPr b="0" lang="en-US" sz="4000" spc="-1" strike="noStrike">
              <a:solidFill>
                <a:srgbClr val="04617b"/>
              </a:solidFill>
              <a:latin typeface="Calibri"/>
            </a:endParaRPr>
          </a:p>
        </p:txBody>
      </p:sp>
      <p:sp>
        <p:nvSpPr>
          <p:cNvPr id="309" name=""/>
          <p:cNvSpPr txBox="1"/>
          <p:nvPr/>
        </p:nvSpPr>
        <p:spPr>
          <a:xfrm>
            <a:off x="428760" y="149976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lignment to non-coherent national strategies can lead to conflicting and contradictory support strategies, therefore integration of decentralisation into overall national strategies essential.</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adual alignment to key elements of a national framework can facilitate the development of a comprehensive overall support programme with joint funding mechanism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verall strategy for development cooperation and partnerships (Joint Assistance Strategy) will facilitate alignment and harmonisatio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DP Coordination Mechanisms</a:t>
            </a:r>
            <a:endParaRPr b="0" lang="en-US" sz="4400" spc="-1" strike="noStrike">
              <a:solidFill>
                <a:srgbClr val="04617b"/>
              </a:solidFill>
              <a:latin typeface="Calibri"/>
            </a:endParaRPr>
          </a:p>
        </p:txBody>
      </p:sp>
      <p:sp>
        <p:nvSpPr>
          <p:cNvPr id="311" name=""/>
          <p:cNvSpPr txBox="1"/>
          <p:nvPr/>
        </p:nvSpPr>
        <p:spPr>
          <a:xfrm>
            <a:off x="500040" y="13568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ke coordination more comprehensive horizontally and vertically to be able to address all dimensions relevant to the DC process in a coherent mann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nsure government commitment for its leadership role for the DP coordinatio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t-up road map with specific milestones for enhancing coordination and harmonisation within the DP group, moving towards joint missions, common funding mechanisms and partnership and representation arrangement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71680" y="1213920"/>
            <a:ext cx="621504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Challenges of harmonisation and alignment</a:t>
            </a:r>
            <a:endParaRPr b="0" lang="en-US" sz="4000" spc="-1" strike="noStrike">
              <a:solidFill>
                <a:srgbClr val="04617b"/>
              </a:solidFill>
              <a:latin typeface="Calibri"/>
            </a:endParaRPr>
          </a:p>
        </p:txBody>
      </p:sp>
      <p:sp>
        <p:nvSpPr>
          <p:cNvPr id="313" name="Rectangle 3"/>
          <p:cNvSpPr/>
          <p:nvPr/>
        </p:nvSpPr>
        <p:spPr>
          <a:xfrm>
            <a:off x="571680" y="1928880"/>
            <a:ext cx="813744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OECD-DAC (2004): </a:t>
            </a:r>
            <a:endParaRPr b="0" lang="en-US" sz="28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It is widely recognised that development partner coordination is crucial for cost-effective utilisation of scarce resources. </a:t>
            </a:r>
            <a:endParaRPr b="0" lang="en-US" sz="26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Changing the traditional way of operating has proved to be a challenging and lengthy process. </a:t>
            </a:r>
            <a:endParaRPr b="0" lang="en-US" sz="26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DPs and partner governments should examine obstacles to effective DP co-ordination and endeavour to make sure that DP programmes in this field are better co-ordinated.</a:t>
            </a:r>
            <a:endParaRPr b="0" lang="en-US" sz="2600" spc="-1" strike="noStrike">
              <a:solidFill>
                <a:srgbClr val="000000"/>
              </a:solidFill>
              <a:latin typeface="Arial"/>
            </a:endParaRPr>
          </a:p>
        </p:txBody>
      </p:sp>
      <p:sp>
        <p:nvSpPr>
          <p:cNvPr id="314" name="Tekstvak 7"/>
          <p:cNvSpPr/>
          <p:nvPr/>
        </p:nvSpPr>
        <p:spPr>
          <a:xfrm>
            <a:off x="0" y="1428840"/>
            <a:ext cx="89298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71680" y="785520"/>
            <a:ext cx="7215120" cy="749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Fishbowl discussion</a:t>
            </a:r>
            <a:endParaRPr b="0" lang="en-US" sz="4800" spc="-1" strike="noStrike">
              <a:solidFill>
                <a:srgbClr val="04617b"/>
              </a:solidFill>
              <a:latin typeface="Calibri"/>
            </a:endParaRPr>
          </a:p>
        </p:txBody>
      </p:sp>
      <p:sp>
        <p:nvSpPr>
          <p:cNvPr id="316" name="Rectangle 3"/>
          <p:cNvSpPr/>
          <p:nvPr/>
        </p:nvSpPr>
        <p:spPr>
          <a:xfrm>
            <a:off x="357120" y="1714680"/>
            <a:ext cx="8137440" cy="287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Tekstvak 7"/>
          <p:cNvSpPr/>
          <p:nvPr/>
        </p:nvSpPr>
        <p:spPr>
          <a:xfrm>
            <a:off x="500040" y="1643040"/>
            <a:ext cx="8072640" cy="575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When designing support strategies, what are the obstacles for effective donor harmonisation and alignment:</a:t>
            </a:r>
            <a:endParaRPr b="0" lang="en-US" sz="3200" spc="-1" strike="noStrike">
              <a:solidFill>
                <a:srgbClr val="000000"/>
              </a:solidFill>
              <a:latin typeface="Arial"/>
            </a:endParaRPr>
          </a:p>
          <a:p>
            <a:pPr lvl="1" marL="457200">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 </a:t>
            </a:r>
            <a:r>
              <a:rPr b="0" i="1" lang="en-GB" sz="3200" spc="-1" strike="noStrike">
                <a:solidFill>
                  <a:srgbClr val="000000"/>
                </a:solidFill>
                <a:latin typeface="Constantia"/>
              </a:rPr>
              <a:t>within development partners’ organisations?</a:t>
            </a:r>
            <a:endParaRPr b="0" lang="en-US" sz="3200" spc="-1" strike="noStrike">
              <a:solidFill>
                <a:srgbClr val="000000"/>
              </a:solidFill>
              <a:latin typeface="Arial"/>
            </a:endParaRPr>
          </a:p>
          <a:p>
            <a:pPr lvl="1" marL="457200">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 </a:t>
            </a:r>
            <a:r>
              <a:rPr b="0" i="1" lang="en-GB" sz="3200" spc="-1" strike="noStrike">
                <a:solidFill>
                  <a:srgbClr val="000000"/>
                </a:solidFill>
                <a:latin typeface="Constantia"/>
              </a:rPr>
              <a:t>within partner governme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nd (how) can these be alter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71680" y="856800"/>
            <a:ext cx="621504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Fishbowl discussion: process</a:t>
            </a:r>
            <a:endParaRPr b="0" lang="en-US" sz="4000" spc="-1" strike="noStrike">
              <a:solidFill>
                <a:srgbClr val="04617b"/>
              </a:solidFill>
              <a:latin typeface="Calibri"/>
            </a:endParaRPr>
          </a:p>
        </p:txBody>
      </p:sp>
      <p:sp>
        <p:nvSpPr>
          <p:cNvPr id="319" name="Rectangle 3"/>
          <p:cNvSpPr/>
          <p:nvPr/>
        </p:nvSpPr>
        <p:spPr>
          <a:xfrm>
            <a:off x="500040" y="1500120"/>
            <a:ext cx="813744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Circle of five chairs, four occupied, one empty</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he four “fish” briefly present their (organisations) experiences and view on the statement</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Any member of the audience can, at any time, occupy the empty chair</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en this happens, an existing member of the fishbowl must voluntarily leave</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he discussion continues with participants frequently entering and leaving the fishbowl</a:t>
            </a:r>
            <a:endParaRPr b="0" lang="en-US" sz="2800" spc="-1" strike="noStrike">
              <a:solidFill>
                <a:srgbClr val="000000"/>
              </a:solidFill>
              <a:latin typeface="Arial"/>
            </a:endParaRPr>
          </a:p>
        </p:txBody>
      </p:sp>
      <p:sp>
        <p:nvSpPr>
          <p:cNvPr id="320" name="Tekstvak 7"/>
          <p:cNvSpPr/>
          <p:nvPr/>
        </p:nvSpPr>
        <p:spPr>
          <a:xfrm>
            <a:off x="0" y="1143000"/>
            <a:ext cx="89298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85520" y="704520"/>
            <a:ext cx="790092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Session overview</a:t>
            </a:r>
            <a:endParaRPr b="0" lang="en-US" sz="3600" spc="-1" strike="noStrike">
              <a:solidFill>
                <a:srgbClr val="04617b"/>
              </a:solidFill>
              <a:latin typeface="Calibri"/>
            </a:endParaRPr>
          </a:p>
        </p:txBody>
      </p:sp>
      <p:sp>
        <p:nvSpPr>
          <p:cNvPr id="256" name=""/>
          <p:cNvSpPr txBox="1"/>
          <p:nvPr/>
        </p:nvSpPr>
        <p:spPr>
          <a:xfrm>
            <a:off x="428760" y="15714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ntro: designing coherent support strateg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 work: lessons learnt on support to decentralisation &amp; local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esentations on DPs experience with sequencing of support modal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econditions and action points for improving alignment and harmon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shbowl discussion on incentives for harmonisation and align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566640" y="2139840"/>
            <a:ext cx="8101080" cy="1432080"/>
          </a:xfrm>
          <a:prstGeom prst="rect">
            <a:avLst/>
          </a:prstGeom>
          <a:ln w="0">
            <a:noFill/>
          </a:ln>
        </p:spPr>
      </p:pic>
      <p:sp>
        <p:nvSpPr>
          <p:cNvPr id="258" name="PlaceHolder 1"/>
          <p:cNvSpPr>
            <a:spLocks noGrp="1"/>
          </p:cNvSpPr>
          <p:nvPr>
            <p:ph/>
          </p:nvPr>
        </p:nvSpPr>
        <p:spPr>
          <a:xfrm>
            <a:off x="642960" y="3571920"/>
            <a:ext cx="7772400" cy="1509840"/>
          </a:xfrm>
          <a:prstGeom prst="rect">
            <a:avLst/>
          </a:prstGeom>
          <a:noFill/>
          <a:ln w="0">
            <a:noFill/>
          </a:ln>
        </p:spPr>
        <p:txBody>
          <a:bodyPr lIns="45720" rIns="45720" anchor="t">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Introducing strategic options</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Group work: Defining lessons learnt</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Overall recommendation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16" descr=""/>
          <p:cNvPicPr/>
          <p:nvPr/>
        </p:nvPicPr>
        <p:blipFill>
          <a:blip r:embed="rId1"/>
          <a:stretch/>
        </p:blipFill>
        <p:spPr>
          <a:xfrm>
            <a:off x="219240" y="628560"/>
            <a:ext cx="8596080" cy="1243080"/>
          </a:xfrm>
          <a:prstGeom prst="rect">
            <a:avLst/>
          </a:prstGeom>
          <a:ln w="0">
            <a:noFill/>
          </a:ln>
        </p:spPr>
      </p:pic>
      <p:pic>
        <p:nvPicPr>
          <p:cNvPr id="260" name="Group 3" descr=""/>
          <p:cNvPicPr/>
          <p:nvPr/>
        </p:nvPicPr>
        <p:blipFill>
          <a:blip r:embed="rId2"/>
          <a:stretch/>
        </p:blipFill>
        <p:spPr>
          <a:xfrm>
            <a:off x="1189080" y="2335320"/>
            <a:ext cx="6748560" cy="3547800"/>
          </a:xfrm>
          <a:prstGeom prst="rect">
            <a:avLst/>
          </a:prstGeom>
          <a:ln w="0">
            <a:noFill/>
          </a:ln>
        </p:spPr>
      </p:pic>
      <p:grpSp>
        <p:nvGrpSpPr>
          <p:cNvPr id="261" name="Oval 7"/>
          <p:cNvGrpSpPr/>
          <p:nvPr/>
        </p:nvGrpSpPr>
        <p:grpSpPr>
          <a:xfrm>
            <a:off x="1335240" y="3535200"/>
            <a:ext cx="2023920" cy="1420920"/>
            <a:chOff x="1335240" y="3535200"/>
            <a:chExt cx="2023920" cy="1420920"/>
          </a:xfrm>
        </p:grpSpPr>
        <p:pic>
          <p:nvPicPr>
            <p:cNvPr id="262" name="Oval 7" descr=""/>
            <p:cNvPicPr/>
            <p:nvPr/>
          </p:nvPicPr>
          <p:blipFill>
            <a:blip r:embed="rId3"/>
            <a:stretch/>
          </p:blipFill>
          <p:spPr>
            <a:xfrm>
              <a:off x="1335240" y="3535200"/>
              <a:ext cx="2023920" cy="1420920"/>
            </a:xfrm>
            <a:prstGeom prst="rect">
              <a:avLst/>
            </a:prstGeom>
            <a:ln w="0">
              <a:noFill/>
            </a:ln>
          </p:spPr>
        </p:pic>
        <p:sp>
          <p:nvSpPr>
            <p:cNvPr id="263" name=""/>
            <p:cNvSpPr/>
            <p:nvPr/>
          </p:nvSpPr>
          <p:spPr>
            <a:xfrm>
              <a:off x="1650960" y="3763800"/>
              <a:ext cx="1400040" cy="9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dentify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trateg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option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2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440" y="1356840"/>
            <a:ext cx="73134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Identifying concrete strategic options for supporting decentralisation</a:t>
            </a:r>
            <a:endParaRPr b="0" lang="en-US" sz="3600" spc="-1" strike="noStrike">
              <a:solidFill>
                <a:srgbClr val="04617b"/>
              </a:solidFill>
              <a:latin typeface="Calibri"/>
            </a:endParaRPr>
          </a:p>
        </p:txBody>
      </p:sp>
      <p:sp>
        <p:nvSpPr>
          <p:cNvPr id="265" name="Rectangle 3"/>
          <p:cNvSpPr/>
          <p:nvPr/>
        </p:nvSpPr>
        <p:spPr>
          <a:xfrm>
            <a:off x="1000080" y="2286000"/>
            <a:ext cx="7923240" cy="28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Supporting decentralis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Focu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Entry poi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equencing of support</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apacity development approach</a:t>
            </a:r>
            <a:endParaRPr b="0" lang="en-US" sz="3200" spc="-1" strike="noStrike">
              <a:solidFill>
                <a:srgbClr val="000000"/>
              </a:solidFill>
              <a:latin typeface="Arial"/>
            </a:endParaRPr>
          </a:p>
          <a:p>
            <a:pPr lvl="1" marL="457200">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5">
                                            <p:txEl>
                                              <p:pRg st="2" end="2"/>
                                            </p:txEl>
                                          </p:spTgt>
                                        </p:tgtEl>
                                        <p:attrNameLst>
                                          <p:attrName>style.visibility</p:attrName>
                                        </p:attrNameLst>
                                      </p:cBhvr>
                                      <p:to>
                                        <p:strVal val="visible"/>
                                      </p:to>
                                    </p:set>
                                    <p:anim calcmode="lin" valueType="num">
                                      <p:cBhvr additive="base">
                                        <p:cTn id="13"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 calcmode="lin" valueType="num">
                                      <p:cBhvr additive="base">
                                        <p:cTn id="19"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5">
                                            <p:txEl>
                                              <p:pRg st="4" end="4"/>
                                            </p:txEl>
                                          </p:spTgt>
                                        </p:tgtEl>
                                        <p:attrNameLst>
                                          <p:attrName>style.visibility</p:attrName>
                                        </p:attrNameLst>
                                      </p:cBhvr>
                                      <p:to>
                                        <p:strVal val="visible"/>
                                      </p:to>
                                    </p:set>
                                    <p:anim calcmode="lin" valueType="num">
                                      <p:cBhvr additive="base">
                                        <p:cTn id="25" dur="5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5">
                                            <p:txEl>
                                              <p:pRg st="5" end="5"/>
                                            </p:txEl>
                                          </p:spTgt>
                                        </p:tgtEl>
                                        <p:attrNameLst>
                                          <p:attrName>style.visibility</p:attrName>
                                        </p:attrNameLst>
                                      </p:cBhvr>
                                      <p:to>
                                        <p:strVal val="visible"/>
                                      </p:to>
                                    </p:set>
                                    <p:anim calcmode="lin" valueType="num">
                                      <p:cBhvr additive="base">
                                        <p:cTn id="31"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85520" y="785880"/>
            <a:ext cx="731340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Focus</a:t>
            </a:r>
            <a:endParaRPr b="0" lang="en-US" sz="4800" spc="-1" strike="noStrike">
              <a:solidFill>
                <a:srgbClr val="04617b"/>
              </a:solidFill>
              <a:latin typeface="Calibri"/>
            </a:endParaRPr>
          </a:p>
        </p:txBody>
      </p:sp>
      <p:sp>
        <p:nvSpPr>
          <p:cNvPr id="267" name="Rectangle 3"/>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kstvak 10"/>
          <p:cNvSpPr/>
          <p:nvPr/>
        </p:nvSpPr>
        <p:spPr>
          <a:xfrm>
            <a:off x="642960" y="1500120"/>
            <a:ext cx="7715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Should the support have a multi-actor and/or network focus? Which relevant players to involve?</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Choosing a single-layer or multi-layer focus? Which levels are appropriate to intervene at?</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Should it be a country-wide or a regionally focused intervention?</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Which processes do we want to engage in? Which other partner processes should we link up wi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85520" y="785880"/>
            <a:ext cx="731340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Entry points</a:t>
            </a:r>
            <a:endParaRPr b="0" lang="en-US" sz="4800" spc="-1" strike="noStrike">
              <a:solidFill>
                <a:srgbClr val="04617b"/>
              </a:solidFill>
              <a:latin typeface="Calibri"/>
            </a:endParaRPr>
          </a:p>
        </p:txBody>
      </p:sp>
      <p:sp>
        <p:nvSpPr>
          <p:cNvPr id="271" name="Rectangle 3"/>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kstvak 10"/>
          <p:cNvSpPr/>
          <p:nvPr/>
        </p:nvSpPr>
        <p:spPr>
          <a:xfrm>
            <a:off x="714240" y="1571760"/>
            <a:ext cx="77155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entral government institution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Regional governme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Local governme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Local economic actors, private companie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ivil society, non-governmental organisations, association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upervisory bodies, such as parliaments, audit courts and ombuds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13880" y="428400"/>
            <a:ext cx="7944120" cy="92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Choosing the right sequencing</a:t>
            </a:r>
            <a:endParaRPr b="0" lang="en-US" sz="4400" spc="-1" strike="noStrike">
              <a:solidFill>
                <a:srgbClr val="04617b"/>
              </a:solidFill>
              <a:latin typeface="Calibri"/>
            </a:endParaRPr>
          </a:p>
        </p:txBody>
      </p:sp>
      <p:sp>
        <p:nvSpPr>
          <p:cNvPr id="275" name="PlaceHolder 2"/>
          <p:cNvSpPr>
            <a:spLocks noGrp="1"/>
          </p:cNvSpPr>
          <p:nvPr>
            <p:ph/>
          </p:nvPr>
        </p:nvSpPr>
        <p:spPr>
          <a:xfrm>
            <a:off x="428760" y="1143000"/>
            <a:ext cx="8143920" cy="4897440"/>
          </a:xfrm>
          <a:prstGeom prst="rect">
            <a:avLst/>
          </a:prstGeom>
          <a:noFill/>
          <a:ln w="0">
            <a:noFill/>
          </a:ln>
        </p:spPr>
        <p:txBody>
          <a:bodyPr anchor="t">
            <a:normAutofit fontScale="93000"/>
          </a:bodyPr>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vest in a shared vision on decentralisation</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void trying to do too much too quickly</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corporate the various dimensions (political, administrative, fiscal) throughout the proces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oritise reforms with the greatest possibility of achieving results in a relatively short period of time</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ransfer powers before capacity building</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vide modest funding to be used in a discretionary manner (‘learning by doing’) </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reate incentives for improved performance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14:18:10Z</dcterms:created>
  <dc:creator>bensc_e</dc:creator>
  <dc:description/>
  <dc:language>en-US</dc:language>
  <cp:lastModifiedBy>Koopmans</cp:lastModifiedBy>
  <dcterms:modified xsi:type="dcterms:W3CDTF">2011-04-24T12:22:29Z</dcterms:modified>
  <cp:revision>116</cp:revision>
  <dc:subject/>
  <dc:title>Designing support strategies to Decentralisation and Local Governance</dc:title>
</cp:coreProperties>
</file>