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907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57760" y="-3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7609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57760" y="87609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96FCCE9-6EC1-4682-8F76-6F8A8D25AD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7BF-6908-4474-8A7F-BF70412C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29A-1A2B-476A-BB3F-1D92894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570-E51A-415F-A02A-0C65C925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537-4C01-4E63-B021-01BCD239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94C-543E-46C0-9EDD-F51A41B9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E339-27C0-442C-AF6C-1B9C6B34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FF5C-33F9-4431-BB16-C3C0A52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8D47-1AEC-44F9-917B-D56DF8DD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C1C7-2143-4B1F-8278-F3F157A4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6C01-7BAF-4656-8961-6748AE3C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047C-FCD7-4DD5-810E-3D954C1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FD9-7DF1-4E0F-850F-6D58AAFF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85B8-309F-4B7C-A313-7A25B56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E53A-C9C7-4619-ABFA-9D7DF52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0C5-73BA-4866-8720-281748D2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DFFA-F750-452D-BCB0-225EF8D3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D2D6-7780-4591-83FB-582166D1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FC12-39BF-4369-B7F4-1E6417B3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6754-1B40-4F38-83D2-B959EE4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EFDA-31FA-400E-8E55-33B7FC6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4C70-D9A9-46D1-ADC1-5ED9280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9852-8EBB-4015-BE9B-393A9CFD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8BE-88CC-4DB7-8ECF-7D381568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D111-016B-4922-867E-4247AD3E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A391-5CD4-4890-98D8-F0289F1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3C86-AAAD-488E-950E-36E447A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9775-97A6-4CA7-97E2-08AB9A0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4027-F9D9-4A77-8D76-BB4ACC2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6185-A65B-4AB5-9F50-1D86E31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C4D1-ADEB-442D-95B0-D3CA4B3A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0617-6AE5-4A99-9EE4-C80F02C8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423B-8829-40F2-85A6-98E69B3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1B3B-85E7-4252-82AF-E78C5C5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F6E-9066-48A0-9E9D-A80815C7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DB75-D6F8-402C-846A-F6408B8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8613-6D9B-4964-9697-0324264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8A34-37F5-46AC-9E8C-31767E4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B84D-9DAF-46A2-8A8C-299B3C38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2966-1BF6-491A-AAC7-5F4CEBF2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FE22-3891-44A1-B1E2-E9E145D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0989-CF9B-44E1-A733-D0B30D4C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49663-8F3C-403F-A062-881EA238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EF8F-AF49-42CB-9FDC-80F530F0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CB3-D61E-4AEB-840F-3827381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6CE-AAD5-4DF9-AA3C-54F8268F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923-9B33-43DA-877D-7235959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F40-7EAA-40C6-B7CB-13021DE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BA2-9040-4376-B9F6-FA30921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647-686E-401A-B0FD-EB456549B3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809-E08E-4BF6-B836-629EB22292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D44-DEC6-40AF-B783-F5D0644366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428640" y="1107360"/>
            <a:ext cx="569592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10800" y="581544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746600" y="621900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362-24A4-4BC7-AB52-16C4F472D5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fbeelding 0" descr="Train4logo.jpg"/>
          <p:cNvPicPr/>
          <p:nvPr/>
        </p:nvPicPr>
        <p:blipFill>
          <a:blip r:embed="rId2"/>
          <a:stretch/>
        </p:blipFill>
        <p:spPr>
          <a:xfrm>
            <a:off x="1486080" y="5791320"/>
            <a:ext cx="3450960" cy="852480"/>
          </a:xfrm>
          <a:prstGeom prst="rect">
            <a:avLst/>
          </a:prstGeom>
          <a:ln w="0">
            <a:noFill/>
          </a:ln>
        </p:spPr>
      </p:pic>
      <p:pic>
        <p:nvPicPr>
          <p:cNvPr id="203" name="Afbeelding 1" descr="logoLGD copy.jpg"/>
          <p:cNvPicPr/>
          <p:nvPr/>
        </p:nvPicPr>
        <p:blipFill>
          <a:blip r:embed="rId3"/>
          <a:stretch/>
        </p:blipFill>
        <p:spPr>
          <a:xfrm>
            <a:off x="5861160" y="5791320"/>
            <a:ext cx="3400200" cy="8539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990720" y="1388520"/>
            <a:ext cx="85024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bd0d9"/>
                </a:solidFill>
                <a:latin typeface="Calibri"/>
              </a:rPr>
              <a:t>An open system approach to decentralisation and local govern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rmonisation, Decentralisation and Local Govern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549600" y="1371600"/>
            <a:ext cx="311940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bodies separated by law with from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ng public institutions to decentralised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ation downward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well-developed and inclusive local political process (particip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6851520" y="2438280"/>
            <a:ext cx="280836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e and fair e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3782880" y="321804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volution of power to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0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2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3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4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6769080" y="4267080"/>
            <a:ext cx="273060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autonomy to programme and spend (own)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6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ctangle 17" descr=""/>
          <p:cNvPicPr/>
          <p:nvPr/>
        </p:nvPicPr>
        <p:blipFill>
          <a:blip r:embed="rId2"/>
          <a:stretch/>
        </p:blipFill>
        <p:spPr>
          <a:xfrm>
            <a:off x="738360" y="378000"/>
            <a:ext cx="8680320" cy="95724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0"/>
          <p:cNvSpPr/>
          <p:nvPr/>
        </p:nvSpPr>
        <p:spPr>
          <a:xfrm>
            <a:off x="7772040" y="6400800"/>
            <a:ext cx="196092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ECDPM training k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Resourc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3392640" y="1273320"/>
            <a:ext cx="3276360" cy="931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of responsibilities among level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f fiscal decentrali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governmen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pward account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scal transfer systems among different level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6826320" y="2057400"/>
            <a:ext cx="280836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of planning and budgeting cycle at decentralise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9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1"/>
          <p:cNvSpPr/>
          <p:nvPr/>
        </p:nvSpPr>
        <p:spPr>
          <a:xfrm rot="16200000">
            <a:off x="6404040" y="3898800"/>
            <a:ext cx="457200" cy="2383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2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3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4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6826320" y="4508640"/>
            <a:ext cx="2730600" cy="936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various taxes among levels of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Rectangle 18" descr=""/>
          <p:cNvPicPr/>
          <p:nvPr/>
        </p:nvPicPr>
        <p:blipFill>
          <a:blip r:embed="rId2"/>
          <a:stretch/>
        </p:blipFill>
        <p:spPr>
          <a:xfrm>
            <a:off x="738360" y="378000"/>
            <a:ext cx="86803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4617b"/>
                </a:solidFill>
                <a:latin typeface="Calibri"/>
              </a:rPr>
              <a:t>Pillars for effective decentralis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Legal framework (legal, constitutional, policy dimension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Administrative and political dimension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Fiscal dimen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Human resource dimen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Institutional arrangements and coord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3"/>
          <p:cNvSpPr/>
          <p:nvPr/>
        </p:nvSpPr>
        <p:spPr>
          <a:xfrm>
            <a:off x="3703680" y="2708280"/>
            <a:ext cx="2809800" cy="208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Em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nd 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of legitimate, effe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nd viable 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384720" y="1371600"/>
            <a:ext cx="328428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sing legitimate role (‘obligatory entry poin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507960" y="2590920"/>
            <a:ext cx="2730600" cy="2057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ability of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pwards, horizontal, downwar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300400" y="548640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public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6826320" y="2743200"/>
            <a:ext cx="280836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government capacity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9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0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1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Rectangle 13" descr=""/>
          <p:cNvPicPr/>
          <p:nvPr/>
        </p:nvPicPr>
        <p:blipFill>
          <a:blip r:embed="rId2"/>
          <a:stretch/>
        </p:blipFill>
        <p:spPr>
          <a:xfrm>
            <a:off x="738360" y="530280"/>
            <a:ext cx="892332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Responsiv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ccoun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3549600" y="1219320"/>
            <a:ext cx="3119400" cy="1066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al and organisational set-up for local governanc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577800" y="2819520"/>
            <a:ext cx="2476440" cy="1676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and quality of accountability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sms for exchange of information and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6826320" y="184464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local f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ding citizen’s willingness to pay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8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9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0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 rot="5400000">
            <a:off x="3189960" y="376956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6826320" y="4191120"/>
            <a:ext cx="273060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owerment civil society (dialogue partners and ‘watchdog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4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Rectangle 15" descr=""/>
          <p:cNvPicPr/>
          <p:nvPr/>
        </p:nvPicPr>
        <p:blipFill>
          <a:blip r:embed="rId2"/>
          <a:stretch/>
        </p:blipFill>
        <p:spPr>
          <a:xfrm>
            <a:off x="901800" y="378000"/>
            <a:ext cx="875988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artnershi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 governmen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rivate sector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communiti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fin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3384720" y="1371600"/>
            <a:ext cx="328428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nce ‘catalyst’ role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generation of local economic development (LED)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decentralised decisions on the loc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local development and territoria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6826320" y="184464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coalitions in support of integrated local develop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9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1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2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3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6826320" y="4114800"/>
            <a:ext cx="2730600" cy="133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local level dynamics to processes at 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6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Rectangle 17" descr=""/>
          <p:cNvPicPr/>
          <p:nvPr/>
        </p:nvPicPr>
        <p:blipFill>
          <a:blip r:embed="rId2"/>
          <a:stretch/>
        </p:blipFill>
        <p:spPr>
          <a:xfrm>
            <a:off x="738360" y="298440"/>
            <a:ext cx="8680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Coordin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centralisatio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territorial (spa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lanning</a:t>
            </a:r>
            <a:r>
              <a:rPr b="1" lang="en-US" sz="1800" spc="-1" strike="noStrike">
                <a:solidFill>
                  <a:srgbClr val="009dd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825480" y="1523880"/>
            <a:ext cx="27306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erritorial division of country conducive to decentrali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65240" y="3505320"/>
            <a:ext cx="3236760" cy="1420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sure provision of spatial planning information (in addition to sectoral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2311560" y="548640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on of ‘regional hubs’ to ensure articulation between decentralisation and territoria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6686640" y="137160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ng social and economic synergies between urban and rural municip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9"/>
          <p:cNvSpPr/>
          <p:nvPr/>
        </p:nvSpPr>
        <p:spPr>
          <a:xfrm rot="3724200">
            <a:off x="3437640" y="430272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11"/>
          <p:cNvSpPr/>
          <p:nvPr/>
        </p:nvSpPr>
        <p:spPr>
          <a:xfrm rot="14772000">
            <a:off x="6079320" y="262656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2"/>
          <p:cNvSpPr/>
          <p:nvPr/>
        </p:nvSpPr>
        <p:spPr>
          <a:xfrm rot="7228200">
            <a:off x="3602520" y="270288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6851520" y="3733920"/>
            <a:ext cx="2730600" cy="133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ing admin. decentralisation with inter-sectoral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4"/>
          <p:cNvSpPr/>
          <p:nvPr/>
        </p:nvSpPr>
        <p:spPr>
          <a:xfrm rot="17398800">
            <a:off x="6247440" y="4375800"/>
            <a:ext cx="457200" cy="239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Rectangle 15" descr=""/>
          <p:cNvPicPr/>
          <p:nvPr/>
        </p:nvPicPr>
        <p:blipFill>
          <a:blip r:embed="rId2"/>
          <a:stretch/>
        </p:blipFill>
        <p:spPr>
          <a:xfrm>
            <a:off x="738360" y="530280"/>
            <a:ext cx="859464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7920" y="189000"/>
            <a:ext cx="84362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imple and complex syste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3" name="Picture 3" descr="puzzel"/>
          <p:cNvPicPr/>
          <p:nvPr/>
        </p:nvPicPr>
        <p:blipFill>
          <a:blip r:embed="rId2"/>
          <a:srcRect l="3943" t="0" r="38405" b="0"/>
          <a:stretch/>
        </p:blipFill>
        <p:spPr>
          <a:xfrm>
            <a:off x="2311560" y="1600200"/>
            <a:ext cx="2130120" cy="12193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4"/>
          <p:cNvSpPr/>
          <p:nvPr/>
        </p:nvSpPr>
        <p:spPr>
          <a:xfrm>
            <a:off x="495360" y="3200400"/>
            <a:ext cx="1668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Rec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059600" y="3124080"/>
            <a:ext cx="2846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cent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ot 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daptive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2394000" y="3200400"/>
            <a:ext cx="2009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zz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ngl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rial &amp;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4870440" y="3124080"/>
            <a:ext cx="2125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ot 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blem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8" descr="day2_2"/>
          <p:cNvPicPr/>
          <p:nvPr/>
        </p:nvPicPr>
        <p:blipFill>
          <a:blip r:embed="rId3"/>
          <a:stretch/>
        </p:blipFill>
        <p:spPr>
          <a:xfrm>
            <a:off x="165240" y="1447920"/>
            <a:ext cx="1962000" cy="1447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" descr="Fig-224-Horizontal-Milling-Machine-Column-Type-Courtesy-of"/>
          <p:cNvPicPr/>
          <p:nvPr/>
        </p:nvPicPr>
        <p:blipFill>
          <a:blip r:embed="rId4"/>
          <a:stretch/>
        </p:blipFill>
        <p:spPr>
          <a:xfrm>
            <a:off x="4870440" y="1600200"/>
            <a:ext cx="183996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1" descr="governance-731936"/>
          <p:cNvPicPr/>
          <p:nvPr/>
        </p:nvPicPr>
        <p:blipFill>
          <a:blip r:embed="rId5"/>
          <a:stretch/>
        </p:blipFill>
        <p:spPr>
          <a:xfrm>
            <a:off x="6496200" y="762120"/>
            <a:ext cx="340992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Understanding complex realiti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ooking at reality through different ey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ie 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sc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discip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3" descr="spectacles-008"/>
          <p:cNvPicPr/>
          <p:nvPr/>
        </p:nvPicPr>
        <p:blipFill>
          <a:blip r:embed="rId2"/>
          <a:stretch/>
        </p:blipFill>
        <p:spPr>
          <a:xfrm>
            <a:off x="6202440" y="4005360"/>
            <a:ext cx="3233520" cy="14493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990720" y="1905120"/>
            <a:ext cx="805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0" y="1447920"/>
            <a:ext cx="9906120" cy="48783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57780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centralisation as an ‘open system’ –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GP2</a:t>
            </a: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Session overview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9760" y="1828440"/>
            <a:ext cx="91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 on paradig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nale for and history of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concepts of DL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ntralisation as an ´open system´ of different interacting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prints to decentralisation don't ex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Specific guiding princi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Adopt and ‘open systems’ approach, which enables donor partners to see and act upon the linkages between different parts of a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This will enhance the effectiveness and impact of decentralisation sup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road to nowhere"/>
          <p:cNvPicPr/>
          <p:nvPr/>
        </p:nvPicPr>
        <p:blipFill>
          <a:blip r:embed="rId2"/>
          <a:stretch/>
        </p:blipFill>
        <p:spPr>
          <a:xfrm>
            <a:off x="1073160" y="1295280"/>
            <a:ext cx="7729560" cy="53164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935280" y="685800"/>
            <a:ext cx="68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The danger of imposing blueprint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3219480" y="1981080"/>
            <a:ext cx="3346920" cy="1223640"/>
            <a:chOff x="3219480" y="1981080"/>
            <a:chExt cx="3346920" cy="1223640"/>
          </a:xfrm>
        </p:grpSpPr>
        <p:sp>
          <p:nvSpPr>
            <p:cNvPr id="208" name="Freeform 3"/>
            <p:cNvSpPr/>
            <p:nvPr/>
          </p:nvSpPr>
          <p:spPr>
            <a:xfrm>
              <a:off x="3632760" y="1981080"/>
              <a:ext cx="17830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4"/>
            <p:cNvSpPr/>
            <p:nvPr/>
          </p:nvSpPr>
          <p:spPr>
            <a:xfrm>
              <a:off x="3493800" y="2041200"/>
              <a:ext cx="26186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5"/>
            <p:cNvSpPr/>
            <p:nvPr/>
          </p:nvSpPr>
          <p:spPr>
            <a:xfrm>
              <a:off x="3413520" y="2104920"/>
              <a:ext cx="30783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3413520" y="2164680"/>
              <a:ext cx="315288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"/>
            <p:cNvSpPr/>
            <p:nvPr/>
          </p:nvSpPr>
          <p:spPr>
            <a:xfrm>
              <a:off x="3369600" y="2226600"/>
              <a:ext cx="31968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"/>
            <p:cNvSpPr/>
            <p:nvPr/>
          </p:nvSpPr>
          <p:spPr>
            <a:xfrm>
              <a:off x="3369600" y="2287080"/>
              <a:ext cx="31968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3349080" y="2350440"/>
              <a:ext cx="31323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3224880" y="2410920"/>
              <a:ext cx="31662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3219480" y="2472840"/>
              <a:ext cx="317772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3219480" y="2534760"/>
              <a:ext cx="317772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3259800" y="2596320"/>
              <a:ext cx="31370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3259800" y="2658240"/>
              <a:ext cx="3106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3259800" y="2718720"/>
              <a:ext cx="2947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6"/>
            <p:cNvSpPr/>
            <p:nvPr/>
          </p:nvSpPr>
          <p:spPr>
            <a:xfrm>
              <a:off x="3264480" y="2782440"/>
              <a:ext cx="302760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7"/>
            <p:cNvSpPr/>
            <p:nvPr/>
          </p:nvSpPr>
          <p:spPr>
            <a:xfrm>
              <a:off x="3568320" y="2842560"/>
              <a:ext cx="27291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3568320" y="2904480"/>
              <a:ext cx="28976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3603240" y="2964600"/>
              <a:ext cx="286272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4380120" y="3028320"/>
              <a:ext cx="20109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4415400" y="3090600"/>
              <a:ext cx="158292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4798080" y="3150360"/>
              <a:ext cx="68184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5291640" y="2731320"/>
              <a:ext cx="100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5285880" y="273132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5"/>
            <p:cNvSpPr/>
            <p:nvPr/>
          </p:nvSpPr>
          <p:spPr>
            <a:xfrm>
              <a:off x="5281560" y="273132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6"/>
            <p:cNvSpPr/>
            <p:nvPr/>
          </p:nvSpPr>
          <p:spPr>
            <a:xfrm>
              <a:off x="5281560" y="27331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5276880" y="2733120"/>
              <a:ext cx="90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8"/>
            <p:cNvSpPr/>
            <p:nvPr/>
          </p:nvSpPr>
          <p:spPr>
            <a:xfrm>
              <a:off x="5271120" y="273528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9"/>
            <p:cNvSpPr/>
            <p:nvPr/>
          </p:nvSpPr>
          <p:spPr>
            <a:xfrm>
              <a:off x="5266800" y="273528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0"/>
            <p:cNvSpPr/>
            <p:nvPr/>
          </p:nvSpPr>
          <p:spPr>
            <a:xfrm>
              <a:off x="5266800" y="2736720"/>
              <a:ext cx="4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1"/>
            <p:cNvSpPr/>
            <p:nvPr/>
          </p:nvSpPr>
          <p:spPr>
            <a:xfrm>
              <a:off x="5256720" y="27385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2"/>
            <p:cNvSpPr/>
            <p:nvPr/>
          </p:nvSpPr>
          <p:spPr>
            <a:xfrm>
              <a:off x="5246280" y="2740680"/>
              <a:ext cx="1008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5231880" y="27421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5231880" y="2744280"/>
              <a:ext cx="4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5"/>
          <p:cNvGrpSpPr/>
          <p:nvPr/>
        </p:nvGrpSpPr>
        <p:grpSpPr>
          <a:xfrm>
            <a:off x="3549600" y="3505320"/>
            <a:ext cx="3782160" cy="1368000"/>
            <a:chOff x="3549600" y="3505320"/>
            <a:chExt cx="3782160" cy="1368000"/>
          </a:xfrm>
        </p:grpSpPr>
        <p:sp>
          <p:nvSpPr>
            <p:cNvPr id="241" name="Freeform 36"/>
            <p:cNvSpPr/>
            <p:nvPr/>
          </p:nvSpPr>
          <p:spPr>
            <a:xfrm>
              <a:off x="4016520" y="3505320"/>
              <a:ext cx="201492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3859560" y="3572640"/>
              <a:ext cx="295920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3768840" y="3643560"/>
              <a:ext cx="347832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3768840" y="3710520"/>
              <a:ext cx="356256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3719160" y="3780000"/>
              <a:ext cx="361260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1"/>
            <p:cNvSpPr/>
            <p:nvPr/>
          </p:nvSpPr>
          <p:spPr>
            <a:xfrm>
              <a:off x="3719160" y="3847320"/>
              <a:ext cx="361260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42"/>
            <p:cNvSpPr/>
            <p:nvPr/>
          </p:nvSpPr>
          <p:spPr>
            <a:xfrm>
              <a:off x="3696120" y="3918600"/>
              <a:ext cx="353952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43"/>
            <p:cNvSpPr/>
            <p:nvPr/>
          </p:nvSpPr>
          <p:spPr>
            <a:xfrm>
              <a:off x="3555720" y="3985920"/>
              <a:ext cx="357804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4"/>
            <p:cNvSpPr/>
            <p:nvPr/>
          </p:nvSpPr>
          <p:spPr>
            <a:xfrm>
              <a:off x="3549600" y="4055040"/>
              <a:ext cx="359064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5"/>
            <p:cNvSpPr/>
            <p:nvPr/>
          </p:nvSpPr>
          <p:spPr>
            <a:xfrm>
              <a:off x="3549600" y="4124520"/>
              <a:ext cx="3590640" cy="137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6"/>
            <p:cNvSpPr/>
            <p:nvPr/>
          </p:nvSpPr>
          <p:spPr>
            <a:xfrm>
              <a:off x="3595320" y="4193280"/>
              <a:ext cx="354492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7"/>
            <p:cNvSpPr/>
            <p:nvPr/>
          </p:nvSpPr>
          <p:spPr>
            <a:xfrm>
              <a:off x="3595320" y="4262400"/>
              <a:ext cx="351036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8"/>
            <p:cNvSpPr/>
            <p:nvPr/>
          </p:nvSpPr>
          <p:spPr>
            <a:xfrm>
              <a:off x="3595320" y="4329720"/>
              <a:ext cx="333036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9"/>
            <p:cNvSpPr/>
            <p:nvPr/>
          </p:nvSpPr>
          <p:spPr>
            <a:xfrm>
              <a:off x="3600360" y="4401000"/>
              <a:ext cx="342108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50"/>
            <p:cNvSpPr/>
            <p:nvPr/>
          </p:nvSpPr>
          <p:spPr>
            <a:xfrm>
              <a:off x="3943800" y="4468320"/>
              <a:ext cx="308412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51"/>
            <p:cNvSpPr/>
            <p:nvPr/>
          </p:nvSpPr>
          <p:spPr>
            <a:xfrm>
              <a:off x="3943800" y="4537800"/>
              <a:ext cx="327420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52"/>
            <p:cNvSpPr/>
            <p:nvPr/>
          </p:nvSpPr>
          <p:spPr>
            <a:xfrm>
              <a:off x="3983400" y="4604760"/>
              <a:ext cx="3234600" cy="1407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53"/>
            <p:cNvSpPr/>
            <p:nvPr/>
          </p:nvSpPr>
          <p:spPr>
            <a:xfrm>
              <a:off x="4861080" y="4676040"/>
              <a:ext cx="227268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54"/>
            <p:cNvSpPr/>
            <p:nvPr/>
          </p:nvSpPr>
          <p:spPr>
            <a:xfrm>
              <a:off x="4900680" y="4745520"/>
              <a:ext cx="1788840" cy="127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55"/>
            <p:cNvSpPr/>
            <p:nvPr/>
          </p:nvSpPr>
          <p:spPr>
            <a:xfrm>
              <a:off x="5333400" y="4812480"/>
              <a:ext cx="770400" cy="60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6"/>
            <p:cNvSpPr/>
            <p:nvPr/>
          </p:nvSpPr>
          <p:spPr>
            <a:xfrm>
              <a:off x="5891040" y="4344120"/>
              <a:ext cx="1116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7"/>
            <p:cNvSpPr/>
            <p:nvPr/>
          </p:nvSpPr>
          <p:spPr>
            <a:xfrm>
              <a:off x="5884560" y="4344120"/>
              <a:ext cx="1764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8"/>
            <p:cNvSpPr/>
            <p:nvPr/>
          </p:nvSpPr>
          <p:spPr>
            <a:xfrm>
              <a:off x="5879520" y="4344120"/>
              <a:ext cx="1656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9"/>
            <p:cNvSpPr/>
            <p:nvPr/>
          </p:nvSpPr>
          <p:spPr>
            <a:xfrm>
              <a:off x="5879520" y="434592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0"/>
            <p:cNvSpPr/>
            <p:nvPr/>
          </p:nvSpPr>
          <p:spPr>
            <a:xfrm>
              <a:off x="5874480" y="4345920"/>
              <a:ext cx="1008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1"/>
            <p:cNvSpPr/>
            <p:nvPr/>
          </p:nvSpPr>
          <p:spPr>
            <a:xfrm>
              <a:off x="5868000" y="4348440"/>
              <a:ext cx="16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62"/>
            <p:cNvSpPr/>
            <p:nvPr/>
          </p:nvSpPr>
          <p:spPr>
            <a:xfrm>
              <a:off x="5862960" y="4348440"/>
              <a:ext cx="16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63"/>
            <p:cNvSpPr/>
            <p:nvPr/>
          </p:nvSpPr>
          <p:spPr>
            <a:xfrm>
              <a:off x="5862960" y="4350240"/>
              <a:ext cx="504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4"/>
            <p:cNvSpPr/>
            <p:nvPr/>
          </p:nvSpPr>
          <p:spPr>
            <a:xfrm>
              <a:off x="5851440" y="435204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5"/>
            <p:cNvSpPr/>
            <p:nvPr/>
          </p:nvSpPr>
          <p:spPr>
            <a:xfrm>
              <a:off x="5839920" y="4354200"/>
              <a:ext cx="111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5823360" y="435636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5823360" y="4358520"/>
              <a:ext cx="5040" cy="36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68"/>
          <p:cNvGrpSpPr/>
          <p:nvPr/>
        </p:nvGrpSpPr>
        <p:grpSpPr>
          <a:xfrm>
            <a:off x="330120" y="3352680"/>
            <a:ext cx="2846880" cy="1223640"/>
            <a:chOff x="330120" y="3352680"/>
            <a:chExt cx="2846880" cy="1223640"/>
          </a:xfrm>
        </p:grpSpPr>
        <p:sp>
          <p:nvSpPr>
            <p:cNvPr id="274" name="Freeform 69"/>
            <p:cNvSpPr/>
            <p:nvPr/>
          </p:nvSpPr>
          <p:spPr>
            <a:xfrm>
              <a:off x="681480" y="3352680"/>
              <a:ext cx="15166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0"/>
            <p:cNvSpPr/>
            <p:nvPr/>
          </p:nvSpPr>
          <p:spPr>
            <a:xfrm>
              <a:off x="563400" y="3412800"/>
              <a:ext cx="222768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95000" y="3476520"/>
              <a:ext cx="26186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72"/>
            <p:cNvSpPr/>
            <p:nvPr/>
          </p:nvSpPr>
          <p:spPr>
            <a:xfrm>
              <a:off x="495000" y="3536280"/>
              <a:ext cx="268200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3"/>
            <p:cNvSpPr/>
            <p:nvPr/>
          </p:nvSpPr>
          <p:spPr>
            <a:xfrm>
              <a:off x="457560" y="3598200"/>
              <a:ext cx="2719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74"/>
            <p:cNvSpPr/>
            <p:nvPr/>
          </p:nvSpPr>
          <p:spPr>
            <a:xfrm>
              <a:off x="457560" y="3658680"/>
              <a:ext cx="2719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75"/>
            <p:cNvSpPr/>
            <p:nvPr/>
          </p:nvSpPr>
          <p:spPr>
            <a:xfrm>
              <a:off x="440280" y="3722040"/>
              <a:ext cx="266472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76"/>
            <p:cNvSpPr/>
            <p:nvPr/>
          </p:nvSpPr>
          <p:spPr>
            <a:xfrm>
              <a:off x="334800" y="3782520"/>
              <a:ext cx="26935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77"/>
            <p:cNvSpPr/>
            <p:nvPr/>
          </p:nvSpPr>
          <p:spPr>
            <a:xfrm>
              <a:off x="330120" y="3844440"/>
              <a:ext cx="27032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78"/>
            <p:cNvSpPr/>
            <p:nvPr/>
          </p:nvSpPr>
          <p:spPr>
            <a:xfrm>
              <a:off x="330120" y="3906360"/>
              <a:ext cx="27032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79"/>
            <p:cNvSpPr/>
            <p:nvPr/>
          </p:nvSpPr>
          <p:spPr>
            <a:xfrm>
              <a:off x="364680" y="3967920"/>
              <a:ext cx="266832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80"/>
            <p:cNvSpPr/>
            <p:nvPr/>
          </p:nvSpPr>
          <p:spPr>
            <a:xfrm>
              <a:off x="364680" y="4029840"/>
              <a:ext cx="26424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81"/>
            <p:cNvSpPr/>
            <p:nvPr/>
          </p:nvSpPr>
          <p:spPr>
            <a:xfrm>
              <a:off x="364680" y="4090320"/>
              <a:ext cx="25070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82"/>
            <p:cNvSpPr/>
            <p:nvPr/>
          </p:nvSpPr>
          <p:spPr>
            <a:xfrm>
              <a:off x="368280" y="4154040"/>
              <a:ext cx="2575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3"/>
            <p:cNvSpPr/>
            <p:nvPr/>
          </p:nvSpPr>
          <p:spPr>
            <a:xfrm>
              <a:off x="626760" y="4214160"/>
              <a:ext cx="23216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4"/>
            <p:cNvSpPr/>
            <p:nvPr/>
          </p:nvSpPr>
          <p:spPr>
            <a:xfrm>
              <a:off x="626760" y="4276080"/>
              <a:ext cx="24649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85"/>
            <p:cNvSpPr/>
            <p:nvPr/>
          </p:nvSpPr>
          <p:spPr>
            <a:xfrm>
              <a:off x="656640" y="4336200"/>
              <a:ext cx="243504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86"/>
            <p:cNvSpPr/>
            <p:nvPr/>
          </p:nvSpPr>
          <p:spPr>
            <a:xfrm>
              <a:off x="1317600" y="4399920"/>
              <a:ext cx="171072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87"/>
            <p:cNvSpPr/>
            <p:nvPr/>
          </p:nvSpPr>
          <p:spPr>
            <a:xfrm>
              <a:off x="1347120" y="4462200"/>
              <a:ext cx="134676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8"/>
            <p:cNvSpPr/>
            <p:nvPr/>
          </p:nvSpPr>
          <p:spPr>
            <a:xfrm>
              <a:off x="1672920" y="4521960"/>
              <a:ext cx="57996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9"/>
            <p:cNvSpPr/>
            <p:nvPr/>
          </p:nvSpPr>
          <p:spPr>
            <a:xfrm>
              <a:off x="2092680" y="4102920"/>
              <a:ext cx="86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90"/>
            <p:cNvSpPr/>
            <p:nvPr/>
          </p:nvSpPr>
          <p:spPr>
            <a:xfrm>
              <a:off x="2088000" y="410292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91"/>
            <p:cNvSpPr/>
            <p:nvPr/>
          </p:nvSpPr>
          <p:spPr>
            <a:xfrm>
              <a:off x="2084040" y="410292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92"/>
            <p:cNvSpPr/>
            <p:nvPr/>
          </p:nvSpPr>
          <p:spPr>
            <a:xfrm>
              <a:off x="2084040" y="41047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93"/>
            <p:cNvSpPr/>
            <p:nvPr/>
          </p:nvSpPr>
          <p:spPr>
            <a:xfrm>
              <a:off x="2080080" y="4104720"/>
              <a:ext cx="7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94"/>
            <p:cNvSpPr/>
            <p:nvPr/>
          </p:nvSpPr>
          <p:spPr>
            <a:xfrm>
              <a:off x="2075400" y="410688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95"/>
            <p:cNvSpPr/>
            <p:nvPr/>
          </p:nvSpPr>
          <p:spPr>
            <a:xfrm>
              <a:off x="2071440" y="410688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96"/>
            <p:cNvSpPr/>
            <p:nvPr/>
          </p:nvSpPr>
          <p:spPr>
            <a:xfrm>
              <a:off x="2071440" y="410832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97"/>
            <p:cNvSpPr/>
            <p:nvPr/>
          </p:nvSpPr>
          <p:spPr>
            <a:xfrm>
              <a:off x="2062800" y="41101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2054160" y="4112280"/>
              <a:ext cx="864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2041920" y="41137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2041920" y="411588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01"/>
          <p:cNvGrpSpPr/>
          <p:nvPr/>
        </p:nvGrpSpPr>
        <p:grpSpPr>
          <a:xfrm>
            <a:off x="38160" y="1557360"/>
            <a:ext cx="3092760" cy="1201320"/>
            <a:chOff x="38160" y="1557360"/>
            <a:chExt cx="3092760" cy="1201320"/>
          </a:xfrm>
        </p:grpSpPr>
        <p:sp>
          <p:nvSpPr>
            <p:cNvPr id="307" name="Freeform 102"/>
            <p:cNvSpPr/>
            <p:nvPr/>
          </p:nvSpPr>
          <p:spPr>
            <a:xfrm>
              <a:off x="419760" y="1557360"/>
              <a:ext cx="164772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03"/>
            <p:cNvSpPr/>
            <p:nvPr/>
          </p:nvSpPr>
          <p:spPr>
            <a:xfrm>
              <a:off x="291600" y="1616400"/>
              <a:ext cx="24199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04"/>
            <p:cNvSpPr/>
            <p:nvPr/>
          </p:nvSpPr>
          <p:spPr>
            <a:xfrm>
              <a:off x="217440" y="1678680"/>
              <a:ext cx="284472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05"/>
            <p:cNvSpPr/>
            <p:nvPr/>
          </p:nvSpPr>
          <p:spPr>
            <a:xfrm>
              <a:off x="217440" y="1737720"/>
              <a:ext cx="291348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06"/>
            <p:cNvSpPr/>
            <p:nvPr/>
          </p:nvSpPr>
          <p:spPr>
            <a:xfrm>
              <a:off x="176760" y="1798560"/>
              <a:ext cx="295416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07"/>
            <p:cNvSpPr/>
            <p:nvPr/>
          </p:nvSpPr>
          <p:spPr>
            <a:xfrm>
              <a:off x="176760" y="1857600"/>
              <a:ext cx="295416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8"/>
            <p:cNvSpPr/>
            <p:nvPr/>
          </p:nvSpPr>
          <p:spPr>
            <a:xfrm>
              <a:off x="158040" y="1920240"/>
              <a:ext cx="289476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9"/>
            <p:cNvSpPr/>
            <p:nvPr/>
          </p:nvSpPr>
          <p:spPr>
            <a:xfrm>
              <a:off x="43200" y="1979280"/>
              <a:ext cx="292608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10"/>
            <p:cNvSpPr/>
            <p:nvPr/>
          </p:nvSpPr>
          <p:spPr>
            <a:xfrm>
              <a:off x="38160" y="2040120"/>
              <a:ext cx="29365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11"/>
            <p:cNvSpPr/>
            <p:nvPr/>
          </p:nvSpPr>
          <p:spPr>
            <a:xfrm>
              <a:off x="38160" y="2100960"/>
              <a:ext cx="29365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12"/>
            <p:cNvSpPr/>
            <p:nvPr/>
          </p:nvSpPr>
          <p:spPr>
            <a:xfrm>
              <a:off x="75600" y="2161440"/>
              <a:ext cx="289872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13"/>
            <p:cNvSpPr/>
            <p:nvPr/>
          </p:nvSpPr>
          <p:spPr>
            <a:xfrm>
              <a:off x="75600" y="2222280"/>
              <a:ext cx="287064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14"/>
            <p:cNvSpPr/>
            <p:nvPr/>
          </p:nvSpPr>
          <p:spPr>
            <a:xfrm>
              <a:off x="75600" y="2281320"/>
              <a:ext cx="272340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15"/>
            <p:cNvSpPr/>
            <p:nvPr/>
          </p:nvSpPr>
          <p:spPr>
            <a:xfrm>
              <a:off x="79560" y="2343960"/>
              <a:ext cx="279756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6"/>
            <p:cNvSpPr/>
            <p:nvPr/>
          </p:nvSpPr>
          <p:spPr>
            <a:xfrm>
              <a:off x="360360" y="2403000"/>
              <a:ext cx="252216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7"/>
            <p:cNvSpPr/>
            <p:nvPr/>
          </p:nvSpPr>
          <p:spPr>
            <a:xfrm>
              <a:off x="360360" y="2463840"/>
              <a:ext cx="267768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8"/>
            <p:cNvSpPr/>
            <p:nvPr/>
          </p:nvSpPr>
          <p:spPr>
            <a:xfrm>
              <a:off x="392760" y="2522880"/>
              <a:ext cx="264528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9"/>
            <p:cNvSpPr/>
            <p:nvPr/>
          </p:nvSpPr>
          <p:spPr>
            <a:xfrm>
              <a:off x="1110600" y="2585520"/>
              <a:ext cx="185832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20"/>
            <p:cNvSpPr/>
            <p:nvPr/>
          </p:nvSpPr>
          <p:spPr>
            <a:xfrm>
              <a:off x="1143000" y="2646360"/>
              <a:ext cx="1463040" cy="112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21"/>
            <p:cNvSpPr/>
            <p:nvPr/>
          </p:nvSpPr>
          <p:spPr>
            <a:xfrm>
              <a:off x="1496880" y="2705400"/>
              <a:ext cx="630000" cy="532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22"/>
            <p:cNvSpPr/>
            <p:nvPr/>
          </p:nvSpPr>
          <p:spPr>
            <a:xfrm>
              <a:off x="1953000" y="229392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23"/>
            <p:cNvSpPr/>
            <p:nvPr/>
          </p:nvSpPr>
          <p:spPr>
            <a:xfrm>
              <a:off x="1947600" y="229392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24"/>
            <p:cNvSpPr/>
            <p:nvPr/>
          </p:nvSpPr>
          <p:spPr>
            <a:xfrm>
              <a:off x="1943640" y="229392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25"/>
            <p:cNvSpPr/>
            <p:nvPr/>
          </p:nvSpPr>
          <p:spPr>
            <a:xfrm>
              <a:off x="1943640" y="22957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6"/>
            <p:cNvSpPr/>
            <p:nvPr/>
          </p:nvSpPr>
          <p:spPr>
            <a:xfrm>
              <a:off x="1939320" y="2295720"/>
              <a:ext cx="82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7"/>
            <p:cNvSpPr/>
            <p:nvPr/>
          </p:nvSpPr>
          <p:spPr>
            <a:xfrm>
              <a:off x="1934280" y="229788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8"/>
            <p:cNvSpPr/>
            <p:nvPr/>
          </p:nvSpPr>
          <p:spPr>
            <a:xfrm>
              <a:off x="1929960" y="229788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9"/>
            <p:cNvSpPr/>
            <p:nvPr/>
          </p:nvSpPr>
          <p:spPr>
            <a:xfrm>
              <a:off x="1929960" y="2299320"/>
              <a:ext cx="3960" cy="72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1920600" y="23011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1911240" y="230292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2"/>
            <p:cNvSpPr/>
            <p:nvPr/>
          </p:nvSpPr>
          <p:spPr>
            <a:xfrm>
              <a:off x="1897560" y="23047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33"/>
            <p:cNvSpPr/>
            <p:nvPr/>
          </p:nvSpPr>
          <p:spPr>
            <a:xfrm>
              <a:off x="1897560" y="2306520"/>
              <a:ext cx="39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AutoShape 134"/>
          <p:cNvSpPr/>
          <p:nvPr/>
        </p:nvSpPr>
        <p:spPr>
          <a:xfrm rot="20091000">
            <a:off x="743040" y="3733920"/>
            <a:ext cx="9764640" cy="1436400"/>
          </a:xfrm>
          <a:custGeom>
            <a:avLst/>
            <a:gdLst>
              <a:gd name="textAreaLeft" fmla="*/ 1954800 w 9764640"/>
              <a:gd name="textAreaRight" fmla="*/ 6908040 w 9764640"/>
              <a:gd name="textAreaTop" fmla="*/ 192240 h 1436400"/>
              <a:gd name="textAreaBottom" fmla="*/ 1244160 h 14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50" hR="21600" stAng="10800000" swAng="-5400000"/>
                <a:lnTo>
                  <a:pt x="10957" y="21600"/>
                </a:lnTo>
                <a:arcTo wR="8650" hR="21600" stAng="5400000" swAng="-2913498"/>
                <a:lnTo>
                  <a:pt x="21105" y="7200"/>
                </a:lnTo>
                <a:lnTo>
                  <a:pt x="18453" y="0"/>
                </a:lnTo>
                <a:lnTo>
                  <a:pt x="14810" y="7200"/>
                </a:lnTo>
                <a:lnTo>
                  <a:pt x="16804" y="7200"/>
                </a:lnTo>
                <a:arcTo wR="8650" hR="21600" stAng="2486502" swAng="2728438"/>
                <a:lnTo>
                  <a:pt x="9803" y="21407"/>
                </a:lnTo>
                <a:arcTo wR="8650" hR="21600" stAng="5585061" swAng="5214939"/>
                <a:close/>
              </a:path>
              <a:path fill="darkenLess" w="21600" h="21600">
                <a:moveTo>
                  <a:pt x="0" y="0"/>
                </a:moveTo>
                <a:arcTo wR="8650" hR="21600" stAng="10800000" swAng="-5400000"/>
                <a:lnTo>
                  <a:pt x="10957" y="21600"/>
                </a:lnTo>
                <a:arcTo wR="8650" hR="21600" stAng="5400000" swAng="185061"/>
                <a:lnTo>
                  <a:pt x="9803" y="21407"/>
                </a:lnTo>
                <a:arcTo wR="8650" hR="21600" stAng="5585061" swAng="5214939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Rectangle 135" descr=""/>
          <p:cNvPicPr/>
          <p:nvPr/>
        </p:nvPicPr>
        <p:blipFill>
          <a:blip r:embed="rId2"/>
          <a:stretch/>
        </p:blipFill>
        <p:spPr>
          <a:xfrm>
            <a:off x="590400" y="530280"/>
            <a:ext cx="8931600" cy="785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36"/>
          <p:cNvSpPr/>
          <p:nvPr/>
        </p:nvSpPr>
        <p:spPr>
          <a:xfrm>
            <a:off x="349200" y="1753560"/>
            <a:ext cx="24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im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37"/>
          <p:cNvSpPr/>
          <p:nvPr/>
        </p:nvSpPr>
        <p:spPr>
          <a:xfrm>
            <a:off x="6603840" y="1295280"/>
            <a:ext cx="3079800" cy="95904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8"/>
          <p:cNvSpPr/>
          <p:nvPr/>
        </p:nvSpPr>
        <p:spPr>
          <a:xfrm>
            <a:off x="3714840" y="243756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hieving MD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9"/>
          <p:cNvSpPr/>
          <p:nvPr/>
        </p:nvSpPr>
        <p:spPr>
          <a:xfrm>
            <a:off x="4044960" y="3718080"/>
            <a:ext cx="28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sures from below (local governments and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0"/>
          <p:cNvSpPr/>
          <p:nvPr/>
        </p:nvSpPr>
        <p:spPr>
          <a:xfrm>
            <a:off x="495360" y="350460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  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141"/>
          <p:cNvGrpSpPr/>
          <p:nvPr/>
        </p:nvGrpSpPr>
        <p:grpSpPr>
          <a:xfrm>
            <a:off x="5695920" y="5181480"/>
            <a:ext cx="3572280" cy="1099800"/>
            <a:chOff x="5695920" y="5181480"/>
            <a:chExt cx="3572280" cy="1099800"/>
          </a:xfrm>
        </p:grpSpPr>
        <p:sp>
          <p:nvSpPr>
            <p:cNvPr id="347" name="Freeform 142"/>
            <p:cNvSpPr/>
            <p:nvPr/>
          </p:nvSpPr>
          <p:spPr>
            <a:xfrm>
              <a:off x="6136920" y="5181480"/>
              <a:ext cx="190296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3"/>
            <p:cNvSpPr/>
            <p:nvPr/>
          </p:nvSpPr>
          <p:spPr>
            <a:xfrm>
              <a:off x="5988600" y="5235480"/>
              <a:ext cx="2795040" cy="110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44"/>
            <p:cNvSpPr/>
            <p:nvPr/>
          </p:nvSpPr>
          <p:spPr>
            <a:xfrm>
              <a:off x="5902920" y="5292720"/>
              <a:ext cx="328536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5"/>
            <p:cNvSpPr/>
            <p:nvPr/>
          </p:nvSpPr>
          <p:spPr>
            <a:xfrm>
              <a:off x="5902920" y="5346360"/>
              <a:ext cx="336492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6"/>
            <p:cNvSpPr/>
            <p:nvPr/>
          </p:nvSpPr>
          <p:spPr>
            <a:xfrm>
              <a:off x="5856120" y="5402160"/>
              <a:ext cx="34120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7"/>
            <p:cNvSpPr/>
            <p:nvPr/>
          </p:nvSpPr>
          <p:spPr>
            <a:xfrm>
              <a:off x="5856120" y="5456520"/>
              <a:ext cx="34120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48"/>
            <p:cNvSpPr/>
            <p:nvPr/>
          </p:nvSpPr>
          <p:spPr>
            <a:xfrm>
              <a:off x="5834520" y="5513760"/>
              <a:ext cx="334332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49"/>
            <p:cNvSpPr/>
            <p:nvPr/>
          </p:nvSpPr>
          <p:spPr>
            <a:xfrm>
              <a:off x="5701680" y="5567760"/>
              <a:ext cx="3379320" cy="128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50"/>
            <p:cNvSpPr/>
            <p:nvPr/>
          </p:nvSpPr>
          <p:spPr>
            <a:xfrm>
              <a:off x="5695920" y="5623560"/>
              <a:ext cx="3391560" cy="128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51"/>
            <p:cNvSpPr/>
            <p:nvPr/>
          </p:nvSpPr>
          <p:spPr>
            <a:xfrm>
              <a:off x="5695920" y="5679360"/>
              <a:ext cx="3391560" cy="110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52"/>
            <p:cNvSpPr/>
            <p:nvPr/>
          </p:nvSpPr>
          <p:spPr>
            <a:xfrm>
              <a:off x="5739120" y="5734440"/>
              <a:ext cx="334800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53"/>
            <p:cNvSpPr/>
            <p:nvPr/>
          </p:nvSpPr>
          <p:spPr>
            <a:xfrm>
              <a:off x="5739120" y="5790240"/>
              <a:ext cx="331560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54"/>
            <p:cNvSpPr/>
            <p:nvPr/>
          </p:nvSpPr>
          <p:spPr>
            <a:xfrm>
              <a:off x="5739120" y="5844600"/>
              <a:ext cx="31456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55"/>
            <p:cNvSpPr/>
            <p:nvPr/>
          </p:nvSpPr>
          <p:spPr>
            <a:xfrm>
              <a:off x="5743800" y="5901480"/>
              <a:ext cx="323136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56"/>
            <p:cNvSpPr/>
            <p:nvPr/>
          </p:nvSpPr>
          <p:spPr>
            <a:xfrm>
              <a:off x="6068160" y="5955840"/>
              <a:ext cx="291312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57"/>
            <p:cNvSpPr/>
            <p:nvPr/>
          </p:nvSpPr>
          <p:spPr>
            <a:xfrm>
              <a:off x="6068160" y="6011640"/>
              <a:ext cx="309276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58"/>
            <p:cNvSpPr/>
            <p:nvPr/>
          </p:nvSpPr>
          <p:spPr>
            <a:xfrm>
              <a:off x="6105600" y="6065280"/>
              <a:ext cx="3055320" cy="113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59"/>
            <p:cNvSpPr/>
            <p:nvPr/>
          </p:nvSpPr>
          <p:spPr>
            <a:xfrm>
              <a:off x="6934680" y="6122880"/>
              <a:ext cx="214632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60"/>
            <p:cNvSpPr/>
            <p:nvPr/>
          </p:nvSpPr>
          <p:spPr>
            <a:xfrm>
              <a:off x="6972120" y="6178680"/>
              <a:ext cx="1689480" cy="1026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61"/>
            <p:cNvSpPr/>
            <p:nvPr/>
          </p:nvSpPr>
          <p:spPr>
            <a:xfrm>
              <a:off x="7380720" y="6232320"/>
              <a:ext cx="727920" cy="4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62"/>
            <p:cNvSpPr/>
            <p:nvPr/>
          </p:nvSpPr>
          <p:spPr>
            <a:xfrm>
              <a:off x="7907400" y="5856120"/>
              <a:ext cx="108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63"/>
            <p:cNvSpPr/>
            <p:nvPr/>
          </p:nvSpPr>
          <p:spPr>
            <a:xfrm>
              <a:off x="7901280" y="5856120"/>
              <a:ext cx="165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164"/>
            <p:cNvSpPr/>
            <p:nvPr/>
          </p:nvSpPr>
          <p:spPr>
            <a:xfrm>
              <a:off x="7896600" y="585612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165"/>
            <p:cNvSpPr/>
            <p:nvPr/>
          </p:nvSpPr>
          <p:spPr>
            <a:xfrm>
              <a:off x="7896600" y="585756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166"/>
            <p:cNvSpPr/>
            <p:nvPr/>
          </p:nvSpPr>
          <p:spPr>
            <a:xfrm>
              <a:off x="7891920" y="585756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67"/>
            <p:cNvSpPr/>
            <p:nvPr/>
          </p:nvSpPr>
          <p:spPr>
            <a:xfrm>
              <a:off x="7885800" y="585936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68"/>
            <p:cNvSpPr/>
            <p:nvPr/>
          </p:nvSpPr>
          <p:spPr>
            <a:xfrm>
              <a:off x="7881120" y="585936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69"/>
            <p:cNvSpPr/>
            <p:nvPr/>
          </p:nvSpPr>
          <p:spPr>
            <a:xfrm>
              <a:off x="7881120" y="5860800"/>
              <a:ext cx="46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70"/>
            <p:cNvSpPr/>
            <p:nvPr/>
          </p:nvSpPr>
          <p:spPr>
            <a:xfrm>
              <a:off x="7869960" y="586224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71"/>
            <p:cNvSpPr/>
            <p:nvPr/>
          </p:nvSpPr>
          <p:spPr>
            <a:xfrm>
              <a:off x="7859160" y="5864040"/>
              <a:ext cx="108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72"/>
            <p:cNvSpPr/>
            <p:nvPr/>
          </p:nvSpPr>
          <p:spPr>
            <a:xfrm>
              <a:off x="7843680" y="586548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73"/>
            <p:cNvSpPr/>
            <p:nvPr/>
          </p:nvSpPr>
          <p:spPr>
            <a:xfrm>
              <a:off x="7843680" y="5867280"/>
              <a:ext cx="46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Rectangle 174"/>
          <p:cNvSpPr/>
          <p:nvPr/>
        </p:nvSpPr>
        <p:spPr>
          <a:xfrm>
            <a:off x="6521400" y="54856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economic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75"/>
          <p:cNvGrpSpPr/>
          <p:nvPr/>
        </p:nvGrpSpPr>
        <p:grpSpPr>
          <a:xfrm>
            <a:off x="1981080" y="4648320"/>
            <a:ext cx="2886840" cy="1223640"/>
            <a:chOff x="1981080" y="4648320"/>
            <a:chExt cx="2886840" cy="1223640"/>
          </a:xfrm>
        </p:grpSpPr>
        <p:sp>
          <p:nvSpPr>
            <p:cNvPr id="381" name="Freeform 176"/>
            <p:cNvSpPr/>
            <p:nvPr/>
          </p:nvSpPr>
          <p:spPr>
            <a:xfrm>
              <a:off x="2337480" y="4648320"/>
              <a:ext cx="15379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77"/>
            <p:cNvSpPr/>
            <p:nvPr/>
          </p:nvSpPr>
          <p:spPr>
            <a:xfrm>
              <a:off x="2217600" y="4708440"/>
              <a:ext cx="22586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78"/>
            <p:cNvSpPr/>
            <p:nvPr/>
          </p:nvSpPr>
          <p:spPr>
            <a:xfrm>
              <a:off x="2148480" y="4772160"/>
              <a:ext cx="26553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79"/>
            <p:cNvSpPr/>
            <p:nvPr/>
          </p:nvSpPr>
          <p:spPr>
            <a:xfrm>
              <a:off x="2148480" y="4831920"/>
              <a:ext cx="2719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80"/>
            <p:cNvSpPr/>
            <p:nvPr/>
          </p:nvSpPr>
          <p:spPr>
            <a:xfrm>
              <a:off x="2110320" y="4893840"/>
              <a:ext cx="27576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1"/>
            <p:cNvSpPr/>
            <p:nvPr/>
          </p:nvSpPr>
          <p:spPr>
            <a:xfrm>
              <a:off x="2110320" y="4954320"/>
              <a:ext cx="27576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82"/>
            <p:cNvSpPr/>
            <p:nvPr/>
          </p:nvSpPr>
          <p:spPr>
            <a:xfrm>
              <a:off x="2093040" y="5017680"/>
              <a:ext cx="27021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83"/>
            <p:cNvSpPr/>
            <p:nvPr/>
          </p:nvSpPr>
          <p:spPr>
            <a:xfrm>
              <a:off x="1985760" y="5078160"/>
              <a:ext cx="2731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84"/>
            <p:cNvSpPr/>
            <p:nvPr/>
          </p:nvSpPr>
          <p:spPr>
            <a:xfrm>
              <a:off x="1981080" y="5140080"/>
              <a:ext cx="27410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85"/>
            <p:cNvSpPr/>
            <p:nvPr/>
          </p:nvSpPr>
          <p:spPr>
            <a:xfrm>
              <a:off x="1981080" y="5202000"/>
              <a:ext cx="27410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86"/>
            <p:cNvSpPr/>
            <p:nvPr/>
          </p:nvSpPr>
          <p:spPr>
            <a:xfrm>
              <a:off x="2016000" y="5263560"/>
              <a:ext cx="27057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87"/>
            <p:cNvSpPr/>
            <p:nvPr/>
          </p:nvSpPr>
          <p:spPr>
            <a:xfrm>
              <a:off x="2016000" y="5325480"/>
              <a:ext cx="26794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88"/>
            <p:cNvSpPr/>
            <p:nvPr/>
          </p:nvSpPr>
          <p:spPr>
            <a:xfrm>
              <a:off x="2016000" y="5385960"/>
              <a:ext cx="2542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89"/>
            <p:cNvSpPr/>
            <p:nvPr/>
          </p:nvSpPr>
          <p:spPr>
            <a:xfrm>
              <a:off x="2019960" y="5449680"/>
              <a:ext cx="2611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90"/>
            <p:cNvSpPr/>
            <p:nvPr/>
          </p:nvSpPr>
          <p:spPr>
            <a:xfrm>
              <a:off x="2282040" y="5509800"/>
              <a:ext cx="235440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91"/>
            <p:cNvSpPr/>
            <p:nvPr/>
          </p:nvSpPr>
          <p:spPr>
            <a:xfrm>
              <a:off x="2282040" y="5571720"/>
              <a:ext cx="24994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92"/>
            <p:cNvSpPr/>
            <p:nvPr/>
          </p:nvSpPr>
          <p:spPr>
            <a:xfrm>
              <a:off x="2312280" y="5631840"/>
              <a:ext cx="246924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93"/>
            <p:cNvSpPr/>
            <p:nvPr/>
          </p:nvSpPr>
          <p:spPr>
            <a:xfrm>
              <a:off x="2982240" y="5695560"/>
              <a:ext cx="17348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94"/>
            <p:cNvSpPr/>
            <p:nvPr/>
          </p:nvSpPr>
          <p:spPr>
            <a:xfrm>
              <a:off x="3012480" y="5757840"/>
              <a:ext cx="136548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95"/>
            <p:cNvSpPr/>
            <p:nvPr/>
          </p:nvSpPr>
          <p:spPr>
            <a:xfrm>
              <a:off x="3342600" y="5817600"/>
              <a:ext cx="58824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96"/>
            <p:cNvSpPr/>
            <p:nvPr/>
          </p:nvSpPr>
          <p:spPr>
            <a:xfrm>
              <a:off x="3768480" y="5398560"/>
              <a:ext cx="86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97"/>
            <p:cNvSpPr/>
            <p:nvPr/>
          </p:nvSpPr>
          <p:spPr>
            <a:xfrm>
              <a:off x="3763440" y="539856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98"/>
            <p:cNvSpPr/>
            <p:nvPr/>
          </p:nvSpPr>
          <p:spPr>
            <a:xfrm>
              <a:off x="3759480" y="539856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99"/>
            <p:cNvSpPr/>
            <p:nvPr/>
          </p:nvSpPr>
          <p:spPr>
            <a:xfrm>
              <a:off x="3759480" y="54003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00"/>
            <p:cNvSpPr/>
            <p:nvPr/>
          </p:nvSpPr>
          <p:spPr>
            <a:xfrm>
              <a:off x="3755880" y="5400360"/>
              <a:ext cx="7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01"/>
            <p:cNvSpPr/>
            <p:nvPr/>
          </p:nvSpPr>
          <p:spPr>
            <a:xfrm>
              <a:off x="3750840" y="540252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02"/>
            <p:cNvSpPr/>
            <p:nvPr/>
          </p:nvSpPr>
          <p:spPr>
            <a:xfrm>
              <a:off x="3746880" y="540252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03"/>
            <p:cNvSpPr/>
            <p:nvPr/>
          </p:nvSpPr>
          <p:spPr>
            <a:xfrm>
              <a:off x="3746880" y="540396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04"/>
            <p:cNvSpPr/>
            <p:nvPr/>
          </p:nvSpPr>
          <p:spPr>
            <a:xfrm>
              <a:off x="3738240" y="54057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05"/>
            <p:cNvSpPr/>
            <p:nvPr/>
          </p:nvSpPr>
          <p:spPr>
            <a:xfrm>
              <a:off x="3729600" y="5407920"/>
              <a:ext cx="864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06"/>
            <p:cNvSpPr/>
            <p:nvPr/>
          </p:nvSpPr>
          <p:spPr>
            <a:xfrm>
              <a:off x="3716640" y="54093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07"/>
            <p:cNvSpPr/>
            <p:nvPr/>
          </p:nvSpPr>
          <p:spPr>
            <a:xfrm>
              <a:off x="3716640" y="541152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208"/>
          <p:cNvSpPr/>
          <p:nvPr/>
        </p:nvSpPr>
        <p:spPr>
          <a:xfrm>
            <a:off x="2146320" y="48762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rban growth and spati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Potential advantages and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ro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efficiency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etter service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ocal democratisation and local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equ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developement and poverty re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ismatch mandates and delivery capacit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Elite capturing and bad local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nterjuridisctional dispar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ocal development not supported by central poli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2"/>
          <a:stretch/>
        </p:blipFill>
        <p:spPr>
          <a:xfrm>
            <a:off x="5283360" y="2209680"/>
            <a:ext cx="1339560" cy="104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 rot="10860000">
            <a:off x="7354800" y="4733280"/>
            <a:ext cx="12067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7"/>
          <p:cNvSpPr/>
          <p:nvPr/>
        </p:nvSpPr>
        <p:spPr>
          <a:xfrm>
            <a:off x="577800" y="914400"/>
            <a:ext cx="86598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1"/>
          <p:cNvGrpSpPr/>
          <p:nvPr/>
        </p:nvGrpSpPr>
        <p:grpSpPr>
          <a:xfrm>
            <a:off x="2641680" y="1295280"/>
            <a:ext cx="5695560" cy="914400"/>
            <a:chOff x="2641680" y="1295280"/>
            <a:chExt cx="5695560" cy="914400"/>
          </a:xfrm>
        </p:grpSpPr>
        <p:sp>
          <p:nvSpPr>
            <p:cNvPr id="420" name="Rectangle 9"/>
            <p:cNvSpPr/>
            <p:nvPr/>
          </p:nvSpPr>
          <p:spPr>
            <a:xfrm>
              <a:off x="2641680" y="1295280"/>
              <a:ext cx="5695560" cy="91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2806920" y="1295280"/>
              <a:ext cx="5530320" cy="91440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Rectangle 12"/>
          <p:cNvSpPr/>
          <p:nvPr/>
        </p:nvSpPr>
        <p:spPr>
          <a:xfrm>
            <a:off x="2734920" y="1371600"/>
            <a:ext cx="148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arlier wav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4395960" y="1371600"/>
            <a:ext cx="164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6163560" y="1371600"/>
            <a:ext cx="132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cused on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7612200" y="13716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806560" y="1619280"/>
            <a:ext cx="315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rganization public sector (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5991480" y="1619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073200" y="161928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cen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21"/>
          <p:cNvGrpSpPr/>
          <p:nvPr/>
        </p:nvGrpSpPr>
        <p:grpSpPr>
          <a:xfrm>
            <a:off x="2390760" y="2583000"/>
            <a:ext cx="5651280" cy="1068120"/>
            <a:chOff x="2390760" y="2583000"/>
            <a:chExt cx="5651280" cy="1068120"/>
          </a:xfrm>
        </p:grpSpPr>
        <p:sp>
          <p:nvSpPr>
            <p:cNvPr id="430" name="Rectangle 19"/>
            <p:cNvSpPr/>
            <p:nvPr/>
          </p:nvSpPr>
          <p:spPr>
            <a:xfrm>
              <a:off x="2390760" y="2583000"/>
              <a:ext cx="5651280" cy="10681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2390760" y="2583000"/>
              <a:ext cx="5651280" cy="1068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Rectangle 22"/>
          <p:cNvSpPr/>
          <p:nvPr/>
        </p:nvSpPr>
        <p:spPr>
          <a:xfrm>
            <a:off x="3143520" y="2649600"/>
            <a:ext cx="22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990s:  recent wav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5585040" y="2649600"/>
            <a:ext cx="155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004560" y="3143160"/>
            <a:ext cx="407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ew model based on four building bloc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7"/>
          <p:cNvGrpSpPr/>
          <p:nvPr/>
        </p:nvGrpSpPr>
        <p:grpSpPr>
          <a:xfrm>
            <a:off x="666720" y="4370400"/>
            <a:ext cx="2390400" cy="1925640"/>
            <a:chOff x="666720" y="4370400"/>
            <a:chExt cx="2390400" cy="1925640"/>
          </a:xfrm>
        </p:grpSpPr>
        <p:sp>
          <p:nvSpPr>
            <p:cNvPr id="436" name="Rectangle 25"/>
            <p:cNvSpPr/>
            <p:nvPr/>
          </p:nvSpPr>
          <p:spPr>
            <a:xfrm>
              <a:off x="666720" y="4370400"/>
              <a:ext cx="239040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666720" y="4370400"/>
              <a:ext cx="239040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28"/>
          <p:cNvSpPr/>
          <p:nvPr/>
        </p:nvSpPr>
        <p:spPr>
          <a:xfrm>
            <a:off x="1058040" y="4435560"/>
            <a:ext cx="14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mocratic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1174680" y="4683240"/>
            <a:ext cx="12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lected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1142640" y="4930920"/>
            <a:ext cx="132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overn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1111320" y="5176800"/>
            <a:ext cx="139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devolu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1281600" y="5424480"/>
            <a:ext cx="106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wers 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893520" y="5670720"/>
            <a:ext cx="178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utonomous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1472040" y="591804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od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37"/>
          <p:cNvGrpSpPr/>
          <p:nvPr/>
        </p:nvGrpSpPr>
        <p:grpSpPr>
          <a:xfrm>
            <a:off x="3170160" y="4370400"/>
            <a:ext cx="1902960" cy="1925640"/>
            <a:chOff x="3170160" y="4370400"/>
            <a:chExt cx="1902960" cy="1925640"/>
          </a:xfrm>
        </p:grpSpPr>
        <p:sp>
          <p:nvSpPr>
            <p:cNvPr id="446" name="Rectangle 35"/>
            <p:cNvSpPr/>
            <p:nvPr/>
          </p:nvSpPr>
          <p:spPr>
            <a:xfrm>
              <a:off x="3170160" y="4370400"/>
              <a:ext cx="190296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36"/>
            <p:cNvSpPr/>
            <p:nvPr/>
          </p:nvSpPr>
          <p:spPr>
            <a:xfrm>
              <a:off x="3170160" y="4370400"/>
              <a:ext cx="190296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38"/>
          <p:cNvSpPr/>
          <p:nvPr/>
        </p:nvSpPr>
        <p:spPr>
          <a:xfrm>
            <a:off x="3808440" y="44355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3504600" y="468324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3442320" y="4930920"/>
            <a:ext cx="12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civil socie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3434760" y="517680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rticip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3323520" y="5424480"/>
            <a:ext cx="147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d down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3348000" y="5670720"/>
            <a:ext cx="142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ounta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6"/>
          <p:cNvGrpSpPr/>
          <p:nvPr/>
        </p:nvGrpSpPr>
        <p:grpSpPr>
          <a:xfrm>
            <a:off x="5203800" y="4370400"/>
            <a:ext cx="1976040" cy="1925640"/>
            <a:chOff x="5203800" y="4370400"/>
            <a:chExt cx="1976040" cy="1925640"/>
          </a:xfrm>
        </p:grpSpPr>
        <p:sp>
          <p:nvSpPr>
            <p:cNvPr id="455" name="Rectangle 44"/>
            <p:cNvSpPr/>
            <p:nvPr/>
          </p:nvSpPr>
          <p:spPr>
            <a:xfrm>
              <a:off x="5203800" y="4370400"/>
              <a:ext cx="197604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203800" y="4370400"/>
              <a:ext cx="197604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Rectangle 47"/>
          <p:cNvSpPr/>
          <p:nvPr/>
        </p:nvSpPr>
        <p:spPr>
          <a:xfrm>
            <a:off x="5877720" y="44355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8"/>
          <p:cNvSpPr/>
          <p:nvPr/>
        </p:nvSpPr>
        <p:spPr>
          <a:xfrm>
            <a:off x="5607000" y="468324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econom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9"/>
          <p:cNvSpPr/>
          <p:nvPr/>
        </p:nvSpPr>
        <p:spPr>
          <a:xfrm>
            <a:off x="5513400" y="493092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50"/>
          <p:cNvSpPr/>
          <p:nvPr/>
        </p:nvSpPr>
        <p:spPr>
          <a:xfrm>
            <a:off x="5693400" y="5176800"/>
            <a:ext cx="3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1"/>
          <p:cNvSpPr/>
          <p:nvPr/>
        </p:nvSpPr>
        <p:spPr>
          <a:xfrm>
            <a:off x="6126480" y="5176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52"/>
          <p:cNvSpPr/>
          <p:nvPr/>
        </p:nvSpPr>
        <p:spPr>
          <a:xfrm>
            <a:off x="6173640" y="517680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o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53"/>
          <p:cNvSpPr/>
          <p:nvPr/>
        </p:nvSpPr>
        <p:spPr>
          <a:xfrm>
            <a:off x="5468400" y="542448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5371560" y="567072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ervic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57"/>
          <p:cNvGrpSpPr/>
          <p:nvPr/>
        </p:nvGrpSpPr>
        <p:grpSpPr>
          <a:xfrm>
            <a:off x="7345440" y="4370400"/>
            <a:ext cx="1953720" cy="1925640"/>
            <a:chOff x="7345440" y="4370400"/>
            <a:chExt cx="1953720" cy="1925640"/>
          </a:xfrm>
        </p:grpSpPr>
        <p:sp>
          <p:nvSpPr>
            <p:cNvPr id="466" name="Rectangle 55"/>
            <p:cNvSpPr/>
            <p:nvPr/>
          </p:nvSpPr>
          <p:spPr>
            <a:xfrm>
              <a:off x="7345440" y="4370400"/>
              <a:ext cx="195372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7345440" y="4370400"/>
              <a:ext cx="195372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58"/>
          <p:cNvSpPr/>
          <p:nvPr/>
        </p:nvSpPr>
        <p:spPr>
          <a:xfrm>
            <a:off x="8025120" y="468324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9"/>
          <p:cNvSpPr/>
          <p:nvPr/>
        </p:nvSpPr>
        <p:spPr>
          <a:xfrm>
            <a:off x="7542720" y="493092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rn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60"/>
          <p:cNvSpPr/>
          <p:nvPr/>
        </p:nvSpPr>
        <p:spPr>
          <a:xfrm>
            <a:off x="7714080" y="5176800"/>
            <a:ext cx="11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d over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1"/>
          <p:cNvSpPr/>
          <p:nvPr/>
        </p:nvSpPr>
        <p:spPr>
          <a:xfrm>
            <a:off x="7610760" y="542448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 s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7971120" y="567072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63"/>
          <p:cNvSpPr/>
          <p:nvPr/>
        </p:nvSpPr>
        <p:spPr>
          <a:xfrm>
            <a:off x="2076480" y="4102200"/>
            <a:ext cx="6165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4"/>
          <p:cNvSpPr/>
          <p:nvPr/>
        </p:nvSpPr>
        <p:spPr>
          <a:xfrm>
            <a:off x="4956120" y="3648240"/>
            <a:ext cx="0" cy="453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5"/>
          <p:cNvSpPr/>
          <p:nvPr/>
        </p:nvSpPr>
        <p:spPr>
          <a:xfrm>
            <a:off x="2082960" y="4089240"/>
            <a:ext cx="0" cy="277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66"/>
          <p:cNvSpPr/>
          <p:nvPr/>
        </p:nvSpPr>
        <p:spPr>
          <a:xfrm>
            <a:off x="4094280" y="4089240"/>
            <a:ext cx="0" cy="30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67"/>
          <p:cNvSpPr/>
          <p:nvPr/>
        </p:nvSpPr>
        <p:spPr>
          <a:xfrm>
            <a:off x="6213600" y="4111560"/>
            <a:ext cx="0" cy="255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68"/>
          <p:cNvSpPr/>
          <p:nvPr/>
        </p:nvSpPr>
        <p:spPr>
          <a:xfrm>
            <a:off x="8237520" y="4089240"/>
            <a:ext cx="0" cy="30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69"/>
          <p:cNvSpPr/>
          <p:nvPr/>
        </p:nvSpPr>
        <p:spPr>
          <a:xfrm>
            <a:off x="4856040" y="2228760"/>
            <a:ext cx="144720" cy="35424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</a:rPr>
              <a:t>The two waves of decentralis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5480" y="914040"/>
            <a:ext cx="85852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Visualisation of link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4335480" cy="2869920"/>
          </a:xfrm>
          <a:prstGeom prst="rect">
            <a:avLst/>
          </a:prstGeom>
          <a:ln w="0">
            <a:noFill/>
          </a:ln>
        </p:spPr>
      </p:pic>
      <p:sp>
        <p:nvSpPr>
          <p:cNvPr id="483" name="Oval 4"/>
          <p:cNvSpPr/>
          <p:nvPr/>
        </p:nvSpPr>
        <p:spPr>
          <a:xfrm>
            <a:off x="7677000" y="3886200"/>
            <a:ext cx="1951200" cy="2089080"/>
          </a:xfrm>
          <a:prstGeom prst="ellipse">
            <a:avLst/>
          </a:prstGeom>
          <a:solidFill>
            <a:srgbClr val="0f6fc6">
              <a:alpha val="5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7512120" y="3124080"/>
            <a:ext cx="1012680" cy="863640"/>
          </a:xfrm>
          <a:prstGeom prst="leftArrow">
            <a:avLst>
              <a:gd name="adj1" fmla="val 50000"/>
              <a:gd name="adj2" fmla="val 27061"/>
            </a:avLst>
          </a:prstGeom>
          <a:solidFill>
            <a:srgbClr val="00ccff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660240" y="1905120"/>
            <a:ext cx="1951200" cy="2089080"/>
          </a:xfrm>
          <a:prstGeom prst="ellipse">
            <a:avLst/>
          </a:prstGeom>
          <a:solidFill>
            <a:srgbClr val="0f6fc6">
              <a:alpha val="5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7"/>
          <p:cNvSpPr/>
          <p:nvPr/>
        </p:nvSpPr>
        <p:spPr>
          <a:xfrm rot="10800000">
            <a:off x="2063520" y="3047760"/>
            <a:ext cx="1012680" cy="863640"/>
          </a:xfrm>
          <a:prstGeom prst="leftArrow">
            <a:avLst>
              <a:gd name="adj1" fmla="val 50000"/>
              <a:gd name="adj2" fmla="val 27061"/>
            </a:avLst>
          </a:prstGeom>
          <a:solidFill>
            <a:srgbClr val="00ccff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404160" y="5562720"/>
            <a:ext cx="3824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Arial"/>
              </a:rPr>
              <a:t>"Governmentalit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9880" y="7045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t pres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677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Tendency to re-centralis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0" name="Picture 6" descr="picture_centralization_decentralization"/>
          <p:cNvPicPr/>
          <p:nvPr/>
        </p:nvPicPr>
        <p:blipFill>
          <a:blip r:embed="rId2"/>
          <a:srcRect l="4345" t="16814" r="54358" b="2819"/>
          <a:stretch/>
        </p:blipFill>
        <p:spPr>
          <a:xfrm>
            <a:off x="6769080" y="3809880"/>
            <a:ext cx="2131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4617b"/>
                </a:solidFill>
                <a:latin typeface="Calibri"/>
              </a:rPr>
              <a:t>Reviewing  concepts of DL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dministrative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olitical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Fiscal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From government to governance - involvement of civil society and private sec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ocal economic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Territorial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467160" y="1371600"/>
            <a:ext cx="320184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lower levels of government, agencies, field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y of public services &amp; functions at lower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on ‘on behalf of’ central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rify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ability lines to local and central government (control/ tute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6851520" y="2438280"/>
            <a:ext cx="280836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suring effective local-intergovernmental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3879720" y="3124080"/>
            <a:ext cx="24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Transferring decision-making authority,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1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2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3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4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5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6769080" y="4267080"/>
            <a:ext cx="273060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institutional capacities at lower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7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Rectangle 18" descr=""/>
          <p:cNvPicPr/>
          <p:nvPr/>
        </p:nvPicPr>
        <p:blipFill>
          <a:blip r:embed="rId2"/>
          <a:stretch/>
        </p:blipFill>
        <p:spPr>
          <a:xfrm>
            <a:off x="407880" y="450720"/>
            <a:ext cx="8925120" cy="96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2:31:54Z</dcterms:created>
  <dc:creator>Martin en Cecile</dc:creator>
  <dc:description/>
  <dc:language>en-US</dc:language>
  <cp:lastModifiedBy>aidco-sd-tech2</cp:lastModifiedBy>
  <cp:lastPrinted>2011-06-15T16:31:52Z</cp:lastPrinted>
  <dcterms:modified xsi:type="dcterms:W3CDTF">2011-07-19T07:44:05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ynCleanUp16-4-2011 17:20:26">
    <vt:lpwstr>1</vt:lpwstr>
  </property>
  <property fmtid="{D5CDD505-2E9C-101B-9397-08002B2CF9AE}" pid="3" name="eSynDocAccount">
    <vt:lpwstr/>
  </property>
  <property fmtid="{D5CDD505-2E9C-101B-9397-08002B2CF9AE}" pid="4" name="eSynDocAcctContact">
    <vt:lpwstr/>
  </property>
  <property fmtid="{D5CDD505-2E9C-101B-9397-08002B2CF9AE}" pid="5" name="eSynDocAssortment">
    <vt:lpwstr/>
  </property>
  <property fmtid="{D5CDD505-2E9C-101B-9397-08002B2CF9AE}" pid="6" name="eSynDocAttachFileName">
    <vt:lpwstr>Powerpoint 1.2 Final Version.ppt</vt:lpwstr>
  </property>
  <property fmtid="{D5CDD505-2E9C-101B-9397-08002B2CF9AE}" pid="7" name="eSynDocCategoryGUID">
    <vt:lpwstr>{10A0682D-4EED-40FF-AD11-8881F017EEE4}</vt:lpwstr>
  </property>
  <property fmtid="{D5CDD505-2E9C-101B-9397-08002B2CF9AE}" pid="8" name="eSynDocCategoryID">
    <vt:lpwstr>Programme realisation</vt:lpwstr>
  </property>
  <property fmtid="{D5CDD505-2E9C-101B-9397-08002B2CF9AE}" pid="9" name="eSynDocContactID">
    <vt:lpwstr/>
  </property>
  <property fmtid="{D5CDD505-2E9C-101B-9397-08002B2CF9AE}" pid="10" name="eSynDocDivision">
    <vt:lpwstr>500</vt:lpwstr>
  </property>
  <property fmtid="{D5CDD505-2E9C-101B-9397-08002B2CF9AE}" pid="11" name="eSynDocDivisionDesc">
    <vt:lpwstr>The Hague Academy for Local Governance</vt:lpwstr>
  </property>
  <property fmtid="{D5CDD505-2E9C-101B-9397-08002B2CF9AE}" pid="12" name="eSynDocGroupDesc">
    <vt:lpwstr>Programme documentation</vt:lpwstr>
  </property>
  <property fmtid="{D5CDD505-2E9C-101B-9397-08002B2CF9AE}" pid="13" name="eSynDocGroupID">
    <vt:lpwstr>11</vt:lpwstr>
  </property>
  <property fmtid="{D5CDD505-2E9C-101B-9397-08002B2CF9AE}" pid="14" name="eSynDocHID">
    <vt:lpwstr>2495</vt:lpwstr>
  </property>
  <property fmtid="{D5CDD505-2E9C-101B-9397-08002B2CF9AE}" pid="15" name="eSynDocItem">
    <vt:lpwstr/>
  </property>
  <property fmtid="{D5CDD505-2E9C-101B-9397-08002B2CF9AE}" pid="16" name="eSynDocLanguageCode">
    <vt:lpwstr>EN</vt:lpwstr>
  </property>
  <property fmtid="{D5CDD505-2E9C-101B-9397-08002B2CF9AE}" pid="17" name="eSynDocParentDocument">
    <vt:lpwstr/>
  </property>
  <property fmtid="{D5CDD505-2E9C-101B-9397-08002B2CF9AE}" pid="18" name="eSynDocProjectNr">
    <vt:lpwstr>20224</vt:lpwstr>
  </property>
  <property fmtid="{D5CDD505-2E9C-101B-9397-08002B2CF9AE}" pid="19" name="eSynDocPublish">
    <vt:lpwstr>0</vt:lpwstr>
  </property>
  <property fmtid="{D5CDD505-2E9C-101B-9397-08002B2CF9AE}" pid="20" name="eSynDocResource">
    <vt:lpwstr/>
  </property>
  <property fmtid="{D5CDD505-2E9C-101B-9397-08002B2CF9AE}" pid="21" name="eSynDocSecurity">
    <vt:lpwstr>10</vt:lpwstr>
  </property>
  <property fmtid="{D5CDD505-2E9C-101B-9397-08002B2CF9AE}" pid="22" name="eSynDocSerialNumber">
    <vt:lpwstr/>
  </property>
  <property fmtid="{D5CDD505-2E9C-101B-9397-08002B2CF9AE}" pid="23" name="eSynDocSubCategory">
    <vt:lpwstr>General</vt:lpwstr>
  </property>
  <property fmtid="{D5CDD505-2E9C-101B-9397-08002B2CF9AE}" pid="24" name="eSynDocSubCategoryGUID">
    <vt:lpwstr>{93B3057C-AEC5-425D-A24B-0373649D5C6A}</vt:lpwstr>
  </property>
  <property fmtid="{D5CDD505-2E9C-101B-9397-08002B2CF9AE}" pid="25" name="eSynDocSubject">
    <vt:lpwstr>Session 1.2 Concepts and rationale</vt:lpwstr>
  </property>
  <property fmtid="{D5CDD505-2E9C-101B-9397-08002B2CF9AE}" pid="26" name="eSynDocSummary">
    <vt:lpwstr/>
  </property>
  <property fmtid="{D5CDD505-2E9C-101B-9397-08002B2CF9AE}" pid="27" name="eSynDocTypeID">
    <vt:lpwstr>0</vt:lpwstr>
  </property>
  <property fmtid="{D5CDD505-2E9C-101B-9397-08002B2CF9AE}" pid="28" name="eSynDocVersion">
    <vt:lpwstr/>
  </property>
  <property fmtid="{D5CDD505-2E9C-101B-9397-08002B2CF9AE}" pid="29" name="eSynDocVersionStartDate">
    <vt:lpwstr/>
  </property>
  <property fmtid="{D5CDD505-2E9C-101B-9397-08002B2CF9AE}" pid="30" name="eSynDocbAttachment">
    <vt:bool>1</vt:bool>
  </property>
  <property fmtid="{D5CDD505-2E9C-101B-9397-08002B2CF9AE}" pid="31" name="eSynTransactionEntryKey">
    <vt:lpwstr/>
  </property>
</Properties>
</file>