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eece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1180F-5229-4230-B557-7099517B6CD5}" type="slidenum">
              <a:rPr b="0" lang="en-GB" sz="12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078AC-5D1C-4523-BB5F-D3C5521A7DB4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FD905-4575-45B3-B554-B3C6237FDA75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011AA-37BF-403A-B4BF-E56783D9CD4B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68F11-31D8-43B4-9A14-EFF58EC33BCB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A1CFC-2F02-48C5-AD28-EF0AED003988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F915-A467-4218-B057-8C15FDD63F75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36176-7746-4935-87E2-FD80C36E081C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0CD7-5449-4A0D-A984-3F15D2F68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DF15-AEAE-48A3-B02E-8D47B3DE5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98BA-D33B-4569-A258-F274F3E07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FCA0-CB0D-495B-9AF7-BAC8E41C5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A8C66-ED76-43E1-B78D-C64361D28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AB5DA-6C7E-4289-8486-7D43368E0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5458B-B86E-487F-86E5-11AC5ABAC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B39F4-3190-4244-964F-2FA2E7A95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4DF1E-3FE0-4400-A1CA-CCB48A254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8026D-BCCC-4B87-A490-C88F5DBE1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31314-2E57-4C70-9C05-20442DB3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2ACC-780C-4BBF-8D59-768CC7E67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E7714-74A9-4A9F-AB25-397CAB81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B1542-160A-4268-A694-795A8EFD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94608-BF18-4D59-905C-E26FEF612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FFC63-50A7-4904-B5A8-169C4987E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E6A6B-27D9-479C-A650-9D96B548E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D89D-035E-49CE-8FB5-DA27461CB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4905-3265-463F-9ED1-6A01EC6B0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4CC9-016B-4ECB-93ED-C961633F5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7C65-3638-4010-B157-4DE0C2770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01F6-0BA0-41B5-930D-153CA66A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208F-FC4D-44CC-90C5-C97C0798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A90D-5319-4777-AEC0-6912A931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Actra Advisers Limi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3A5A2-E45B-44E8-A0B0-3FD99C222B85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9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0" name="Rectangle 10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51" name="Group 11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2" name="Rectangle 12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3" name="Rectangle 13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4" name="Rectangle 14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284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7552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103c72"/>
                </a:solidFill>
                <a:latin typeface="Verdana"/>
              </a:rPr>
              <a:t>Actra Advisers Limi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23820-F722-4F70-A203-BDBC0F13BA14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640" y="1915920"/>
            <a:ext cx="77025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800" spc="-1" strike="noStrike">
                <a:solidFill>
                  <a:srgbClr val="333399"/>
                </a:solidFill>
                <a:latin typeface="Verdana"/>
              </a:rPr>
              <a:t>Support to Capacity Development in Public Financial Management (PFM) </a:t>
            </a:r>
            <a:br>
              <a:rPr sz="2800"/>
            </a:br>
            <a:endParaRPr b="1" lang="en-US" sz="28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84000" y="3284280"/>
            <a:ext cx="708804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arole  and Nico Pretoriu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1356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d200"/>
                </a:solidFill>
                <a:latin typeface="Verdana"/>
              </a:rPr>
              <a:t>Approach to Guide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68360" y="1341360"/>
            <a:ext cx="799128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5880" indent="-51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Guide focuses on how to support not just what to support – holistic perspective on issues that need to be addressed.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Arial"/>
                <a:ea typeface="Arial"/>
              </a:rPr>
              <a:t>Know your country, your subject, yourself (your organisation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Develop relationships that facilitate open and constructive discuss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Be transparent and assess with an open mind. Focus on what is there, not just what is not ther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In designing support, provide alternatives to the problem, not single standard solutions, think out of the box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Improve the flexibility of funding to accommodate the dynamic nature of capacity development.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In providing assistance ensure there is demand and then look at the various options involving government in selection/managemen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Take longer term perspective on learning and seek to improve organisational learning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Know your goal/intended benefit at the outset, if not always the exact path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3" marL="1368360" indent="-517320">
              <a:lnSpc>
                <a:spcPct val="90000"/>
              </a:lnSpc>
              <a:buClr>
                <a:srgbClr val="353b55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3" marL="1368360" indent="-517320">
              <a:lnSpc>
                <a:spcPct val="90000"/>
              </a:lnSpc>
              <a:buClr>
                <a:srgbClr val="353b55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marL="515880" indent="-515880">
              <a:lnSpc>
                <a:spcPct val="90000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914400" indent="-51768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ts val="2798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Capacity Development – A Change Perspectiv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Human element of reforms/development/change strategy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Change challenges at different levels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Societal (values &amp; beliefs e.g. public accountability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stitutional (changing roles e.g. audit independence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Organisational (Culture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dividual (Behaviour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Include “hard issues” and “soft issues”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stitutional frameworks, technical reforms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Buy-in, compliance, behavioural change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Managing chang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Focus on rational processes and </a:t>
            </a:r>
            <a:r>
              <a:rPr b="1" lang="en-GB" sz="1800" spc="-1" strike="noStrike" u="sng">
                <a:solidFill>
                  <a:srgbClr val="103c72"/>
                </a:solidFill>
                <a:uFillTx/>
                <a:latin typeface="Verdana"/>
              </a:rPr>
              <a:t>emotional responses 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to ensure sustainable chang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Why Change Efforts Fail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7" name="Content Placeholder 2"/>
          <p:cNvSpPr/>
          <p:nvPr/>
        </p:nvSpPr>
        <p:spPr>
          <a:xfrm>
            <a:off x="609480" y="2565360"/>
            <a:ext cx="82296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8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8E48A-4874-4291-B54F-521FA169BFB1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249228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4360" y="2781360"/>
          <a:ext cx="7416720" cy="3095640"/>
        </p:xfrm>
        <a:graphic>
          <a:graphicData uri="http://schemas.openxmlformats.org/drawingml/2006/table">
            <a:tbl>
              <a:tblPr/>
              <a:tblGrid>
                <a:gridCol w="944280"/>
                <a:gridCol w="1216080"/>
                <a:gridCol w="1224000"/>
                <a:gridCol w="905040"/>
                <a:gridCol w="3127320"/>
              </a:tblGrid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Clear Vision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Urgency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Capacity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Likely Outcome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ast start, then fizzle out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ottom of “In” tray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ockets of change, Fear due to lack of skills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alse starts, Ad Hoc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ustainable change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  <p:sp>
        <p:nvSpPr>
          <p:cNvPr id="131" name="Footer Placeholder 8"/>
          <p:cNvSpPr/>
          <p:nvPr/>
        </p:nvSpPr>
        <p:spPr>
          <a:xfrm>
            <a:off x="46836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Based on Kotter, J.P. (2000) Leading Change: Why Transformation Efforts Fail. Harvard Business Review no 423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2" name="Title 1"/>
          <p:cNvSpPr/>
          <p:nvPr/>
        </p:nvSpPr>
        <p:spPr>
          <a:xfrm>
            <a:off x="539640" y="1557360"/>
            <a:ext cx="77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4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TextBox 11"/>
          <p:cNvSpPr/>
          <p:nvPr/>
        </p:nvSpPr>
        <p:spPr>
          <a:xfrm>
            <a:off x="539640" y="1844640"/>
            <a:ext cx="756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Country Findings – Sustainability an Issue – Why is that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Getting Ready for Chang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Making the Case for Change/the Vis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Building case in which logic is irrefutable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best practice is not a good argumen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Have clear criteria for success,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t manages expectations so everyone is clear on destinat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ovide insight not prescription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ternal drivers, not external forc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Capture P(p)olitical Wil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olitical Level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Organisational Level (Senior Management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Insight  (Case Study: Using PEFA) 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pic>
        <p:nvPicPr>
          <p:cNvPr id="137" name="Picture 1" descr="Drawing scores2"/>
          <p:cNvPicPr/>
          <p:nvPr/>
        </p:nvPicPr>
        <p:blipFill>
          <a:blip r:embed="rId1"/>
          <a:stretch/>
        </p:blipFill>
        <p:spPr>
          <a:xfrm>
            <a:off x="179280" y="765000"/>
            <a:ext cx="8126640" cy="401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250920" y="4724280"/>
          <a:ext cx="8064360" cy="1729080"/>
        </p:xfrm>
        <a:graphic>
          <a:graphicData uri="http://schemas.openxmlformats.org/drawingml/2006/table">
            <a:tbl>
              <a:tblPr/>
              <a:tblGrid>
                <a:gridCol w="784080"/>
                <a:gridCol w="1838520"/>
                <a:gridCol w="1287360"/>
                <a:gridCol w="1382760"/>
                <a:gridCol w="1252440"/>
                <a:gridCol w="1519200"/>
              </a:tblGrid>
              <a:tr h="863640">
                <a:tc>
                  <a:txBody>
                    <a:bodyPr lIns="17640" rIns="17640" tIns="0" bIns="0" anchor="ctr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ar Ending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mission of Fin. Statements to AG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e signed off by AG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mission to Speaker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rutiny by PAC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e available to Public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6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 Mar 07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igned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ubmitted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Hearing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released yet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7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 Mar 07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igned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ubmitted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Hearing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released yet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8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 Jun 09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igned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ubmitted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Hearing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released yet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Oval 7"/>
          <p:cNvSpPr/>
          <p:nvPr/>
        </p:nvSpPr>
        <p:spPr>
          <a:xfrm>
            <a:off x="1763640" y="1916280"/>
            <a:ext cx="1511280" cy="1584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0" name="Oval 8"/>
          <p:cNvSpPr/>
          <p:nvPr/>
        </p:nvSpPr>
        <p:spPr>
          <a:xfrm>
            <a:off x="6227640" y="2060640"/>
            <a:ext cx="1511280" cy="1582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1" name="Oval 9"/>
          <p:cNvSpPr/>
          <p:nvPr/>
        </p:nvSpPr>
        <p:spPr>
          <a:xfrm>
            <a:off x="6804000" y="4365720"/>
            <a:ext cx="1511280" cy="1584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42" name="Picture 3" descr="C:\Users\Karools\AppData\Local\Microsoft\Windows\Temporary Internet Files\Content.IE5\P59UQRSN\MC900441521[1].wmf"/>
          <p:cNvPicPr/>
          <p:nvPr/>
        </p:nvPicPr>
        <p:blipFill>
          <a:blip r:embed="rId2"/>
          <a:stretch/>
        </p:blipFill>
        <p:spPr>
          <a:xfrm>
            <a:off x="6804000" y="0"/>
            <a:ext cx="136836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Beyond leadership and communication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Rwanda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High level political will now, but ...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Mali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Change management unit but still battling with how to tackle vested interest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Lesotho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‘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Change management consultants told us what we already knew – not what to do about it’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How do you move to a stage where this is ‘how we do things around here (now)’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Importance of Cultur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“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The way we do things”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The 80 % principl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Values and ethic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Culturally loaded concept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Most difficult to chang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Shadow side of Culture (Perception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Loyalty (“Don’t question”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ofessional (“High Power Distance”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7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214A5-8D52-4BA1-B398-97B6C7331461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48" name="Picture 7" descr="Drawing Cultural Onion.jpg"/>
          <p:cNvPicPr/>
          <p:nvPr/>
        </p:nvPicPr>
        <p:blipFill>
          <a:blip r:embed="rId1"/>
          <a:stretch/>
        </p:blipFill>
        <p:spPr>
          <a:xfrm>
            <a:off x="5003640" y="1700280"/>
            <a:ext cx="367200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Organisational Change Strategy (6Ps)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28256-DF55-4C29-B092-BFD001146192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-14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2" name="Content Placeholder 3"/>
          <p:cNvSpPr/>
          <p:nvPr/>
        </p:nvSpPr>
        <p:spPr>
          <a:xfrm>
            <a:off x="457200" y="2174760"/>
            <a:ext cx="4040280" cy="41338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bbe0e3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urpos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at is reason for change?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Making irrefutable case for change!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Implications if no change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i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at will things look like in future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Vision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How will it be better than what we got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lan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at is timeline?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Priorities and Sequence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o  is involved in planning?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Top-down, Consultation, Participation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3" name="Content Placeholder 5"/>
          <p:cNvSpPr/>
          <p:nvPr/>
        </p:nvSpPr>
        <p:spPr>
          <a:xfrm>
            <a:off x="4645080" y="2174760"/>
            <a:ext cx="4103640" cy="4062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art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at is my role in change?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What is expected from me now, during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and after change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assion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Emotional response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Anger, fear, cynicism, excitement, etc.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ersona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at is in it for me?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Am I a winner or loser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Rewards – financial, self-actualisation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Effort – increased workload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4" name="Text Placeholder 2"/>
          <p:cNvSpPr/>
          <p:nvPr/>
        </p:nvSpPr>
        <p:spPr>
          <a:xfrm>
            <a:off x="468360" y="155736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808080"/>
                </a:solidFill>
                <a:uFillTx/>
                <a:latin typeface="Calibri"/>
              </a:rPr>
              <a:t>Organisationa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5" name="Text Placeholder 4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808080"/>
                </a:solidFill>
                <a:uFillTx/>
                <a:latin typeface="Calibri"/>
              </a:rPr>
              <a:t>Individua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6" name="Title 1"/>
          <p:cNvSpPr/>
          <p:nvPr/>
        </p:nvSpPr>
        <p:spPr>
          <a:xfrm>
            <a:off x="468360" y="1125360"/>
            <a:ext cx="822960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3c72"/>
                </a:solidFill>
                <a:latin typeface="Calibri"/>
              </a:rPr>
              <a:t>Case Study </a:t>
            </a:r>
            <a:r>
              <a:rPr b="0" lang="en-GB" sz="2400" spc="-1" strike="noStrike">
                <a:solidFill>
                  <a:srgbClr val="103c72"/>
                </a:solidFill>
                <a:latin typeface="Calibri"/>
              </a:rPr>
              <a:t>(South African Civil Service Reforms)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Design and Implementation Stag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Drivers (strategies) for Sustainable Chang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Clear strategies for achieving vis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One organisation, one strateg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Alignment (Development Strategy and Culture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ocess must promote urgenc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Flexible framework that encourages action and limits opportunity for passivit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Detailed implementa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Requires </a:t>
            </a: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management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 not strategi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Appropriate technical and </a:t>
            </a: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managerial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 capacit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ternal capacity to </a:t>
            </a: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manage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 change proces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Monitoring and Evaluation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6840" y="1267920"/>
            <a:ext cx="7859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Formulate Criteria and KPI at Design Stag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914400" indent="-5144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Keep it simple, Monitor change in behaviour not just systems and procedures and REAC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914400" indent="-5144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ocess Step Analysis (Inputs, Outputs, Impact, etc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316160" indent="-514440">
              <a:lnSpc>
                <a:spcPts val="2798"/>
              </a:lnSpc>
              <a:buClr>
                <a:srgbClr val="103c7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Example: Open Strategi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1" marL="914400" indent="-514440">
              <a:lnSpc>
                <a:spcPts val="2798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6AB20-4AE2-4CAC-BC7C-6E52798B30FD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539640" y="3500280"/>
          <a:ext cx="7704360" cy="2789280"/>
        </p:xfrm>
        <a:graphic>
          <a:graphicData uri="http://schemas.openxmlformats.org/drawingml/2006/table">
            <a:tbl>
              <a:tblPr/>
              <a:tblGrid>
                <a:gridCol w="1527120"/>
                <a:gridCol w="1327320"/>
                <a:gridCol w="2560680"/>
                <a:gridCol w="2289240"/>
              </a:tblGrid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Process 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Result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Uses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Benefits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067400"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Developing training Manual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Document produced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How is it supposed to be used?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How is it actually used (or not)?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or Unit, Organisation, 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310760"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pecialist Training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hd graduate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How is person being used?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How does organisation learn from that knowledge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or Organisation, sector, society, individual, etc.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cxnSp>
        <p:nvCxnSpPr>
          <p:cNvPr id="163" name="Straight Arrow Connector 10"/>
          <p:cNvCxnSpPr/>
          <p:nvPr/>
        </p:nvCxnSpPr>
        <p:spPr>
          <a:xfrm>
            <a:off x="1547640" y="3715920"/>
            <a:ext cx="504000" cy="25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lg"/>
          </a:ln>
        </p:spPr>
      </p:cxnSp>
      <p:cxnSp>
        <p:nvCxnSpPr>
          <p:cNvPr id="164" name="Straight Arrow Connector 11"/>
          <p:cNvCxnSpPr/>
          <p:nvPr/>
        </p:nvCxnSpPr>
        <p:spPr>
          <a:xfrm>
            <a:off x="2843280" y="3715920"/>
            <a:ext cx="505440" cy="25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lg"/>
          </a:ln>
        </p:spPr>
      </p:cxnSp>
      <p:cxnSp>
        <p:nvCxnSpPr>
          <p:cNvPr id="165" name="Straight Arrow Connector 12"/>
          <p:cNvCxnSpPr/>
          <p:nvPr/>
        </p:nvCxnSpPr>
        <p:spPr>
          <a:xfrm>
            <a:off x="4859280" y="3715920"/>
            <a:ext cx="505440" cy="25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Introduction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01840" indent="-501840">
              <a:lnSpc>
                <a:spcPts val="2798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Arial"/>
                <a:ea typeface="Arial"/>
              </a:rPr>
              <a:t>Development of practitioners guide to supporting capacity development in PFM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501840" indent="-501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501840" indent="-501840">
              <a:lnSpc>
                <a:spcPts val="2798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Arial"/>
                <a:ea typeface="Arial"/>
              </a:rPr>
              <a:t>Five case study countries: Lesotho, Nepal, Mali, Morocco and Rwanda 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501840" indent="-501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501840" indent="-501840">
              <a:lnSpc>
                <a:spcPts val="2798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Arial"/>
                <a:ea typeface="Arial"/>
              </a:rPr>
              <a:t>Semi- structured interview process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2" marL="1139400" indent="-501480">
              <a:lnSpc>
                <a:spcPts val="2798"/>
              </a:lnSpc>
              <a:buClr>
                <a:srgbClr val="353b55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understanding/meaning of key terms, capacity development (CD), reform and PFM;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39400" indent="-501480">
              <a:lnSpc>
                <a:spcPts val="2798"/>
              </a:lnSpc>
              <a:buClr>
                <a:srgbClr val="353b55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content, form and duration of CD support;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39400" indent="-501480">
              <a:lnSpc>
                <a:spcPts val="2798"/>
              </a:lnSpc>
              <a:buClr>
                <a:srgbClr val="353b55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process of design, implementation and assessment;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39400" indent="-501480">
              <a:lnSpc>
                <a:spcPts val="2798"/>
              </a:lnSpc>
              <a:buClr>
                <a:srgbClr val="353b55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impact and sustainability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01840" indent="-501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501840" indent="-501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lvl="1" marL="856080" indent="-501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56080" indent="-501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Nepal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3640" y="1484280"/>
            <a:ext cx="8515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512280" indent="-5122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Ad hoc interventions, predominantly based on technical training and supply driven assistance, government not seen as in driving seat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1244880" indent="-5122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Arial"/>
              </a:rPr>
              <a:t>‘</a:t>
            </a: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Arial"/>
              </a:rPr>
              <a:t>Need to train right person on right course for right reason’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Gradual move to more coordinated and focussed support with some recognition of political situation, but not of how society/organisations operat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Limited local ownership/management of technical assistance, complaints over micro management, concerns over ‘cut and paste’ approach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Impact not assessed and sustainability constrained by a number of factors e.g. Frequent rotation of senior personnel, low status of financial personn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512280" indent="-512280">
              <a:lnSpc>
                <a:spcPct val="90000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512280" indent="-512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512280" indent="-512280">
              <a:lnSpc>
                <a:spcPct val="90000"/>
              </a:lnSpc>
              <a:buClr>
                <a:srgbClr val="353b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3c72"/>
              </a:solidFill>
              <a:latin typeface="Verdana"/>
            </a:endParaRPr>
          </a:p>
          <a:p>
            <a:pPr lvl="1" marL="873720" indent="-5122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Lesotho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600200"/>
            <a:ext cx="8307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Reform programme comprising of traditional technical ‘fixes’ but addressing issues of professionaliza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Level of ‘government’ ownership declined over time, all affected bodies not on board from the outset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At operational level, preferred technical assistance, those who had practical experience. At micro level, internal CD of organisation, which is emphasising ‘human element’ making progress.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Change management support did not go beyond the ‘communication philosophy’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Sustainability generally and of professionalization process 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12574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“</a:t>
            </a: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If you train them they leave?”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4160" indent="-517320">
              <a:lnSpc>
                <a:spcPts val="2798"/>
              </a:lnSpc>
              <a:spcBef>
                <a:spcPts val="326"/>
              </a:spcBef>
              <a:buClr>
                <a:srgbClr val="353b55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4160" indent="-517320">
              <a:lnSpc>
                <a:spcPts val="2798"/>
              </a:lnSpc>
              <a:spcBef>
                <a:spcPts val="326"/>
              </a:spcBef>
              <a:buClr>
                <a:srgbClr val="353b55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Rwanda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600200"/>
            <a:ext cx="8307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Arial"/>
                <a:ea typeface="Arial"/>
              </a:rPr>
              <a:t>Reform programme supported by limited number of knowledgeable donors, high level of mutual trust and respec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Major transformation, but high level of political support with clear vision (even if not realistic)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Joint selection and management of TA, monitoring done by counterparts/senior government officials 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Initial attempts at professionalization failed, poor selection process, broader educational issues need to be addressed + high leakag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Sustainability – still highly questionable, shared vision ?, very small civil service, flat pay system, personal motivation issues not addressed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4160" indent="-517320">
              <a:lnSpc>
                <a:spcPts val="2798"/>
              </a:lnSpc>
              <a:spcBef>
                <a:spcPts val="326"/>
              </a:spcBef>
              <a:buClr>
                <a:srgbClr val="353b55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4160" indent="-517320">
              <a:lnSpc>
                <a:spcPts val="2798"/>
              </a:lnSpc>
              <a:spcBef>
                <a:spcPts val="326"/>
              </a:spcBef>
              <a:buClr>
                <a:srgbClr val="353b55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Morocco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600200"/>
            <a:ext cx="8307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Arial"/>
                <a:ea typeface="Arial"/>
              </a:rPr>
              <a:t>High level support by the King, but shared vision across all senior management still being sought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The Trésorerie Générale du Royaume (TGR) has sequenced its reform efforts taking account of capacity issues/scope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Focus on tools viewed as being to the detriment of a focus on enabling people to use those tools for the benefit of their organisations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Government manage technical assistance, effective use of institutional twinning arrangement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Need for donors to adopt flexible approach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4160" indent="-517320">
              <a:lnSpc>
                <a:spcPts val="2798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Mali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600200"/>
            <a:ext cx="8307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3c72"/>
                </a:solidFill>
                <a:latin typeface="Arial"/>
                <a:ea typeface="Arial"/>
              </a:rPr>
              <a:t>Lack of involvement of parliament and audit together with protracted discussions over methodology seen as reducing country ownership.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3c72"/>
                </a:solidFill>
                <a:latin typeface="Arial"/>
                <a:ea typeface="Arial"/>
              </a:rPr>
              <a:t>WAEMU directives – so direction prescribed, but </a:t>
            </a: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sequencing of reforms has not taken into account country context. Also concerns raised that </a:t>
            </a:r>
            <a:r>
              <a:rPr b="0" lang="en-US" sz="1900" spc="-1" strike="noStrike">
                <a:solidFill>
                  <a:srgbClr val="103c72"/>
                </a:solidFill>
                <a:latin typeface="Arial"/>
                <a:ea typeface="Arial"/>
              </a:rPr>
              <a:t>values, beliefs, ways of doing things not respected – e.g. audit model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Carefully formulated plans are addressing a number of institutional, organisational and individual capacity development issues. 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There is a change management strategy, the implementation of which is headed by a dedicated unit; however addressing the influence of vested interests and the need to take into account motivational issues remains. 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03c72"/>
              </a:solidFill>
              <a:latin typeface="Verdana"/>
            </a:endParaRPr>
          </a:p>
          <a:p>
            <a:pPr lvl="1" marL="884160" indent="-517320">
              <a:lnSpc>
                <a:spcPts val="2798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Common findings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10920" y="1413000"/>
            <a:ext cx="8227800" cy="48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5176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2" marL="5176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3c72"/>
                </a:solidFill>
                <a:latin typeface="Arial"/>
                <a:ea typeface="Arial"/>
              </a:rPr>
              <a:t>Understanding and meaning of key terms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Variations exist between governments, between donors and between government and donors leading to some tensions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5176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103c72"/>
              </a:solidFill>
              <a:latin typeface="Verdana"/>
            </a:endParaRPr>
          </a:p>
          <a:p>
            <a:pPr lvl="2" marL="5176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17680" indent="-517680">
              <a:lnSpc>
                <a:spcPts val="2798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2720" indent="-517680">
              <a:lnSpc>
                <a:spcPts val="2798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2720" indent="-517680">
              <a:lnSpc>
                <a:spcPts val="2798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119" name="Picture 5" descr="Drawing Cross talking.jpg"/>
          <p:cNvPicPr/>
          <p:nvPr/>
        </p:nvPicPr>
        <p:blipFill>
          <a:blip r:embed="rId1"/>
          <a:stretch/>
        </p:blipFill>
        <p:spPr>
          <a:xfrm>
            <a:off x="1187280" y="3068640"/>
            <a:ext cx="676944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Common findings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10920" y="1413000"/>
            <a:ext cx="8227800" cy="48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Still mainly support to new ‘technical’ tools and approaches (MTEF, IFMIS, TSA), conventional training/workshops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4" marL="12574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In general focus on traditional imports, not finding solutions to actual (and shared) problems, very limited innovation.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4" marL="12574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Limited understanding (incorporation) of local context by donors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Timescales still appear to fit donor programming requirements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Capacity Development and change management link not clearly addressed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4" marL="12574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Recognition only of need for communication strategies and political will (leadership) but not the overall dynamics of change.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563400" indent="-5173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103c72"/>
              </a:solidFill>
              <a:latin typeface="Verdana"/>
            </a:endParaRPr>
          </a:p>
          <a:p>
            <a:pPr lvl="2" marL="563400" indent="-51732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17680" indent="-517680">
              <a:lnSpc>
                <a:spcPts val="2798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2720" indent="-517680">
              <a:lnSpc>
                <a:spcPts val="2798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2720" indent="-517680">
              <a:lnSpc>
                <a:spcPts val="2798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07:31:41Z</dcterms:created>
  <dc:creator>monacro</dc:creator>
  <dc:description/>
  <dc:language>en-US</dc:language>
  <cp:lastModifiedBy>Christoforos Korakas</cp:lastModifiedBy>
  <cp:lastPrinted>2011-06-27T14:49:09Z</cp:lastPrinted>
  <dcterms:modified xsi:type="dcterms:W3CDTF">2011-07-27T14:11:08Z</dcterms:modified>
  <cp:revision>90</cp:revision>
  <dc:subject/>
  <dc:title>Slide 1</dc:title>
</cp:coreProperties>
</file>