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200-BCE5-4F77-9105-B5D4B47C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ADF-12EC-4E64-9736-8845E2E8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A06-4E1A-4866-9486-A36A5FD6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0E5-73F7-40B6-9045-FC1080FF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788-67CC-4A54-9E7B-2A999E95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E4F-8C7C-4331-AFB5-F8783CCC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25B-A2FE-410C-B978-257582F4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20F-FEDD-4560-BDF9-83234293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C0A-FDE9-448B-8D89-990FE36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1CC-1898-4F06-93BD-DBE3432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941-9C49-4728-8501-4DFB317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B26-F9BF-42FC-89F6-BEE0F76B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7E2-980C-4404-8129-9D7FCF6D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4C1-E9BE-4F28-92BA-AB0FF60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021-6773-471D-86D5-1005D86F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F050-8313-455A-9389-E12C0FB40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34120" y="6546960"/>
            <a:ext cx="1200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World 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ject 8" descr=""/>
          <p:cNvPicPr/>
          <p:nvPr/>
        </p:nvPicPr>
        <p:blipFill>
          <a:blip r:embed="rId3"/>
          <a:stretch/>
        </p:blipFill>
        <p:spPr>
          <a:xfrm>
            <a:off x="457200" y="6400800"/>
            <a:ext cx="357120" cy="333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086600" y="64292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Page </a:t>
            </a:r>
            <a:fld id="{6244A46C-70DD-4FEC-B90E-FD4F76FE1776}" type="slidenum"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200480" y="6458040"/>
            <a:ext cx="335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c6e"/>
                </a:solidFill>
                <a:latin typeface="Calibri"/>
                <a:ea typeface="Arial"/>
              </a:rPr>
              <a:t>Public Sector &amp; Governa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1" descr="askgov.png"/>
          <p:cNvPicPr/>
          <p:nvPr/>
        </p:nvPicPr>
        <p:blipFill>
          <a:blip r:embed="rId4"/>
          <a:stretch/>
        </p:blipFill>
        <p:spPr>
          <a:xfrm>
            <a:off x="7607160" y="6172200"/>
            <a:ext cx="3175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paint"/>
          <p:cNvPicPr/>
          <p:nvPr/>
        </p:nvPicPr>
        <p:blipFill>
          <a:blip r:embed="rId5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7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75248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4"/>
          <p:cNvSpPr/>
          <p:nvPr/>
        </p:nvSpPr>
        <p:spPr>
          <a:xfrm flipV="1">
            <a:off x="914400" y="4951800"/>
            <a:ext cx="8229600" cy="228600"/>
          </a:xfrm>
          <a:prstGeom prst="rect">
            <a:avLst/>
          </a:prstGeom>
          <a:solidFill>
            <a:srgbClr val="a09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88a8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 flipV="1">
            <a:off x="0" y="4952160"/>
            <a:ext cx="83808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7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38188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Sub-National Monitoring and Impact Evaluation</a:t>
            </a:r>
            <a:endParaRPr b="0" lang="en-US" sz="3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514240" y="57150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Kai Kais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PREM Public Sector &amp; Govern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5" descr="GAC_globe_lg.png"/>
          <p:cNvPicPr/>
          <p:nvPr/>
        </p:nvPicPr>
        <p:blipFill>
          <a:blip r:embed="rId1"/>
          <a:srcRect l="0" t="3554" r="0" b="64451"/>
          <a:stretch/>
        </p:blipFill>
        <p:spPr>
          <a:xfrm>
            <a:off x="1066680" y="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askgov.png"/>
          <p:cNvPicPr/>
          <p:nvPr/>
        </p:nvPicPr>
        <p:blipFill>
          <a:blip r:embed="rId2"/>
          <a:stretch/>
        </p:blipFill>
        <p:spPr>
          <a:xfrm>
            <a:off x="8229600" y="5410080"/>
            <a:ext cx="674640" cy="1295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52280" y="538668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DPWG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mbria"/>
                <a:ea typeface="Calibri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 Annual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Bruss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May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0200" y="323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Having the “ideal” counterfactual……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66680" y="4419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85716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Objec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5320" cy="4773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3733920" y="55785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7"/>
          <p:cNvSpPr/>
          <p:nvPr/>
        </p:nvSpPr>
        <p:spPr>
          <a:xfrm flipV="1">
            <a:off x="4495680" y="3390840"/>
            <a:ext cx="0" cy="21909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DC5-C557-403B-B0CB-7CC072622A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0200" y="323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alibri"/>
              </a:rPr>
              <a:t>allows us to estimate the true impact</a:t>
            </a:r>
            <a:endParaRPr b="0" lang="en-US" sz="38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066680" y="4419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5716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Object 5" descr=""/>
          <p:cNvPicPr/>
          <p:nvPr/>
        </p:nvPicPr>
        <p:blipFill>
          <a:blip r:embed="rId1"/>
          <a:stretch/>
        </p:blipFill>
        <p:spPr>
          <a:xfrm>
            <a:off x="914400" y="2017800"/>
            <a:ext cx="7182000" cy="48402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88E-5870-426C-BEF0-5C6BFDCBD3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33520" y="5486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ouf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Strategies in Practice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Randomization Challen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litical Economy of Decentr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ching, Difference in Difference, Discontinu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ering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ural Experi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it of Baseline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SNG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higher levels of government leverage specific transfers to sub-national governments to enhance local “performance” and “results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nk of “results” chain to targ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FM Process versus Outcom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iance versus “Stretch” Re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&amp;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vailing country flows &amp;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BG instruments/policies (e.g., new P4R OP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Application: Performance G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2"/>
          <p:cNvSpPr/>
          <p:nvPr/>
        </p:nvSpPr>
        <p:spPr>
          <a:xfrm>
            <a:off x="762120" y="1523880"/>
            <a:ext cx="76294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lected 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ird, Richard, (2010), Taxation and Decentralizatio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conomic Premise Not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No. 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ton, Kent, Kaiser, Kai, and Smoke, Paul (2010), 'The Political-Economy of Decentralization Reforms: A Development Partner Perspective', Washington, DC, pp. 1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umas, Victor and Kai Kaiser, (2010), Sub-National Performance Monitoring Issues and Options for Higher Levels of Government, Washington, DC: Public Sector Group, June pp. 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ld Bank, (2004), World Development Report: Making Services Work for Poor People, Washington, DC, pp. 27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ld Bank, (2009), Implementing Public Expenditure Tracking Surveys for Results: Lessons from a Decade of Global Experience, Washington, DC, pp.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Q &amp; A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Decentralization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-National Governments Increasingly Responsible/Pivotal for Sectoral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levels of government provide bulk of SN fi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wn source mobilization important for revenue mobilization &amp; accountability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rns about SN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lue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Decentralization – </a:t>
            </a:r>
            <a:br>
              <a:rPr sz="4400"/>
            </a:b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A Many Splendored Thing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olution, Delegation, De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, Administrative, Political Decent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tivations &amp; 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ation Theorem/Subsidi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 Building (Glue versus Solven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and implementation of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for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Promoting Results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Frameworks &amp; Instr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gnizing Political Economy of Decentr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 Delivery Account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NGs &amp; Public Expenditur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y Donor Motivations &amp; Driv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or Donor Motivations &amp; Driv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tical Results “versus” Horizontal-Downward Accountability Institution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ustration: Intergovernmental Performance Gr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ed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A Results Framework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46280" y="1434960"/>
            <a:ext cx="7869240" cy="50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Unbundling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Decentralization Dimensions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295280"/>
          <a:ext cx="8610480" cy="4876920"/>
        </p:xfrm>
        <a:graphic>
          <a:graphicData uri="http://schemas.openxmlformats.org/drawingml/2006/table">
            <a:tbl>
              <a:tblPr/>
              <a:tblGrid>
                <a:gridCol w="3429000"/>
                <a:gridCol w="5181480"/>
              </a:tblGrid>
              <a:tr h="401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Policy M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sets the main policy guidelines for a service (e.g., free primary education as a national policy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Standards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sets the standards (e.g., national tests versus local building standards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Administration/contrac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is the primary government authority that administers services on a day to day bas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Finan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provides the financing for services?  Capital investments, wages, O&amp;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Service </a:t>
                      </a:r>
                      <a:r>
                        <a:rPr b="1" lang="fr-CA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actually produces/delivers the service (e.g., this can often be private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Reg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regulates a service (e.g., professional accreditation in health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Monitoring &amp;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monitors and evaluate a service (e.g., how can local citizens provide feedback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7" descr="http://upload.wikimedia.org/wikipedia/commons/c/cf/Map_of_Indonesia_Demis.png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3387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What Gets Measured Gets Done?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2209680"/>
            <a:ext cx="7778880" cy="4246560"/>
            <a:chOff x="838080" y="2209680"/>
            <a:chExt cx="7778880" cy="4246560"/>
          </a:xfrm>
        </p:grpSpPr>
        <p:sp>
          <p:nvSpPr>
            <p:cNvPr id="194" name="AutoShape 30"/>
            <p:cNvSpPr/>
            <p:nvPr/>
          </p:nvSpPr>
          <p:spPr>
            <a:xfrm>
              <a:off x="838080" y="2209680"/>
              <a:ext cx="777888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838080" y="2209680"/>
              <a:ext cx="7778880" cy="2789280"/>
            </a:xfrm>
            <a:prstGeom prst="rect">
              <a:avLst/>
            </a:prstGeom>
            <a:solidFill>
              <a:srgbClr val="dce6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28"/>
            <p:cNvSpPr/>
            <p:nvPr/>
          </p:nvSpPr>
          <p:spPr>
            <a:xfrm>
              <a:off x="3560760" y="2292840"/>
              <a:ext cx="2703960" cy="90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Central Govern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(Cross-Cutting/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ectoral Agencies, Intermedia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800720" y="3207600"/>
              <a:ext cx="312336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V="1">
              <a:off x="3169440" y="3196800"/>
              <a:ext cx="1754640" cy="11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504680" y="3207600"/>
              <a:ext cx="419400" cy="11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 flipV="1">
              <a:off x="4893120" y="3217680"/>
              <a:ext cx="1425600" cy="11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 flipV="1">
              <a:off x="4892760" y="3207600"/>
              <a:ext cx="279324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21"/>
            <p:cNvSpPr/>
            <p:nvPr/>
          </p:nvSpPr>
          <p:spPr>
            <a:xfrm>
              <a:off x="2457360" y="4978080"/>
              <a:ext cx="1123920" cy="933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3956040" y="4988520"/>
              <a:ext cx="1123920" cy="9345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(Average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7328160" y="4988520"/>
              <a:ext cx="1123920" cy="933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N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aramond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500+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958680" y="6347880"/>
              <a:ext cx="7306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892080" y="5895000"/>
              <a:ext cx="764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Heterogeneity Ranking (e.g., systems, human, fiscal capacity, baseline performance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838080" y="4989600"/>
              <a:ext cx="7778880" cy="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6953760" y="4997880"/>
              <a:ext cx="37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2082600" y="4977360"/>
              <a:ext cx="37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3581280" y="4987440"/>
              <a:ext cx="37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>
              <a:off x="5079960" y="4987440"/>
              <a:ext cx="749160" cy="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958680" y="4967640"/>
              <a:ext cx="1123920" cy="9324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NG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#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2457360" y="4416120"/>
              <a:ext cx="112392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Text Box 21"/>
          <p:cNvSpPr/>
          <p:nvPr/>
        </p:nvSpPr>
        <p:spPr>
          <a:xfrm>
            <a:off x="5791320" y="4952880"/>
            <a:ext cx="1123920" cy="93348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43828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907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625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7913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731520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Indonesia Decentralization Results?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221" name="Picture 3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2114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2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772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Bosnia-Herzegovina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Municipal PFM and Service Delivery Benchmarking</a:t>
            </a:r>
            <a:endParaRPr b="0" lang="en-US" sz="24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334800" y="1301760"/>
            <a:ext cx="8458200" cy="383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87440" y="5073480"/>
            <a:ext cx="82137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izen Satisfaction Survey &amp; PFM PEFA Type Benchmarking in 20 Pilot Municipalities (of 142) in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tability to Performance: Local Governance and Service Delivery in Bosnia and Herzegovina (draft re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4:24:31Z</dcterms:created>
  <dc:creator>Kai-Alexander Kaiser</dc:creator>
  <dc:description/>
  <dc:language>en-US</dc:language>
  <cp:lastModifiedBy>Christoforos Korakas</cp:lastModifiedBy>
  <dcterms:modified xsi:type="dcterms:W3CDTF">2011-08-31T14:27:02Z</dcterms:modified>
  <cp:revision>44</cp:revision>
  <dc:subject/>
  <dc:title>Fiscal Decentr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s">
    <vt:lpwstr>Kai Kaiser</vt:lpwstr>
  </property>
  <property fmtid="{D5CDD505-2E9C-101B-9397-08002B2CF9AE}" pid="3" name="Contact_Person">
    <vt:lpwstr>Kai Kaiser</vt:lpwstr>
  </property>
  <property fmtid="{D5CDD505-2E9C-101B-9397-08002B2CF9AE}" pid="4" name="ContentTypeId">
    <vt:lpwstr>0x0101000359CA4DAF09484492A360978D6B3835</vt:lpwstr>
  </property>
  <property fmtid="{D5CDD505-2E9C-101B-9397-08002B2CF9AE}" pid="5" name="Created On">
    <vt:lpwstr>2010-11-29T07:00:00Z</vt:lpwstr>
  </property>
  <property fmtid="{D5CDD505-2E9C-101B-9397-08002B2CF9AE}" pid="6" name="File_to_Institutional_Repository">
    <vt:lpwstr>0</vt:lpwstr>
  </property>
  <property fmtid="{D5CDD505-2E9C-101B-9397-08002B2CF9AE}" pid="7" name="Folder">
    <vt:lpwstr/>
  </property>
  <property fmtid="{D5CDD505-2E9C-101B-9397-08002B2CF9AE}" pid="8" name="KwizTag_Country">
    <vt:lpwstr/>
  </property>
  <property fmtid="{D5CDD505-2E9C-101B-9397-08002B2CF9AE}" pid="9" name="KwizTag_Keywords">
    <vt:lpwstr>Allocative efficiency; budget; budget formulation; Budgetary Outcomes; discipline; Expenditure; fiscal; fiscal balance; Fiscal discipline; fiscal instruments; health; health expenditures; health sector; infant mortality; Medium Term Expenditure; Medium Te</vt:lpwstr>
  </property>
  <property fmtid="{D5CDD505-2E9C-101B-9397-08002B2CF9AE}" pid="10" name="KwizTag_PeopleReferenced">
    <vt:lpwstr>;</vt:lpwstr>
  </property>
  <property fmtid="{D5CDD505-2E9C-101B-9397-08002B2CF9AE}" pid="11" name="KwizTag_Topics">
    <vt:lpwstr>Labor Policies;Fiscal Adjustment;Health Systems Development and Reform;</vt:lpwstr>
  </property>
  <property fmtid="{D5CDD505-2E9C-101B-9397-08002B2CF9AE}" pid="12" name="Security_Classification">
    <vt:lpwstr>Official use only</vt:lpwstr>
  </property>
  <property fmtid="{D5CDD505-2E9C-101B-9397-08002B2CF9AE}" pid="13" name="Site Name">
    <vt:lpwstr>psg/mtef</vt:lpwstr>
  </property>
  <property fmtid="{D5CDD505-2E9C-101B-9397-08002B2CF9AE}" pid="14" name="Team Pick">
    <vt:lpwstr>0</vt:lpwstr>
  </property>
  <property fmtid="{D5CDD505-2E9C-101B-9397-08002B2CF9AE}" pid="15" name="Tera_Access_Rights_Security">
    <vt:lpwstr/>
  </property>
  <property fmtid="{D5CDD505-2E9C-101B-9397-08002B2CF9AE}" pid="16" name="Tera_Authorized_by">
    <vt:lpwstr/>
  </property>
  <property fmtid="{D5CDD505-2E9C-101B-9397-08002B2CF9AE}" pid="17" name="Tera_Business_Function">
    <vt:lpwstr/>
  </property>
  <property fmtid="{D5CDD505-2E9C-101B-9397-08002B2CF9AE}" pid="18" name="Tera_Content_Type">
    <vt:lpwstr/>
  </property>
  <property fmtid="{D5CDD505-2E9C-101B-9397-08002B2CF9AE}" pid="19" name="Tera_Country">
    <vt:lpwstr/>
  </property>
  <property fmtid="{D5CDD505-2E9C-101B-9397-08002B2CF9AE}" pid="20" name="Tera_Creator_Agent">
    <vt:lpwstr/>
  </property>
  <property fmtid="{D5CDD505-2E9C-101B-9397-08002B2CF9AE}" pid="21" name="Tera_Date_Created">
    <vt:lpwstr/>
  </property>
  <property fmtid="{D5CDD505-2E9C-101B-9397-08002B2CF9AE}" pid="22" name="Tera_Format">
    <vt:lpwstr/>
  </property>
  <property fmtid="{D5CDD505-2E9C-101B-9397-08002B2CF9AE}" pid="23" name="Tera_Gist">
    <vt:lpwstr>An Investigation into the Impact of the Medium-Term Expenditure Framework on Budgetary Outcomes
Jim Brumby
World Bank
Aim of the Research
	Medium Term Expenditure Frameworks (MTEFs) are fiscal instruments aimed at enhancing fiscal performance.  This study</vt:lpwstr>
  </property>
  <property fmtid="{D5CDD505-2E9C-101B-9397-08002B2CF9AE}" pid="24" name="Tera_Institutions_Referenced">
    <vt:lpwstr/>
  </property>
  <property fmtid="{D5CDD505-2E9C-101B-9397-08002B2CF9AE}" pid="25" name="Tera_Keywords">
    <vt:lpwstr>Allocative efficiency, budget, budget formulation, Budgetary Outcomes, discipline, Expenditure, fiscal, fiscal balance, Fiscal discipline, fiscal instruments, health, health expenditures, health sector, infant mortality, Medium Term Expenditure, Medium Te</vt:lpwstr>
  </property>
  <property fmtid="{D5CDD505-2E9C-101B-9397-08002B2CF9AE}" pid="26" name="Tera_Language">
    <vt:lpwstr>ENGLISH</vt:lpwstr>
  </property>
  <property fmtid="{D5CDD505-2E9C-101B-9397-08002B2CF9AE}" pid="27" name="Tera_Location">
    <vt:lpwstr/>
  </property>
  <property fmtid="{D5CDD505-2E9C-101B-9397-08002B2CF9AE}" pid="28" name="Tera_People_Referenced">
    <vt:lpwstr/>
  </property>
  <property fmtid="{D5CDD505-2E9C-101B-9397-08002B2CF9AE}" pid="29" name="Tera_Region">
    <vt:lpwstr/>
  </property>
  <property fmtid="{D5CDD505-2E9C-101B-9397-08002B2CF9AE}" pid="30" name="Tera_Rights_Management">
    <vt:lpwstr/>
  </property>
  <property fmtid="{D5CDD505-2E9C-101B-9397-08002B2CF9AE}" pid="31" name="Tera_Souce_UniqueID">
    <vt:lpwstr/>
  </property>
  <property fmtid="{D5CDD505-2E9C-101B-9397-08002B2CF9AE}" pid="32" name="Tera_Title_Name_of_object">
    <vt:lpwstr/>
  </property>
  <property fmtid="{D5CDD505-2E9C-101B-9397-08002B2CF9AE}" pid="33" name="Tera_Topic">
    <vt:lpwstr>Labor Policies,Fiscal Adjustment,Health Systems Development and Reform,Debt Markets,Public Finance,Brown Issues and Health,Economic Stabilization,Intergovernmental Fiscal Relations and Local Finance Management,Rural Portfolio Improvement,Environment and H</vt:lpwstr>
  </property>
  <property fmtid="{D5CDD505-2E9C-101B-9397-08002B2CF9AE}" pid="34" name="Tera_Version">
    <vt:lpwstr/>
  </property>
  <property fmtid="{D5CDD505-2E9C-101B-9397-08002B2CF9AE}" pid="35" name="User_Keywords">
    <vt:lpwstr/>
  </property>
</Properties>
</file>