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dt" idx="53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7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54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 type="sldNum" idx="55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B4DACC1-00BA-407B-891D-98A59DFCF98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0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65F9E55-BB73-465E-A9AC-3A072CE6C8D6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3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324170E-FB8E-4B49-8112-F9D20A7AA24E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6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BB56C29-8853-4FD3-83AC-09CB4EA5E804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9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E6489D9-8D6C-4185-AD1B-E552FFEE7D63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48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91844B2-C104-43C1-83B5-98F9070DF824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51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4ED3143-81C3-478A-A804-82D03F7FCC3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ation to citizens 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; establishing or updating the basis for tax assessment 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); making donor grants or fiscal transfers conditional on the level of tax collection; adapting legal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89CFC2A-2DB2-4688-B178-01692EE81A40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tional ownership and political will cru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A62837D-1A0F-4FB0-9E9A-6A9C30F53F6A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F1CF-C3FA-4C56-9F00-8609C274F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9C8F-E328-427E-9877-DE1279045E0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A6E3A-06DE-4417-B7AA-3A8490C6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BD25A-FF02-42D0-B35D-02D594F0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1C2B9-345F-46D4-9063-275A6B6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8079F-5B71-440C-B1F2-8D216E4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E5061-3EB7-4269-A759-943447D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41C94-CA82-45F6-A852-2758917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6FE23-B205-403F-A826-65A40FCC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6FFC4-6CC8-455B-AAC7-FCF70C8F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9032B-4CFB-497A-99F4-303667BE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D8BC5-8826-4F76-81C7-99914DD7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FFF8-07C9-41DF-B64E-C25E5B148E7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0CB56-83F1-4517-A40A-15643942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DE731-BD92-4EFC-AE1F-75C96984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1C6D8-8522-4C50-BCBF-25480C5B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A2CAE-C494-4CAC-956C-20F8372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5CAB1-071D-46ED-ABAE-8486BA4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7FB5C-E189-4B21-A9C5-60F9FC1B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5453F-6BB0-47F5-A50B-567A76BB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F6202-F87C-46C6-BF34-60D80A2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1E61D-30F7-496B-9E1B-7F6F4AEF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F0A32-8CEA-46D2-A17E-06500DD4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EBB2-CE7E-4F46-997F-410822771C0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78CB1-656D-462D-A552-B7900400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999D9C-0A68-4748-839D-F882F778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FBC439-0214-45AC-8B61-9114F509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E07566-45B5-472A-90D1-9965D62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35B9A8-F7D0-403A-887D-25762505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165C96-0278-4351-89CC-D0D124E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DB3463-27A9-4322-96D7-AF533CB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ACC702-385D-4BA6-B09E-41AD6E0E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EDBE60-F2E2-49E7-90E9-D9A827A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89B07C-5EE7-44C8-A520-1D66C4E8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9A7BC-DD07-4D03-BF34-50838012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381881-8BCB-4E20-9AAF-6BAFE619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4CF514-DD80-4E3E-93CF-84D72061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C3C1FA-8D8B-4C7B-8035-71EC022D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CF29E-B50A-4C3B-B7AB-12F7C3C1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FBB0D-663E-4427-9A01-348BEA11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7088E-BAFD-467C-A755-2831D034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744A9-ABAE-436F-B00D-338204C5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E37C4-04E8-4E03-BF62-CCB9C36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46D3F-A7D1-4C77-B8E1-D237602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907A4-D512-41B7-A12D-E5CD704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9A1E0-963A-40F6-9F91-765BC0C8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F32E9-A450-47D8-B94E-D8430BC1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BB0C2-55BC-4D79-9718-77CEA9C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3021D-A497-4C57-B977-38147C34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2A285-B3E7-48B5-8290-176C7720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ADA19-2E88-4A48-AC35-542CF8DE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1B9A8B-77E8-439A-A245-9A3C8BD4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22DD7F-2B50-4C9F-9F5A-6982830C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A3A410-C1CF-4106-8387-9518620E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2747FF-512F-463A-8AAB-1017752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329B83-39A5-4322-806A-078B222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140E2-8844-4593-89C5-8A6D5D32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8BF864-2ADD-4F70-832D-36C0EE33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B49173-0802-4231-8B9A-EB80AB6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E9A79E-4453-42FC-8952-A1AB681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9BCF25-1C8E-438A-8196-81229FD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8A383E-AF44-4C7A-8A1F-23F6EBFD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D7932C-26BF-49BC-9851-A72F052A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248B5C-CFFE-4B99-9837-6A63DCA5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D283F2-F5C4-455B-82B6-8A855E12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756FB3-DF23-4C52-8C66-219E012C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055EA0-AF7F-4418-BC3B-8040E032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3ABD4-1B07-4865-AA5B-C0E3F17B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BDF8FA-F539-406C-95EF-C65DA20F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D34223-CBC9-4721-8E86-7734317E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521E12-FA14-42B1-8335-8545AA1C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682CE9-C4E1-44F6-A859-6D8470F5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B0F013-6D7B-44D7-ADEC-1DF4F41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593751-92C1-4C69-A36B-24D25F0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22EE78-0435-41AD-9F39-B04EA37D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1158004-FC2B-4070-B055-750251D7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D92316-87AA-47F8-8FD5-0F6A05FB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F7E1EF-252B-444E-BA6C-873E3FCC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A6531-D480-4FA4-B32A-20A40BD8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8F532C-A55B-473D-964A-F3D9B980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105177-1BE9-437D-A69B-09105AF4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D4FABD-29FE-459A-B7FC-995DBD5C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3C966C-FBE1-4F0D-A9C2-CEC5E08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2CCB9E-25E2-48FD-8118-04A9DDCD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5A58A3-E1D8-4BEE-ACD1-75177A9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E52A83-16DC-4320-945A-C4452EF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85E53D-B5F1-440A-AE75-747FC5A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AE844A-98EC-40B8-AC42-13CC2A2F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F3911D-6CE7-43C3-854C-73DCAD5D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8C8AB-7019-45EA-91A8-589B4F36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D4D2ED-0170-47FE-BE40-6F4BDB2C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833950-074F-47FD-A096-F60B3CA2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302336-3093-4563-AF28-42813E7E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109CF7-FA1F-4B0D-A0BC-A27EBCB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2FCCE50-38BB-41F5-BFAF-7B4C1755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C5CD25-02C9-4D33-9678-8FC1D17E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8F6C46-26D1-4BEB-98B5-BCC45114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F2CEB1-4EA0-43F0-8631-79971A4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E9A48E-BDC6-455F-BACF-0CF6610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DCD938-C4C9-485B-8A56-7FF653B1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41D55-4987-41DC-BC87-17F5F05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74C392-E819-4918-9E22-4A580AD2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82D48D-C69F-47E1-9257-7160E355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28F47D-2C14-4ED3-ABD7-EBFA2A88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F05530-5803-430D-8135-9F638ADC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A083CC-C3E9-48E5-86DA-7B59769D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1BD112-BAA0-4FCB-B8E6-27A5FFC0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B94E3B-86EB-48BA-864E-C4C5ACAB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368394C-A70B-4E5B-B374-10F3C8BA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71F94D-B833-4A02-B367-200F7B8A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0F33FA4-EEF9-4901-BCAB-FF83A52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6E5F-1835-4341-8FB3-E71B701AB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7569C-1C9A-496E-9F1B-3A2E332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EA7F3D-E0A5-4691-9E22-D9A4317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32ED7EF-CC9D-4322-86D0-7F3A223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28A3F7-2A4C-437A-9DC8-4B73F9C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CFDBB0-5574-44A6-AD0B-A858AB39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B0E16A-FD63-4FCA-9C09-FD235455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E3AD2B-5D67-473F-B72C-98BCE2E8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D43D94-D6F6-410C-8431-C828BBD3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FB6A72-FA48-4602-BB61-4ADEAED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CEE0D7-603B-4420-8D58-D9B54B33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33C379-B242-4D1A-91A8-3D1009DA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DB174-83F2-4818-8234-277EE291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D6236C1-7DB5-4A3E-A8AF-80D8643D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E0B6BD-20E7-4C52-88A4-DDE6568D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4E5326-0F36-4A4D-8B89-280CDDBF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8F9E9E-F795-4244-A824-1C0ACD8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8AC9AC-5CDB-4D7F-8D4F-1F6B2009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84D6ED-FF06-48F3-B672-FF73D52D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D2ACFF-5BC4-443C-A3BE-6CF15EF7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D6DA6-F983-4674-943C-0D83AA1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3E030-1831-4FA8-B9E8-62ACF235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CF76D-0316-4EC8-9A0F-C32FFCBC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A5CAF5-8AF5-4770-80B2-CE098681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DC221-774A-44F6-B969-B1852F17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365D4-D3F4-48D8-93CA-59CD31A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CC69D-62EE-4897-B637-4D02E47E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57312-156B-4002-92D8-55B73E30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BE01-C44A-4D9D-B510-97D7296408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E17B0-F7E1-4494-A433-F701EAF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88A61-2EA8-43D2-852F-633DFBC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2CDB1-F12C-4230-ABD1-32210C4C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A1091-684F-472A-87E7-F3A9698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BAB96-76E8-4B71-A093-F1120E6C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C75B76-6D1C-40FE-BB2E-F1ADBFCC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E8746-9073-4FB4-8B62-F2BBD327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9372B-7B20-4A48-BC15-F26EE3C5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10B81-DD4C-4AE8-9312-135A5B4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C0764-BDDA-48F3-B072-BF352D5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C054-BCAC-436E-8201-55CBBF09A1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5BB52-70E1-476C-92FF-15E46FB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9A8E7-B939-45C8-9FD7-5BAABF8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D214F-4149-4751-89B9-34E4DA13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FD193-A500-400B-8A74-80ED232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A344A-7670-4D67-8798-4A378F9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43356-7733-4958-AA9F-619F4C8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58B71-9221-4394-B042-883AF19B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375EA-EE08-4A3D-9240-D21E2FC5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ABC1A-6BA6-41A2-B6A1-BE1B22C8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CD0AF9-7A2A-48E1-99E8-64575AA9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8AF6-D884-4F27-A6BE-20D65AE564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05767-642B-4DD8-BB86-C5B942FD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C91485-A9BE-4DD1-AC63-B2180399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D180F-F165-4592-9CFA-D31FE57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66B84-8465-49ED-95F2-874EA31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337AF7-F835-4CBA-AEB8-44B11AC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DAE36D-328C-4F6C-9BD0-F469E59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EED1A1-E168-47A2-BE20-7958C56E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3688A9-C504-4A53-B466-2191749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71ABF-D72D-4F1A-8659-9D25AB35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616E56-1446-409D-A052-7B19DF38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AA18-42A6-47DA-82D6-21872C37BF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1566F8-F726-4F74-83B0-E73FCD82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F23620-8886-4954-8814-8CF81994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27BE2-78FF-4C2C-8415-9123D679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5F3D36-11C0-4117-92E3-7CB31A2B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FD52FA-C169-499F-9E27-2E0B9837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7CCA5-A0B8-45B3-B582-B24C2C7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45B2D6-FC1E-43CA-8425-634D0394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A89B9A-E9E3-4F95-AA07-FBB3209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96CD9B-5285-4E03-9AAA-30FC882F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D7C9E2-7799-46F1-A047-4438330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FF31-9942-410A-B6CE-B2AEDC852B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214F9D-A598-4234-B3F3-279262B2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644CDD-0A41-49CE-AAFD-CB9CBBB4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2A755-B4D4-4D66-AC4A-D934C445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8BC346-D0FC-49D6-A935-8D592CAF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0B40A6-750E-4EC0-B1D9-A839330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F032E-B421-4897-A8A2-8EDD2DE4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6F2B1B-4A1E-4A49-9FF4-169F82D3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E1D6C-F5E8-4F65-80CE-8C629E85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ADECF-CB94-4895-920A-93EA6EA0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2B675-5496-4427-8E07-3CD2340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AA02-FA21-4FB5-AC07-7D2BA11B8F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79ABB-23E6-4593-8670-1142E04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0547C7-566B-4508-8DAB-AF50793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75AC61-EF5A-4AB6-BBEC-363CE08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23DDFB-AFBE-4C07-BB51-56F7B798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4ECBB3-2088-4CC2-8AA2-BD66BEC3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BE4ACD-882B-476A-A3A8-D091CAC8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E11BA-9E7A-4D21-B903-DA6CCBFD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A413FB-F8D9-4C51-90FA-235F3E86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2E88B-0E26-4155-A57E-287461A0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59C99D-3D06-45C9-840F-F557CEB1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D5F8-9624-4399-8B8A-62720AA71F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5AFAC9-2BA0-46BB-8CE8-140F2748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8DC79E-B854-468E-B912-6BAA9B52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3B588E-6B2A-4BF9-ABC9-2B9BDCC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C72FB-BB55-4C0A-BBB8-E111BCE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1E3110-7468-47F0-9BCB-833CD6B8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2969C-F70F-4645-AA1C-4A244B8F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C043B-A0AC-4321-AA25-9C397870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42630-F079-445C-9DD9-8825BE6A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70FD4-8876-4FFC-835A-BAFBCAA8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2C201-54E9-4F62-AB69-B14A3AC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0" y="960480"/>
            <a:ext cx="9144000" cy="179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" name="Text Box 17"/>
          <p:cNvSpPr/>
          <p:nvPr/>
        </p:nvSpPr>
        <p:spPr>
          <a:xfrm>
            <a:off x="3322800" y="950760"/>
            <a:ext cx="58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7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4c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158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158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847000" y="6656040"/>
            <a:ext cx="363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E4AC-D655-45F5-8C75-0875568DE005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" name="Picture 24" descr="bund_RGB_pos"/>
          <p:cNvPicPr/>
          <p:nvPr/>
        </p:nvPicPr>
        <p:blipFill>
          <a:blip r:embed="rId2"/>
          <a:stretch/>
        </p:blipFill>
        <p:spPr>
          <a:xfrm>
            <a:off x="203040" y="177840"/>
            <a:ext cx="2840040" cy="711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5"/>
          <p:cNvSpPr/>
          <p:nvPr/>
        </p:nvSpPr>
        <p:spPr>
          <a:xfrm>
            <a:off x="4705200" y="233280"/>
            <a:ext cx="4513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Federal Department of Foreign Affairs FDFA</a:t>
            </a:r>
            <a:br>
              <a:rPr sz="1000"/>
            </a:b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Swiss Agency Development and Cooperation SDC</a:t>
            </a:r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4994-CA45-45A3-9058-9BF0733A72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A0EF-43B7-4F89-9940-CB9E629B1219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98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99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437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438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A0B3-4D25-42FC-B26F-2C9CE3BDB384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43E6-5211-4B7F-9B4E-5CADE9BFDE42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481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482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A9EF-9D86-4533-AA13-D488FAA287C1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51A-E279-4FE7-B1CF-3079DC122816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25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526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E86-004A-453D-9FDF-B24B38DD0C50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073B-698C-497D-BEE3-BBD9F701B6C3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69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0680-E10E-42A2-B157-8391AA1A6767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7985-C47E-42EE-9E67-158BD6CE348E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613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614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94F7-F02D-4F2A-BA26-24B6FE153244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327-8AE6-4025-9160-C29DFCB0A37F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657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658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BD2-CA69-425F-BAF1-936C42F92D7C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D52-22E4-4BF8-BDE6-CAA2D7206357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701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702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FCF3-C40A-4A7E-9075-C567125587F1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0F9A-70E6-4460-A392-ECCEB567E01A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745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746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6FE7-9A40-4AC8-83D8-723F15E05308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117-EE95-43A2-896C-624C2FA42A7D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57BE-B13A-420C-B8D7-EF88ED1D7A3A}" type="slidenum">
              <a:rPr b="0" lang="de-CH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441E-41BC-43A8-A971-8F21A9803F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C395-F629-4ED1-9F88-BBF420AF78E9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90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91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D408-074C-4FA1-97A5-5539236EA9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5E5F-FD18-47A7-AE50-5312B4C484F5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134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135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37F-1553-44EB-B303-73DBB5E5CE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ACCB-2C6F-44E8-8FAF-71B94B38A1B8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178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30B-B611-4458-BB44-6C1561CFA6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FC73-7718-4AFB-B804-EC16B996EE5A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222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223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D434-ADAE-4E38-85CD-E9C70CFEF9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46A1-3046-4ABB-AA40-CE071A364FB7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266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267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2E58-BA88-4B31-BB48-012480248D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730-B51A-4E84-B76A-336E957FAE8D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10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11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B760-B440-4C73-BBC8-68CCECD594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7D7E-42B8-474C-949E-62C671ED6B51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54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55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dc-decentralization.net/en/Home/Community_Affairs/Community" TargetMode="External"/><Relationship Id="rId2" Type="http://schemas.openxmlformats.org/officeDocument/2006/relationships/hyperlink" Target="http://www.dlgn-f2f2011.ch/?page_id=710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1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5D86-EAEF-439B-96A0-0B077A52B36D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422280" y="4043520"/>
            <a:ext cx="8369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uno Schläfli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cy Advisor for Decentralization and Local Governance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iss Development Cooperation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743040" y="1725480"/>
            <a:ext cx="767700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SDC approaches </a:t>
            </a:r>
            <a:endParaRPr b="1" i="1" lang="en-US" sz="32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as a Precondition for Change</a:t>
            </a:r>
            <a:endParaRPr b="1" i="1" lang="en-US" sz="32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ustainable Municipal Finance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iscal Decentralisation) </a:t>
            </a: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Donor grant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C77E-BEAE-467C-ADBD-0F564E3646FD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68360" y="1413000"/>
            <a:ext cx="7991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 away from project funding to providing local governments with general development gra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nd towards formula based grants which have performance criteria attached to them (PBGS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ngage in basket funding of (performance) formula based grant systems to local governme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only engage in piloting if mandated by governments in the frame of policy cycle management. 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Borrow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C93D-76CA-4918-833C-151EE464892D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7" name="Text Box 23"/>
          <p:cNvSpPr/>
          <p:nvPr/>
        </p:nvSpPr>
        <p:spPr>
          <a:xfrm>
            <a:off x="468360" y="1413000"/>
            <a:ext cx="79912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in transition countries donors support sub-national governments’ access to loa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 Support to the framework for local government bond issuance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 Support to local government development bank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 has no such experience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xplore ways of drawing on Swiss experiences with linking small municipalities to the capital market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Borrow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C58-1594-42C8-ADA9-ACE4D6FD7DDA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468360" y="1413000"/>
            <a:ext cx="79912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in transition countries donors support sub-national governments’ access to loa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 Support to the framework for local government bond issuance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 Support to local government development bank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 has no such experience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xplore ways of drawing on Swiss experiences with linking small municipalities to the capital market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Capacity Build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965A-0B04-41F8-98A2-ED600FE6B2CB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468360" y="1413000"/>
            <a:ext cx="79912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to build capacities at all government levels (system development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development for advocacy/lobbying, service provision to member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work within the given national structure of capacity development instead of working with NGOs or non-mandated institutio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ngage in providing capacity development voucher or grants to local governme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2C72-B88B-492B-BCF4-2F987B044CAC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Consultations at the F2F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79080" y="2125800"/>
            <a:ext cx="82897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tion of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knowledge that supporting municipal finances means interfering in /influencing domestic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providing financial support to LG, SDC should strive to work on-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y to influence the criteria used in the formula to have SDC values reflected (democracy, (gender) equality, poverty targeting, sustainable resource manag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engage in pilots if clear links to national steering platform on fiscal decentralisation exists to feed in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D6E7-0962-432F-85CF-1C31E4AC8126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Consultations at the F2F (cont.)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tion of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multi-stakeholder platforms (gov. Partners, LG, civil soc.). Include elected legislative structu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LG in their capacity to prove credit worthiness (access to credit institu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cus on supporting municipalities’ own revenues because of its potential to improve a) local autonomy, and b) downward account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in the given national system of capacity buil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and orientation for CapDev! (vouchers, grants based on municipal caDev pla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7942-6B4E-4EA2-ADE5-5A479E3E8C4B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Discussion-Workshop at the F2F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0d0d"/>
                </a:solidFill>
                <a:latin typeface="Arial"/>
              </a:rPr>
              <a:t>DLGN Shareweb: </a:t>
            </a:r>
            <a:r>
              <a:rPr b="1" lang="en-GB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dc-decentralization.net/en/Home/Community_Affairs/Communi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GB" sz="1400" spc="-1" strike="noStrike">
                <a:solidFill>
                  <a:srgbClr val="0d0d0d"/>
                </a:solidFill>
                <a:latin typeface="Arial"/>
              </a:rPr>
              <a:t>ivities/F2F_Sarajevo_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0d0d"/>
                </a:solidFill>
                <a:latin typeface="Arial"/>
              </a:rPr>
              <a:t>Public blog F2F Sarajevo: </a:t>
            </a:r>
            <a:r>
              <a:rPr b="1" lang="en-GB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dlgn-f2f2011.ch/?page_id=7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you fin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Recommendations with comments and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olidated replies of e-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deo feedbacks from participants of the F2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sonal Learning’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20E-A062-4C09-AA3C-6D328F955A8D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of a Learnbook (interactive t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, distribution, thematise in events,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ze shared “best practice” as “thematic standa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AD8F-AFBC-4B1F-99F5-949E26B8CBDE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6684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Learning Project « SMF » of the DLGN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of 6 learning projects prior to F2F in Sarajew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 case stud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eer review 8 tea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0 members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allel: Analysis on “international state of the art” by consul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54C4-AF11-4C94-BF45-02A7E7B0BA4B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Three domains of self-assessment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11200" y="2217600"/>
            <a:ext cx="8066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ultants moderate process: three streams of ref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or Grants and Fiscal Trans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wn Revenues and Borrow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Building Capac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2B36-77CD-4C04-BC8E-F9D08B512C99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88960" y="1388880"/>
            <a:ext cx="855504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E-Moderated discussion on Donor Grants and Fiscal Transfers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11200" y="2627280"/>
            <a:ext cx="8066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sk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. Donor Grants and Fiscal Transfer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 you agree that SDC is rather funding own pilots than supporting nationally defined formula based grant systems? Do you know of exceptions to this statement? Please share your experie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) What are the main reasons why SDC has little experience in supporting performance based grant system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) What are the main reasons why SDC has limited experience in providing technical assistance to establish or adjust intergovernmental fiscal transfer systems?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2E6E-DF80-4851-B155-0AE0279A94EB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88960" y="1388880"/>
            <a:ext cx="855504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Preparation of the Debates at the F2F in Sarajevo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52440" y="258912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olidated reply on the three de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allel analysis on “international state of the ar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ultants compare SDC practice (case studies) and “state of the art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80596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in Results of the Comparison of SDC experiences with internat. “state of the art” </a:t>
            </a:r>
            <a:endParaRPr b="0" lang="en-US" sz="36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476360" y="5229360"/>
            <a:ext cx="6400800" cy="111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atthias Boss / Katharina Wal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March 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itel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Donor Support to Sustainable Municipal Finance</a:t>
            </a:r>
            <a:br>
              <a:rPr sz="1800"/>
            </a:b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-</a:t>
            </a:r>
            <a:br>
              <a:rPr sz="1800"/>
            </a:b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Comparing experiences of SDC and the international state-of-the-art</a:t>
            </a:r>
            <a:endParaRPr b="1" i="1" lang="en-US" sz="18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Role of context factor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3EF8-0BEB-4DDA-9CA2-99A44E9BDEE2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468360" y="1413000"/>
            <a:ext cx="79912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 factors important for design and result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ircumstances the most important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to municipal finances is effecting: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ts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 relations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landscape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2401"/>
              </a:spcAft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SDC needs to acknowledge that by supporting municipal finances it always interferes in domestic politics.</a:t>
            </a: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Own revenue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6607-FFF6-4CFA-A4BB-CA99C4CFF729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18" name="Text Box 23"/>
          <p:cNvSpPr/>
          <p:nvPr/>
        </p:nvSpPr>
        <p:spPr>
          <a:xfrm>
            <a:off x="468360" y="1413000"/>
            <a:ext cx="79912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d is conducive legal framework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’s experience exist but is limited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put more focus on supporting municipalities’ own revenues because of its potential to improve: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local autonomy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downward accountability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Intergovernmental fiscal transfer systems 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4584-58C4-43EF-9EAF-F982DA07914E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468360" y="1413000"/>
            <a:ext cx="79912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trend towards supporting formula based equalization transfer system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DC experience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move away from providing conditional grants to local governments to supporting overall national transfer systems (commitment to Paris Declaration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access knowledge form the Federal Finance Administration on issues of fiscal transfer system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28:53Z</dcterms:created>
  <dc:creator>rohner Christa</dc:creator>
  <dc:description/>
  <dc:language>en-US</dc:language>
  <cp:lastModifiedBy>Christoforos Korakas</cp:lastModifiedBy>
  <dcterms:modified xsi:type="dcterms:W3CDTF">2011-08-31T12:43:42Z</dcterms:modified>
  <cp:revision>234</cp:revision>
  <dc:subject/>
  <dc:title>Slide 1</dc:title>
</cp:coreProperties>
</file>