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53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54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 type="sldNum" idx="55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774551F-8F3E-4B79-BA69-D97F7A25C4A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0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4007ECC-6280-4991-874C-0306F9EB9C9A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3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68BE379-33C6-4EF2-8E4C-BB630D96E552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6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0C79588-33C8-4B32-B84B-D5074F05A3D8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69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16C600-B7D2-4A11-8B0B-398904AE9ED7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48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0CB0477-17A5-44B9-9FFE-8BB7919ABCFF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851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736810F-CAE0-4E9C-8D2F-07139843F80B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ormation to citizens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; establishing or updating the basis for tax assessment 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); making donor grants or fiscal transfers conditional on the level of tax collection; adapting legal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6653313-E727-4158-AF6E-4BF37620202E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tional ownership and political will cru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liennummernplatzhalt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FA31CA0-3487-4F05-974C-985D4E771E77}" type="slidenum">
              <a:rPr b="0" lang="de-CH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50C2-9808-4239-8E76-2D8564707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A24F-984B-4568-93DB-BC170D3965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7F77E-C0CA-4945-AEBC-0851CD78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7EA07-AB5F-4664-9612-7476BA9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54F5D-F42B-433F-BEA7-1FB2380D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87387-6E3B-4302-AE48-73499160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A1534-3360-4E4B-A0A4-173163E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517E8-79E2-4377-AFD0-83E0D8F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3B3CA-7390-44FF-9E87-5CCE51D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6A495-2B90-42C2-ACAD-9FD5D6E7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1DE48-C44B-4F74-8A75-DD8C7E76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7016E-BF7F-47AE-9B6D-D5A9C4EB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8D51-51FE-45C2-B9DD-8B92307A24F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16746-264F-459A-B5F2-4B91CC0E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526B4-E80C-49D9-BAFA-2ECED1BA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F786C-A415-4CC2-A4EA-7C8A9496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DBE19-4A3C-44BE-852B-5C36692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3E4D9-B45B-44F8-90E1-4A80FEA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28AAB-5AF7-4A2C-B942-24396FE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F6A49-0E60-4B61-B0E5-1B14ED71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E96F5-999B-4EDE-B932-68F029F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44B3C-01BF-4EB6-8FBA-F74D7E0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3EA8B-F994-4661-B300-47E601F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0C29-1F89-4CEE-9E09-E823C02D3F8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95BFB-2799-4A7B-A267-BCD506A2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C92EA8-527F-42B1-90CB-B81B8055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EF3559-70A5-4F69-BC04-C3CA9C5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611621-3494-43DF-8F27-FA8F24F6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FE3A1-B48B-4326-BF84-8AF2B2E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BFD10-DC5C-4C88-9068-9E3F358B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4EEBB4-3507-4719-A234-E50C0C1B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CA31D1-6471-47AE-BC92-97C1189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1146B8-7367-4E5D-AC88-C20D583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C3D9B9-E6EA-4DD6-85B9-A5FD869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2BA2-E1BC-43A5-B5C5-EB60BBD9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8EA8E5-296E-4275-8728-1A6F7FA2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5A9CB-6350-4CA5-A06F-2F7B8EFD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A98CAF-1984-4744-9EF6-A534E9DC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BBD73-40C7-405F-BE0E-39FC70B6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9BB1A-F75B-48E5-B24C-3E8863C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0980D-0849-42FC-B8A0-BF13B1EF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8107C-5513-4081-9718-CB423FA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ACEE8-1084-4292-83C2-202295C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23F3F-DAF5-40CB-A2B1-D8C25341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A59DE-52CA-48C9-89CA-D45BDE3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0BEF3-ECB1-45B9-B305-1A9719C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5F58A-4248-4F4A-86F1-B7B8EC6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78D70-1137-49C2-8885-47B00ED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60936-76F7-4131-B1DE-4888D622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EE4FA-55E6-4315-A287-C8902FB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0DE57-F689-4E19-9494-B9A9D98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7FDD64-E420-4B33-8649-1DBA556D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41D7AB-1FD1-44BE-9217-DA0FBE75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033C4D-C788-4931-8B1C-AC21E66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D9627F-D2B6-43DD-8E7D-0C7062DB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C4EE62-86E8-4E8A-A662-6A0F406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1FFB1-E6D6-4AB5-B047-FE2A740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2128A8-7FB3-458A-9A45-C87E5BD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F5C8AB-3474-4880-B899-E591C17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DF721B-3E0A-434E-B9CC-22C48AF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18E785-AD6B-4BF3-940A-703556FA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59C5C1-B2C6-4232-A492-F369977D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CE6D3D-F6DE-46EA-A2AC-AF470FF1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61AF9-8A2B-49BC-B092-FCD69569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07956D-745C-4BEC-8939-CAAECEE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7CDC3D-8B4F-4C41-835B-E676DAD6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59CC0A-2DD7-465A-8AAC-C925D73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06319-55E8-4639-9E5D-5FCD945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B2A46D-F99C-4B13-BBCE-4088797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94D332-ACFB-44A6-AC9D-E81202CD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717D9E-0D20-4B89-AD53-D9D0E36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2EE0E2-08CE-4D68-8EC7-F7AE32C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44D53C-B840-484E-AE66-9E2C54C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4C7EEE-AED6-4D1F-B540-E4455EF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9CA5CF-3359-4662-820E-F7395F35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AC9163-1213-4494-A921-84273BE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536C19-BE4C-43D2-9421-22339D92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9B6AD8-72CE-4F2F-8F1F-DFFFFB8B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CF8AA-3FEF-4C13-A2CE-A8FBF68A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04A5E4-19A6-48BE-822C-9E2D9EA0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A3BD63-38E3-4176-8D1B-E4F7D347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98146C-B79E-4800-BFD7-7B76641C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F5CAAD-BD02-4EEF-82E5-0F6B4B4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1F6053-738E-4F49-8A5F-1DBAB75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A06F31-B3FF-4594-BCDB-B6BE8B8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F5C767-D324-4C71-8EEF-DE314A7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DD86F2-6C68-4042-92EF-7D1FAFE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EC41DD-B031-416C-9A0D-3D9CE89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518EB8-BD7F-49F9-BAEE-A70E894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ECF83-21A9-4F37-949D-7F15AE8A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7AEE64-B3DD-4CF3-8EBD-18729143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DBE400-2B6D-447A-A8F9-7245BD98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942DA0-EA64-46B7-A0DA-54496123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D4F607-EA42-4362-B7AE-C701F96C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963EF4-38AA-4178-9A46-47895742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EF7BAD-7D3F-4A90-9F68-B1A72C7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9E12C8-68AD-4A65-A8CD-373168D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DC62C8-21F7-4121-BF04-57A31FF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A54FF2-9A90-452B-9A37-F8A81A3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FDEE89-E378-40C5-8512-E38B7D3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76F22-726B-4457-A877-332667C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3BD947-6697-49CB-9CEA-60F9F12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2C093E-0DFB-4D80-A03A-1808CA3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D46202-D69B-4E4B-BE4C-3F16B1EC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C70B5A-CF5A-4786-BCC2-D056997F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C51F5F-FB3C-41E7-8705-44E7D76F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585CAE-CEA3-4226-BBC5-1588E034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0D9BDA-4391-4E97-BF36-7C1497F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0394BB-928F-4413-96FE-499A6E0B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E2FAFA-5398-4B8B-B22C-B585747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5CBE85-14A3-4CC6-9B03-00A1799D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E591-8F62-4033-8852-97B4363E0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5260-8CB4-47C2-BA18-AB8E0DF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BF170F-995B-443E-8C34-F6FCB883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88FB0D-54A2-415F-BBA0-8DE3F84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2C386F-5380-49FE-A0C3-1443957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5BD4C9-1040-4AE9-884E-F54C3396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A5BCBA-9A82-41F1-94FA-36D91039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930ED0-6D95-49C5-946F-B01CF32F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397D7F-57D5-4523-A5D6-7D4D22AC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8323E2-2DD1-409B-9743-A801D6E9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00AB89-C103-4FD5-8F32-0CFB203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B7179A-89A7-42D4-8C35-6873DA7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5671-34F0-4E2A-B612-4015BCD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198BD3-0C38-496D-AB4C-CD0B7F7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461530-3933-485B-967B-06D4BB4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4BD64C-C7BE-4C37-BEE9-04A7A71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157EE7-D681-4984-A8DE-1EA823E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F6F71E-501E-46D3-A59A-7EC377F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AC83A3-793A-4BEF-B5DE-B0815F02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71FD72-6B5B-4DEF-AA98-A12BE3E8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F4B8B-D110-4D7C-B4F9-D102F52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45B3-1C5A-42BD-B7EC-F3BDBEA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056BC-07C6-439B-9C5E-E0676084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C9A63-2374-4C28-95D1-8F7DB94E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CC3B2-6D73-4605-9897-27B73BD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6DA90-9333-438A-8ABE-A5DBCDC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475D8-3810-49C5-8C46-CB28F0E2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B5ADF-6371-413A-8877-B1E2F597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B7F9-1159-4D00-A48D-CF8B669B59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A96B7-F659-4DC5-9B23-BAB8203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80864-C6B7-4073-A620-DD2F6471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56521-4EC3-4E6F-9341-F995EB8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5D1C6-D56D-4176-A86E-763B7DA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48D57-DCCD-4FF1-9A0C-8F9A18F8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47B20-03EB-452D-A4C4-E93E5918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47CFD-E84C-4EC9-82FD-0B080174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5A300-AE81-4880-89D9-98292C69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49C28-824A-492F-8665-6F359A3F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C3194-BEFA-4D8E-ABD7-5571D2AB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10BA-C2BD-414C-A239-EC11DED116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98C29-590F-4ABA-AC5C-895C5F4C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B768B-094B-4FA0-8A45-D6816D6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6B408-81CD-4FE9-AE91-5AD6DFE5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718B0-3682-46C2-8AFE-82AF175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EE19B-E536-4501-953E-779A56E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1075B-3F60-4F96-9FC5-B3EDA62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61486-CB59-4CA4-8B07-7FD9373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DE24A-17CD-4F04-997F-1583F686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E6430-A1CF-4707-A3E1-7F6CFEAC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4FE3DF-4134-48CC-A5F3-CA601C85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BF51-F996-4461-B9CF-E493881DDB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8261B-9703-4EF3-A1CA-5C92AA79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89B63-17C8-4B15-8D5B-6F6348A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3917F-8913-43BA-B11E-979EA004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927C7-C350-406D-A912-F174BF89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2AE3B-A7B6-460F-977D-F48E931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F2E4F-9A36-4DE5-BF29-77F4ED9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A9D3F-10DF-4753-8A5A-9431A7D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CE89C-A3E8-442A-AC77-849CB2B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8F693-81AA-42DF-869D-01F859D8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18089-E0ED-4B63-B459-98479655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5A08-536C-4B65-AE50-3FF61B30C8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4BDAE5-F8B4-41BA-95E5-D7C8EDBC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D749E1-D865-4EAA-9B6B-CDD92DC8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07194-68B4-44B0-9B0C-C57E181C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06D16-1EB6-49EE-ABDD-84369B7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D5482-2BD7-4ECB-B868-5959272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4F6EA8-E8CA-4C95-97B4-68966E6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D2CE2-C92E-45F0-B584-93FF685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530FE-71AD-4E58-A688-A2B77AA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241064-C52E-4215-9D1A-774A0E89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73D31-1F90-4522-B916-15BDC40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DE12-9E50-48FA-B83C-30E7C08722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DB0AA-F32C-4F0C-A3C7-FBD6732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C59CE5-5A1B-40C2-969B-DA051181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12DB0-869F-4C00-B99E-0336ADFD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FCDB65-3338-4F12-ADE7-6D155486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88072-D8A9-4515-8BA8-080434C9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9E74AC-BF70-49DC-981B-260B64A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E2168-729C-4ED4-A642-E26D8501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F0C711-226C-4D27-8918-BED9409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363D90-8B02-4317-AD6F-3DE8941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59746C-CF26-4617-BFE8-23C4999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72D4-C91E-41BF-A66F-F86A129B22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748B9-FD08-469C-BF05-E1409E9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779E0-DB54-4D1D-9617-3C93C88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882FF2-472B-4D96-BE6D-EBCEADC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24CA89-0D0E-40EA-88AC-AA44719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E1D94-E9B9-458D-AEAA-DE171052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F7856D-4C6F-4531-9309-965D9C2F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48247-1031-44EF-95A5-FC66029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3E066-D656-4B01-9432-FE36B1F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15C72E-D895-42B4-854A-E3F3F48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4BD2C-603C-4971-A6AF-DE53A89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0E76-B199-4F4D-9BD4-DAB1E8500F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58920" y="1719360"/>
            <a:ext cx="85550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0BBC0-BA97-456C-9E0D-3F33CAC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798D89-1BDC-4A70-A853-0E3ADECB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0C04D-0621-4293-81B9-517D5EF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129B4-24F5-4062-8FCC-C00F866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1960" y="4624920"/>
            <a:ext cx="650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493DF-2319-4ED4-9B44-FBEAF003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84840" y="243324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196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984840" y="4624920"/>
            <a:ext cx="31737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75290-BFD6-4F68-8D19-1647812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85120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50440" y="243324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196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285120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050440" y="4624920"/>
            <a:ext cx="20941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C78101-30AB-47CA-90F3-841AEEF8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C72D6-0652-4EDA-BD24-6FCCCEE3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C1611-00D9-46CB-B8B7-ED858D6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07443-D650-4429-968E-633B5F74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960480"/>
            <a:ext cx="9144000" cy="179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" name="Text Box 17"/>
          <p:cNvSpPr/>
          <p:nvPr/>
        </p:nvSpPr>
        <p:spPr>
          <a:xfrm>
            <a:off x="3322800" y="950760"/>
            <a:ext cx="58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8920" y="1719360"/>
            <a:ext cx="8555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7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1960" y="2433240"/>
            <a:ext cx="65041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4c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158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158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847000" y="6656040"/>
            <a:ext cx="3636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C846-E91D-4A05-94D1-606615E25D95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" name="Picture 24" descr="bund_RGB_pos"/>
          <p:cNvPicPr/>
          <p:nvPr/>
        </p:nvPicPr>
        <p:blipFill>
          <a:blip r:embed="rId2"/>
          <a:stretch/>
        </p:blipFill>
        <p:spPr>
          <a:xfrm>
            <a:off x="203040" y="177840"/>
            <a:ext cx="2840040" cy="711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5"/>
          <p:cNvSpPr/>
          <p:nvPr/>
        </p:nvSpPr>
        <p:spPr>
          <a:xfrm>
            <a:off x="4705200" y="233280"/>
            <a:ext cx="4513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Federal Department of Foreign Affairs FDFA</a:t>
            </a:r>
            <a:br>
              <a:rPr sz="1000"/>
            </a:br>
            <a:r>
              <a:rPr b="1" lang="de-CH" sz="1000" spc="-1" strike="noStrike">
                <a:solidFill>
                  <a:srgbClr val="000000"/>
                </a:solidFill>
                <a:latin typeface="Arial"/>
              </a:rPr>
              <a:t>Swiss Agency Development and Cooperation SDC</a:t>
            </a:r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33C-18B6-4D63-B5F2-935F797EF0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8FD-8903-41F7-A5BB-817B1CD097AC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9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9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3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3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DB4-9A0D-4494-860C-C6791F136B33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474-4B2F-46AB-8810-AA28567BDE19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48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48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70F4-B7A8-43CD-B6B1-B1D4818BB5F0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BD4-9379-4FE7-8F33-2E3304B1A26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2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2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B6D9-58CD-4942-9E7C-00E7371C6444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23BA-558D-4C3D-B79E-345BDB6DD5B6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569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BE01-5ECF-4CEF-BE1B-8FAFA2E97CD5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A9E6-97B4-489D-A8A6-E43A4A518E45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13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14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677-6D31-4C22-9133-02FF9D2D2CFE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91C6-C09A-4562-AD1D-455BF7FE265E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657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658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960-5DE3-4523-9DEB-9AB06B3FB51F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ECD-5771-4D9A-BD2B-79B1889EDD5A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01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02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D6B-1DD6-49DB-AEC4-7F9DAC139C98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F3B-0EDA-452D-9769-7222FC01AE1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745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746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5601-40AF-4425-8757-C6C06B2C2D22}" type="datetime">
              <a:rPr b="1" i="1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8330-4A45-41C1-9FB4-74CB14807942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AF4-28DD-462C-A0EA-22209CB672D0}" type="slidenum">
              <a:rPr b="0" lang="de-CH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i="1" lang="en-US" sz="1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DD2-6984-4664-BB93-AB442009E2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D9E-2F97-4A31-9C79-B47F04004F49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9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9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B39-6956-4A67-A01E-78701438C3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0B43-B872-4B22-9DCB-C18B8828577C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3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3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FA4-BEB0-488B-A514-05DB5D2AC6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440-F674-43D0-814F-76DC79215D97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178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ABA-65E5-4A7F-9A92-84ABA51D9A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372-DDE2-4EC0-818C-A311B1A3CC6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22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23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1BF-0D6F-4D43-B26F-219FC40022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00C8-2016-4D44-A066-EA55A80099CB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266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267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816-C6AA-48F5-9ACB-9F1014B9F4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BC2-D20D-40F4-8F48-EDE735E79F5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10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11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2CF-8331-4BD7-9B1D-1604A22A23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E2D-3D7A-4FD7-A661-AB3D3B4CF9E3}" type="slidenum">
              <a:rPr b="0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  <p:pic>
        <p:nvPicPr>
          <p:cNvPr id="354" name="Picture 10" descr="C:\Arbeit Sekretariat\Drucksachen\neues KEK-Logo\KEK-CDC-Logo_2.jpg"/>
          <p:cNvPicPr/>
          <p:nvPr/>
        </p:nvPicPr>
        <p:blipFill>
          <a:blip r:embed="rId2"/>
          <a:stretch/>
        </p:blipFill>
        <p:spPr>
          <a:xfrm>
            <a:off x="142920" y="6429240"/>
            <a:ext cx="1071360" cy="27000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>
            <a:off x="181080" y="6337440"/>
            <a:ext cx="8535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dc-decentralization.net/en/Home/Community_Affairs/Community" TargetMode="External"/><Relationship Id="rId2" Type="http://schemas.openxmlformats.org/officeDocument/2006/relationships/hyperlink" Target="http://www.dlgn-f2f2011.ch/?page_id=710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1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A33-E3A3-4714-98AD-4FEB01153949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422280" y="4043520"/>
            <a:ext cx="8369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uno Schläfli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cy Advisor for Decentralization and Local Governance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  <a:p>
            <a:pPr marL="320760" indent="-320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504040"/>
                <a:tab algn="l" pos="5619600"/>
                <a:tab algn="l" pos="5900760"/>
                <a:tab algn="l" pos="6181560"/>
                <a:tab algn="l" pos="6462720"/>
                <a:tab algn="l" pos="6743880"/>
                <a:tab algn="l" pos="7024680"/>
                <a:tab algn="l" pos="7305840"/>
                <a:tab algn="l" pos="7586640"/>
                <a:tab algn="l" pos="7867800"/>
                <a:tab algn="l" pos="8148600"/>
                <a:tab algn="l" pos="8429760"/>
                <a:tab algn="l" pos="8710560"/>
                <a:tab algn="l" pos="8991720"/>
                <a:tab algn="l" pos="9272520"/>
                <a:tab algn="l" pos="9553680"/>
                <a:tab algn="l" pos="9834480"/>
                <a:tab algn="l" pos="10115640"/>
                <a:tab algn="l" pos="10396440"/>
                <a:tab algn="l" pos="1067760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iss Development Cooperation</a:t>
            </a:r>
            <a:endParaRPr b="1" i="1" lang="en-US" sz="2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743040" y="1725480"/>
            <a:ext cx="767700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SDC approaches 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as a Precondition for Change</a:t>
            </a:r>
            <a:endParaRPr b="1" i="1" lang="en-US" sz="32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ustainable Municipal Finance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Fiscal Decentralisation)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i="1" lang="en-US" sz="2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Donor grant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0B9-B96C-4022-85CA-2146EAF0D74B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68360" y="1413000"/>
            <a:ext cx="79912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 away from project funding to providing local governments with general development gra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 towards formula based grants which have performance criteria attached to them (PBGS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basket funding of (performance) formula based grant system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only engage in piloting if mandated by governments in the frame of policy cycle management. 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DB86-4D18-456E-84B4-3049A7012798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7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Borrow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B1C-43A4-4959-BF3E-FED9F8D1AB32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468360" y="1413000"/>
            <a:ext cx="7991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ly in transition countries donors support sub-national governments’ access to loa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 Support to the framework for local government bond issuance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 Support to local government development bank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 has no such experience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xplore ways of drawing on Swiss experiences with linking small municipalities to the capital market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Capacity Building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46B-555D-4C96-8EDD-CAA8F0091364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468360" y="1413000"/>
            <a:ext cx="799128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to build capacities at all government levels (system development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development for advocacy/lobbying, service provision to member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work within the given national structure of capacity development instead of working with NGOs or non-mandated institution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engage in providing capacity development voucher or grants to local government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54C7-444F-4236-B1C1-545B132D761E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79080" y="2125800"/>
            <a:ext cx="82897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knowledge that supporting municipal finances means interfering in /influencing domestic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providing financial support to LG, SDC should strive to work on-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y to influence the criteria used in the formula to have SDC values reflected (democracy, (gender) equality, poverty targeting, sustainable resource manag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engage in pilots if clear links to national steering platform on fiscal decentralisation exists to feed in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AD9-B4F8-4CC3-84C8-49D3C097AF00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Consultations at the F2F (cont.)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tion of 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multi-stakeholder platforms (gov. Partners, LG, civil soc.). Include elected legislative structu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LG in their capacity to prove credit worthiness (access to credit institu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cus on supporting municipalities’ own revenues because of its potential to improve a) local autonomy, and b) downward account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in the given national system of capacity buil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457200">
              <a:spcBef>
                <a:spcPts val="550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and orientation for CapDev! (vouchers, grants based on municipal caDev pla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4A9-EAEE-46B9-988A-A2C7385B719D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Discussion-Workshop at the F2F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DLGN Shareweb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dc-decentralization.net/en/Home/Community_Affairs/Communi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GB" sz="1400" spc="-1" strike="noStrike">
                <a:solidFill>
                  <a:srgbClr val="0d0d0d"/>
                </a:solidFill>
                <a:latin typeface="Arial"/>
              </a:rPr>
              <a:t>ivities/F2F_Sarajevo_20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0d0d"/>
                </a:solidFill>
                <a:latin typeface="Arial"/>
              </a:rPr>
              <a:t>Public blog F2F Sarajevo: </a:t>
            </a:r>
            <a:r>
              <a:rPr b="1" lang="en-GB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dlgn-f2f2011.ch/?page_id=7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you fin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Recommendations with comments an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olidated replies of e-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deo feedbacks from participants of the F2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sonal Learning’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C801-6D37-4E10-9B07-F3C19E4B18E0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a Learnbook (interactive t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, distribution, thematise in events,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ze shared “best practice” as “thematic standa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9D29-785E-47F9-B319-D6CC10EACEFA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684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Learning Project « SMF » of the DLGN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26880" y="203976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of 6 learning projects prior to F2F in Sarajew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8 case stud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eer review 8 tea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60 members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: Analysis on “international state of the art” by consul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781B-C22B-4291-AC7B-C7E5860BED28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88960" y="1389240"/>
            <a:ext cx="855504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Three domains of self-assessment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11200" y="221760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ultants moderate process: three streams of ref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or Grants and Fiscal Trans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wn Revenues and Borr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4c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Building Capac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854-9734-42F8-8CF4-9B5B4164E672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E-Moderated discussion on Donor Grants and Fiscal Transfers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11200" y="2627280"/>
            <a:ext cx="8066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sk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. Donor Grants and Fiscal Transfer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 you agree that SDC is rather funding own pilots than supporting nationally defined formula based grant systems? Do you know of exceptions to this statement? Please share your experie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) What are the main reasons why SDC has little experience in supporting performance based grant system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) What are the main reasons why SDC has limited experience in providing technical assistance to establish or adjust intergovernmental fiscal transfer systems?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847000" y="6656400"/>
            <a:ext cx="363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B0F1-7EC5-4F81-8F83-DCD5533C329A}" type="slidenum"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i="1" lang="en-US" sz="10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88960" y="1388880"/>
            <a:ext cx="8555040" cy="11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0000"/>
                </a:solidFill>
                <a:latin typeface="Arial"/>
              </a:rPr>
              <a:t>Preparation of the Debates at the F2F in Sarajevo</a:t>
            </a:r>
            <a:endParaRPr b="1" lang="en-US" sz="3600" spc="-1" strike="noStrike">
              <a:solidFill>
                <a:srgbClr val="004c73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52440" y="2589120"/>
            <a:ext cx="829008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olidated reply on the three de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llel analysis on “international state of the ar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c7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ultants compare SDC practice (case studies) and “state of the art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80596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in Results of the Comparison of SDC experiences with internat. “state of the art” </a:t>
            </a:r>
            <a:endParaRPr b="0" lang="en-US" sz="36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76360" y="5229360"/>
            <a:ext cx="6400800" cy="111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Matthias Boss / Katharina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rial"/>
              </a:rPr>
              <a:t>March 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itel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Donor Support to Sustainable Municipal Finance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-</a:t>
            </a:r>
            <a:br>
              <a:rPr sz="1800"/>
            </a:br>
            <a:r>
              <a:rPr b="0" lang="en-GB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Comparing experiences of SDC and the international state-of-the-art</a:t>
            </a:r>
            <a:endParaRPr b="1" i="1" lang="en-US" sz="18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Role of context factor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829F-A62B-4A30-99D5-44E641AA96C9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468360" y="1413000"/>
            <a:ext cx="79912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 factors important for design and results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ircumstances the most important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to municipal finances is effecting: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est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relations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landscape</a:t>
            </a:r>
            <a:endParaRPr b="1" i="1" lang="en-US" sz="2200" spc="-1" strike="noStrike">
              <a:solidFill>
                <a:srgbClr val="015873"/>
              </a:solidFill>
              <a:latin typeface="Arial"/>
            </a:endParaRPr>
          </a:p>
          <a:p>
            <a:pPr lvl="1" marL="981000" indent="-272880">
              <a:lnSpc>
                <a:spcPct val="100000"/>
              </a:lnSpc>
              <a:spcAft>
                <a:spcPts val="2401"/>
              </a:spcAft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DC needs to acknowledge that by supporting municipal finances it always interferes in domestic politics.</a:t>
            </a:r>
            <a:endParaRPr b="1" i="1" lang="en-US" sz="24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Own revenues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7CF-8F2A-43AB-8965-5B5E51C36700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18" name="Text Box 23"/>
          <p:cNvSpPr/>
          <p:nvPr/>
        </p:nvSpPr>
        <p:spPr>
          <a:xfrm>
            <a:off x="468360" y="1413000"/>
            <a:ext cx="79912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d is conducive legal framework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C’s experience exist but is limited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put more focus on supporting municipalities’ own revenues because of its potential to improve: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local autonom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downward accountability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Arial"/>
              </a:rPr>
              <a:t>Lessons Learnt &amp; Conclusions</a:t>
            </a:r>
            <a:br>
              <a:rPr sz="2400"/>
            </a:br>
            <a:r>
              <a:rPr b="0" i="1" lang="en-GB" sz="2200" spc="-1" strike="noStrike">
                <a:solidFill>
                  <a:srgbClr val="4f81bd"/>
                </a:solidFill>
                <a:latin typeface="Arial"/>
              </a:rPr>
              <a:t>Intergovernmental fiscal transfer systems </a:t>
            </a:r>
            <a:endParaRPr b="0" lang="en-US" sz="22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16DC-1852-4477-BD76-5B06E82C8542}" type="slidenum">
              <a:rPr b="1" i="1" lang="de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15873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468360" y="1413000"/>
            <a:ext cx="799128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trend towards supporting formula based equalization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DC experience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move away from providing conditional grants to local governments to supporting overall national transfer systems (commitment to Paris Declaration)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SDC should access knowledge form the Federal Finance Administration on issues of fiscal transfer systems.</a:t>
            </a: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  <a:p>
            <a:pPr marL="272880" indent="-272880">
              <a:spcAft>
                <a:spcPts val="24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015873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28:53Z</dcterms:created>
  <dc:creator>rohner Christa</dc:creator>
  <dc:description/>
  <dc:language>en-US</dc:language>
  <cp:lastModifiedBy>Christoforos Korakas</cp:lastModifiedBy>
  <dcterms:modified xsi:type="dcterms:W3CDTF">2011-08-31T12:43:42Z</dcterms:modified>
  <cp:revision>234</cp:revision>
  <dc:subject/>
  <dc:title>Slide 1</dc:title>
</cp:coreProperties>
</file>