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dt" idx="53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7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ftr" idx="54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 type="sldNum" idx="55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412D9F2-FF19-4B90-B39B-D24716D1C51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0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B2162CE-C7EC-4CF7-AE21-DA1CAF042848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3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A4064C1-FA4F-4BF4-A25C-1B23AC99579D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6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C589575-AAA4-4997-9DF2-952A7966750E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9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4CFB198-1674-4353-9B44-251342FE0576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48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5440815-AF3F-4414-8D78-75ED7D4A554E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51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F2D6F17-6355-45E9-8B8F-51765237F472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ormation to citizens 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; establishing or updating the basis for tax assessment 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); making donor grants or fiscal transfers conditional on the level of tax collection; adapting legal frame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D666EA1-CE1C-424E-9162-9332B8206F49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tional ownership and political will cru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3E5872D-F141-450F-A729-772D194F3708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9F4A-BF76-48BA-961C-467B90D74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5D1A-30E4-4407-A878-2B3F8961708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EC4E6-0667-4F81-9B66-4394302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939A5-719A-4CBC-9BCB-866271E9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B0594-EC86-4FF6-A257-E7972490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940C7-D87B-47AE-AC68-9C2137B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91C64-C827-4AF6-9DFE-6382AE2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67429-0B60-4A43-A87D-4A1B30E1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A6D8C-79EB-47E0-9BF9-CFD45044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76D0D-7A0C-4CC8-BE31-A89AA9A2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8D279-E94B-4606-853A-A04D1DFA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45865-313F-4C37-81E4-98E05356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AB77-8391-4FE4-B3FB-3A27278EEAF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95596-CFD9-445A-ACC5-CC63AF0F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A3163-4314-4E11-95D4-65171B4D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FC7FD-E846-43ED-A51E-D9C616DB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62C6D-FEAF-4A03-ABD0-92C5DBDF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12D61-B414-4937-95A1-38ADD245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0D231-5032-4479-A8F9-BAADB904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A8C6A-3B99-4AB1-B3EA-C9233C4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50195-6BB7-4B6C-8948-E1431B90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E7CCD-BD20-45C0-882F-A3383545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89D5C-B5D3-4B38-8285-2E8FB980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4821-5BD4-4104-A0E5-06D5D3A89F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214B3-EEEB-42F8-BBF2-DFBDC726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CDA248-9FAC-483E-9A87-23CB0D40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713C7F-248A-4A9B-A9E8-860EB7E6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C1F034-9AD7-484F-AC48-ACB2B38F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61B3E8-3C81-43D8-AC76-F0BB352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28B938-9A75-4E1B-9C55-31063E7E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31C7F6-B07F-4943-98DE-B23771B3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37FC5E-14D8-4173-87E0-8E7E64E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5C6584-9649-4FC2-B89A-99BF974A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6C8D8B-895C-4B85-9845-B4EBEE3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8EB4C-1AB9-4FD8-8E3D-356F7F5F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C14203-B981-4DCA-BCC9-E68827C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9C99B1-442D-4740-B54F-BFB75D1B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14F233-49B7-46FF-9436-E27E4EC5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D66B6-AEFF-4FA1-99E1-6CB8DA7C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F6E34-07DA-4F47-9994-6D4C59E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93510-A93A-406C-B196-BCDBDE86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145AF-BA28-4324-BCF8-9377879F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8622F-B56A-4804-BDCA-08ADFB21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BC5BF-50BA-4D30-B9E0-D99327B2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07F91-48BC-4FCF-BAA5-9F496753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B058A-25F2-4CA1-9C7B-8863F736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B8C94-AC5A-440C-8888-D0918D21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A5843-ED25-43E8-B638-0023E12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7128E-249C-46BF-BE77-0B6ACA43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C50FF-09B0-4ABD-8AEC-2F4F98E2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3ECD4-CD9C-44D6-999D-D8EFA8D0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3D0744-E11D-4D68-A08E-C95FE0D5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F918A0-A15B-4B76-BBFE-AA3113E9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BBACA3-394A-49AF-B292-847918B1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6A2854-EF07-4F66-9B63-DE976534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788DA0-BA24-49E6-83A3-DDB426AB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FFBB2-2554-423B-A2E4-60166783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8388A2-A8D2-4F24-9423-A4FE038D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F03360-9BD7-43C8-8A9E-365CFE9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21993B-A3B1-413D-95B4-BC6FA2D1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174A7A-9688-403C-9692-4B225EFE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E11342-5452-4AE8-9CE7-7ACAE995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296A62-325A-48B2-AA6E-034477D9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87AA05-5FCE-45F3-B75C-1FF70272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AE426A-B18B-4BC0-8706-49FE254C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4E4C6F-0841-425D-872B-F8D99303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56A949-C5DE-4AAF-B661-53E57B4C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CA9E7-0915-47A0-9F86-789802AD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9D3B7B-215D-4BD4-9001-41D62A3E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90A2DD-E4CE-45D2-982D-B02BC9FD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15F8E9-021E-4841-ABDB-2D6ACE74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D546A5-7161-429F-8CF3-AAC4A7D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14B830-0E9C-4037-9B5D-4921A638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7E730D-58E9-443B-AB49-D52B427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F2C37F-C7A1-40BE-A5AA-3B2EA93B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731129-A490-4953-AF2C-256C2BD9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22AC63-ABBF-4319-8514-0AE3E792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4A84D9-D197-4D7E-8899-98A4F6CA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EC7ED-8634-4A72-9715-FC5ADFE9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43A1A1-864E-4FAD-977A-A088E29F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02C304-5C56-4976-9442-A3B366CC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DC197E-AF66-4E0E-8226-D88BBB7E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0E462C-518F-4982-AF1A-87B89A52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836D73-C0BE-4EA4-8F4F-4AB4EA6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385404-C65C-4C95-B988-76C096C7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ECF56D-2F56-45CE-B867-8ACB8FEC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6CD45A-DEBA-492C-91FB-06AE1EA8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6A8552-3D68-43BD-99DE-844451C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0EF3EE-2C7D-4493-94DF-053C983C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93E30-7744-4569-8CFD-8DABB62D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D7476B-2C76-498E-B1B2-19E98BB9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FEB7C4-3197-4B1E-BF26-A9B1038A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8F6680-4133-4F21-8E58-5BEDA984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E1DCB3-9D53-407A-AFD3-79D8DEE1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A37542-773E-4DF9-8BA5-D51DBBF8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9A8D50-BCB5-462C-AD7E-9084CC09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BE610F-20C9-46B5-895F-B2CC020A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98017F-98E8-4814-9653-80D1B2C3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E30DE5-973F-4167-814A-F037DA39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32C524-7469-4D59-A9A5-6EA64002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02050-88B8-4C16-8EED-535A5149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1D8CBD-A3D8-4FA6-B019-28FBB798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66B902-5045-4B9A-9C46-4D766057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1D02AD-188F-440B-960F-85A21841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F45B13-F883-47D7-807D-41BD721F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BB4B5AE-65C4-4ECE-86AB-D81B0D55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73295B-6DB4-4FDE-AE27-E8796BD5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8F3411E-2B10-4D87-B56B-ADE950D5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B03A44-5F1E-44E1-A556-721480BE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1B8F5F7-00D5-4161-92B8-F01C15F4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63EEAD-F341-4EFD-A165-5442970B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5D03-2BEF-4B19-82B0-8446D8B65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E4EA8-408E-4046-B04B-EEDD269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1805E5-0484-4BC2-824A-9B0E2E4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40EEBA-7770-4E85-8A1E-EFD1880F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2CD50C-B35E-470D-971B-2C9D4E45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1B4F89-2DF4-4DB1-8A56-121555E3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94164B-5F09-42A6-955D-5304D814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1EFDFE-FE0D-47D3-9906-3E1628D8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D94B38-934A-4802-B327-7E96B789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313DB5-6D9C-4167-B44A-86096C22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87C25D-F36E-41C4-AA71-92B82B61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A38DA9-E0AA-4A68-AF57-746701AA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6A887-23E1-46D1-A5CE-0CE1C96B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6D86B0-A872-4F4D-98D1-EF7AA2EB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7F6E8C-924B-4817-B392-FCE3A74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ABC457-2D4E-4712-A450-80187CCD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F21827-C491-4427-AE1D-D05B95F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EE744A-51A1-4D0F-B872-7EAF6B04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CA84BD5-7891-4B31-AD65-55B568A1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290D1D-4365-4AFE-A0E9-DB656850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616EC-F867-4070-85E7-669A6BFE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AAFAC-B7AE-4FA3-AD8B-D7125FA2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C9181-81E1-43A0-945F-DEE264F8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9CA95-9050-4EEB-BCE2-37204653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C315E8-3F6E-4EE3-84FB-501E3532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94AF0-57D5-4BEB-8586-4AFB6827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56F41-FB8B-4C45-98EC-60C48E42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30F1E-C55F-4749-83AF-786E6C34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3820-148B-4CD3-83BD-97D7D4A796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20C5E6-0B28-49A3-9E1A-0BC497D0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6D409-F478-4E5B-991D-4A24F27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C3DE7-107F-4F33-AAAC-FB9D378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6D31A9-807F-48C2-B074-D90D0668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B4D0F-9BE6-40B2-BA1D-E1464C87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EB90C-43A8-4ADF-9FE5-115FF90E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2BABA-7B3F-43E2-8027-69EC45A7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45A31-2BA0-4EF5-AA71-7F707AE7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9AB10-6ED4-428C-B064-18F3DC80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5ABAD-1609-42B1-A3E0-49E60959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E518-5429-43D3-A4F4-D399BBEBCD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A7B84-AAC3-4BFA-8A57-745BA19A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484B9-4032-4577-B404-7183D06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9B8B8-C161-47F9-AB6F-2580A586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20249-48CA-4610-8EA3-7538AD5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A35AE-C437-45E3-937A-A23091D9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737F4-1D38-4205-950F-97F2B137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92214-D4AF-430C-B3D2-0C0036E5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4821A-8F26-454A-A97D-83582A27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4BE8E-7577-42A4-A094-1399EC28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22A290-AC45-4D3C-A0F1-E61D961A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2877-4382-4833-BDFF-169BA7EC43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9F998C-7088-4C38-9A39-B76305A5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848FB-63C7-4456-BF8C-E114D513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263BB2-B7B8-49E4-8DD2-08028B4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D89E7F-8913-4073-BE32-330BB8B2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9FE4D-7982-4EF4-B9E3-4625EAF8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DFE291-3C3C-43F8-B76F-08E3EB23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078289-1568-4F23-BCFC-78579813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76E76F-B625-4651-96CE-030B1E2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2F947F-59B1-401D-B557-F78C44F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B2ED4-5471-433C-9E34-2353B1A6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E574-5C50-4D18-B1DF-E435A9A93A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44324-B622-431C-BD1A-B9B98909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85360E-7D6A-4345-A5BD-2E54E084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F77129-DE6E-44B5-A865-66FF20AD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A99349-F5DD-4EB0-B46A-9868EBE7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31F3A-4612-4444-8B7E-262793CB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8F6852-23F9-4C4F-AD8A-7ADDFFF9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BBD05-48DF-42E4-BAAE-554F7D4B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1B9FCC-7226-4DB9-AB2F-6EA4FA2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22436B-7BF5-4AD9-814C-2C6649A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11DCC7-82C4-49FD-9BFD-656B132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C865-7B25-4E3B-B275-2D8440B74F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566078-9A42-4E02-9B92-58E54520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844A98-8060-4176-BB18-FB59D8DA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BEFC6F-23E9-49C9-ACB5-4CA8CE77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78E202-2DC6-4829-932B-B5A6679D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C1FF1-8F5A-4E7C-9836-2820195F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E047BE-11A3-43F8-9946-C091047B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38FC49-03FE-4357-87AA-9D4E0F27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3E67E3-6679-4DEA-BC31-D5C1601F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1FB498-F703-4DE3-8146-8B637DEB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47E089-2D72-4B42-A59D-3DFB972C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CBBD-764E-475A-A79E-96279FC265B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2AFDA-1510-4B52-89D5-B7F5350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69F7C3-D3BF-4666-9270-6DA4232F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366C50-7536-4568-B66B-84F3CD8D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B1DDB2-8614-4E32-9428-34C03951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35F83C-E538-487A-8713-00954D6C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10783-7752-4731-8877-29BACB9D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B4FDD4-B387-4F51-BE6A-37D89B6A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CF5E67-5B38-4680-86ED-7EC9077D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B8D76F-083C-448F-9305-3AE15C54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53EF56-F764-42DD-818E-6C9F4A72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B036-96AD-477E-8FB3-5242663AF1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BAC618-4397-40CF-9B62-9704406A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DA3C73-A8E0-4664-A34C-764F25F2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871478-6242-4167-A6AC-AE2A323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17FF36-0E7C-42B0-9090-AA66859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5BB01-58AF-4B72-A7D9-81480FF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115EAB-81FA-480E-B554-5E2A6280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F65F88-1CCE-4DFE-85DE-1C926B34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21908-4A44-4A89-B90D-94FE7C2B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324B5-7D0C-4B55-A718-7C17B0C4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FA610-24BC-46B2-AADF-246633A3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0" y="960480"/>
            <a:ext cx="9144000" cy="179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" name="Text Box 17"/>
          <p:cNvSpPr/>
          <p:nvPr/>
        </p:nvSpPr>
        <p:spPr>
          <a:xfrm>
            <a:off x="3322800" y="950760"/>
            <a:ext cx="582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7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4c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158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158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847000" y="6656040"/>
            <a:ext cx="363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00DD-C4B1-46BD-943E-2DD8B28B5759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5" name="Picture 24" descr="bund_RGB_pos"/>
          <p:cNvPicPr/>
          <p:nvPr/>
        </p:nvPicPr>
        <p:blipFill>
          <a:blip r:embed="rId2"/>
          <a:stretch/>
        </p:blipFill>
        <p:spPr>
          <a:xfrm>
            <a:off x="203040" y="177840"/>
            <a:ext cx="2840040" cy="711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5"/>
          <p:cNvSpPr/>
          <p:nvPr/>
        </p:nvSpPr>
        <p:spPr>
          <a:xfrm>
            <a:off x="4705200" y="233280"/>
            <a:ext cx="4513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Federal Department of Foreign Affairs FDFA</a:t>
            </a:r>
            <a:br>
              <a:rPr sz="1000"/>
            </a:b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Swiss Agency Development and Cooperation SDC</a:t>
            </a:r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13FD-35F0-4DC2-961F-E086F472FF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259B-7B8D-4042-8B13-67BD68F06958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398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399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437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438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93BB-96F7-4323-ABD9-BFA3E7EA02EC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9800-3F63-4A43-A182-20B6249ACCD5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481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482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7C77-B395-4E9D-BA07-A8D9D63782D7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689D-ED05-4BD0-8E52-4C4C46040B86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525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526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97C5-956D-46BC-8806-54FB486BB97A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BF7E-62B3-4901-9356-A11004046AAE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569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BFBC-0D51-4B10-B6F5-F26B2CC4A335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4D3D-085C-457E-976E-F20001C667A9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613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614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1987-817A-4653-9B46-2DCE1B397E97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DDF1-6D1F-4828-940E-E9DB2FA61A9D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657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658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B06D-48D8-48F5-8AA4-7C6FCD9EC36E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5278-2B62-4E01-9398-DDC1BE4F9561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701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702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C35B-FEEA-4DEE-BA5B-2501207B0A99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B96-FED9-44DC-9738-C09D70E9F018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745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746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A698-6089-449C-9C2D-C4C354AA6138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0B3C-2079-4825-836A-3791CE6048F9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2256-70C3-4033-A2AD-B2638E571DD7}" type="slidenum">
              <a:rPr b="0" lang="de-CH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7121-37EE-4E9F-9717-F5C7DCF66C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416-2D1F-4B84-8563-60FEA561B590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90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91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72B0-C1D8-47EE-A5B6-5636D0F00A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39F8-E97F-4E0B-B680-BFE247858CC9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134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135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639D-8205-4900-A39B-D29576EFF0F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E5B6-2DEC-4EA0-8600-1C56B6B4861E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178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A5DC-CC98-4161-A62E-3F40A718DB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142B-C28E-444B-82AC-0A412058C1B2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222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223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906A-DD71-4CDC-8CEF-EF37FC2669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5809-9707-4B86-99A3-363F2DDBC857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266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267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4507-BA53-4E6A-8A32-654C75334B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6C4B-DBC9-455E-B14B-7DE5ACCD6F08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310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311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2178-CB5A-4F4D-9519-FAF16C5FAD8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92B5-AC54-4478-8F75-EABB682C846C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354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355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dc-decentralization.net/en/Home/Community_Affairs/Community" TargetMode="External"/><Relationship Id="rId2" Type="http://schemas.openxmlformats.org/officeDocument/2006/relationships/hyperlink" Target="http://www.dlgn-f2f2011.ch/?page_id=710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1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CEB8-59A7-44E9-9EE4-EBF7192E68AA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422280" y="4043520"/>
            <a:ext cx="8369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marL="320760" indent="-320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504040"/>
                <a:tab algn="l" pos="5619600"/>
                <a:tab algn="l" pos="5900760"/>
                <a:tab algn="l" pos="6181560"/>
                <a:tab algn="l" pos="6462720"/>
                <a:tab algn="l" pos="6743880"/>
                <a:tab algn="l" pos="7024680"/>
                <a:tab algn="l" pos="7305840"/>
                <a:tab algn="l" pos="7586640"/>
                <a:tab algn="l" pos="7867800"/>
                <a:tab algn="l" pos="8148600"/>
                <a:tab algn="l" pos="8429760"/>
                <a:tab algn="l" pos="8710560"/>
                <a:tab algn="l" pos="8991720"/>
                <a:tab algn="l" pos="9272520"/>
                <a:tab algn="l" pos="9553680"/>
                <a:tab algn="l" pos="9834480"/>
                <a:tab algn="l" pos="10115640"/>
                <a:tab algn="l" pos="10396440"/>
                <a:tab algn="l" pos="1067760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uno Schläfli</a:t>
            </a:r>
            <a:endParaRPr b="1" i="1" lang="en-US" sz="2000" spc="-1" strike="noStrike">
              <a:solidFill>
                <a:srgbClr val="015873"/>
              </a:solidFill>
              <a:latin typeface="Arial"/>
            </a:endParaRPr>
          </a:p>
          <a:p>
            <a:pPr marL="320760" indent="-320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504040"/>
                <a:tab algn="l" pos="5619600"/>
                <a:tab algn="l" pos="5900760"/>
                <a:tab algn="l" pos="6181560"/>
                <a:tab algn="l" pos="6462720"/>
                <a:tab algn="l" pos="6743880"/>
                <a:tab algn="l" pos="7024680"/>
                <a:tab algn="l" pos="7305840"/>
                <a:tab algn="l" pos="7586640"/>
                <a:tab algn="l" pos="7867800"/>
                <a:tab algn="l" pos="8148600"/>
                <a:tab algn="l" pos="8429760"/>
                <a:tab algn="l" pos="8710560"/>
                <a:tab algn="l" pos="8991720"/>
                <a:tab algn="l" pos="9272520"/>
                <a:tab algn="l" pos="9553680"/>
                <a:tab algn="l" pos="9834480"/>
                <a:tab algn="l" pos="10115640"/>
                <a:tab algn="l" pos="10396440"/>
                <a:tab algn="l" pos="1067760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icy Advisor for Decentralization and Local Governance</a:t>
            </a:r>
            <a:endParaRPr b="1" i="1" lang="en-US" sz="2000" spc="-1" strike="noStrike">
              <a:solidFill>
                <a:srgbClr val="015873"/>
              </a:solidFill>
              <a:latin typeface="Arial"/>
            </a:endParaRPr>
          </a:p>
          <a:p>
            <a:pPr marL="320760" indent="-320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504040"/>
                <a:tab algn="l" pos="5619600"/>
                <a:tab algn="l" pos="5900760"/>
                <a:tab algn="l" pos="6181560"/>
                <a:tab algn="l" pos="6462720"/>
                <a:tab algn="l" pos="6743880"/>
                <a:tab algn="l" pos="7024680"/>
                <a:tab algn="l" pos="7305840"/>
                <a:tab algn="l" pos="7586640"/>
                <a:tab algn="l" pos="7867800"/>
                <a:tab algn="l" pos="8148600"/>
                <a:tab algn="l" pos="8429760"/>
                <a:tab algn="l" pos="8710560"/>
                <a:tab algn="l" pos="8991720"/>
                <a:tab algn="l" pos="9272520"/>
                <a:tab algn="l" pos="9553680"/>
                <a:tab algn="l" pos="9834480"/>
                <a:tab algn="l" pos="10115640"/>
                <a:tab algn="l" pos="10396440"/>
                <a:tab algn="l" pos="1067760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iss Development Cooperation</a:t>
            </a:r>
            <a:endParaRPr b="1" i="1" lang="en-US" sz="2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743040" y="1725480"/>
            <a:ext cx="767700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SDC approaches </a:t>
            </a:r>
            <a:endParaRPr b="1" i="1" lang="en-US" sz="32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as a Precondition for Change</a:t>
            </a:r>
            <a:endParaRPr b="1" i="1" lang="en-US" sz="32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ustainable Municipal Finance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Fiscal Decentralisation) </a:t>
            </a: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Donor grants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DE8E-7541-4F2E-882A-AA8F7DE100A8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468360" y="1413000"/>
            <a:ext cx="7991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 away from project funding to providing local governments with general development grant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nd towards formula based grants which have performance criteria attached to them (PBGS)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ngage in basket funding of (performance) formula based grant systems to local government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only engage in piloting if mandated by governments in the frame of policy cycle management. 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Borrowing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383A-BD2C-41A1-ACC0-D49ECB4AC74D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27" name="Text Box 23"/>
          <p:cNvSpPr/>
          <p:nvPr/>
        </p:nvSpPr>
        <p:spPr>
          <a:xfrm>
            <a:off x="468360" y="1413000"/>
            <a:ext cx="79912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ly in transition countries donors support sub-national governments’ access to loan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) Support to the framework for local government bond issuance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i) Support to local government development banks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C has no such experience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xplore ways of drawing on Swiss experiences with linking small municipalities to the capital market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Borrowing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199D-3557-40BF-B08F-7C3AEF4628C4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468360" y="1413000"/>
            <a:ext cx="79912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ly in transition countries donors support sub-national governments’ access to loan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) Support to the framework for local government bond issuance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i) Support to local government development banks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C has no such experience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xplore ways of drawing on Swiss experiences with linking small municipalities to the capital market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Capacity Building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10AF-85F8-4507-AF7B-F1B8B44CE8B8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468360" y="1413000"/>
            <a:ext cx="79912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to build capacities at all government levels (system development)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development for advocacy/lobbying, service provision to member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work within the given national structure of capacity development instead of working with NGOs or non-mandated institution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ngage in providing capacity development voucher or grants to local government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1B39-6558-4AE0-9686-52D7A2754058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Consultations at the F2F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79080" y="2125800"/>
            <a:ext cx="828972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ultation of 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knowledge that supporting municipal finances means interfering in /influencing domestic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providing financial support to LG, SDC should strive to work on-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y to influence the criteria used in the formula to have SDC values reflected (democracy, (gender) equality, poverty targeting, sustainable resource manag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engage in pilots if clear links to national steering platform on fiscal decentralisation exists to feed in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3CA7-63E8-47B9-9187-4FA23112A9CA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Consultations at the F2F (cont.)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ultation of 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multi-stakeholder platforms (gov. Partners, LG, civil soc.). Include elected legislative structu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LG in their capacity to prove credit worthiness (access to credit institu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cus on supporting municipalities’ own revenues because of its potential to improve a) local autonomy, and b) downward account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in the given national system of capacity buil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mand orientation for CapDev! (vouchers, grants based on municipal caDev pla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53D7-E8B8-4D0F-BAD5-0DE05B26E3FA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Discussion-Workshop at the F2F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0d0d"/>
                </a:solidFill>
                <a:latin typeface="Arial"/>
              </a:rPr>
              <a:t>DLGN Shareweb: </a:t>
            </a:r>
            <a:r>
              <a:rPr b="1" lang="en-GB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dc-decentralization.net/en/Home/Community_Affairs/Communit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GB" sz="1400" spc="-1" strike="noStrike">
                <a:solidFill>
                  <a:srgbClr val="0d0d0d"/>
                </a:solidFill>
                <a:latin typeface="Arial"/>
              </a:rPr>
              <a:t>ivities/F2F_Sarajevo_20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0d0d"/>
                </a:solidFill>
                <a:latin typeface="Arial"/>
              </a:rPr>
              <a:t>Public blog F2F Sarajevo: </a:t>
            </a:r>
            <a:r>
              <a:rPr b="1" lang="en-GB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dlgn-f2f2011.ch/?page_id=7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you fin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8 Recommendations with comments and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solidated replies of e-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deo feedbacks from participants of the F2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sonal Learning’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A81-E14A-4FBF-8A18-291DAE0D12FF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of a Learnbook (interactive t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, distribution, thematise in events,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ze shared “best practice” as “thematic standa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400C-B15C-4D6F-AFC8-340EAF35577D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6684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Learning Project « SMF » of the DLGN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of 6 learning projects prior to F2F in Sarajew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8 case stud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eer review 8 tea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0 members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rallel: Analysis on “international state of the art” by consul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3AF4-3FAA-4DE4-8A29-4D571CC10893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Three domains of self-assessment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11200" y="2217600"/>
            <a:ext cx="8066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ultants moderate process: three streams of ref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or Grants and Fiscal Trans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wn Revenues and Borrow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Building Capac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FACF-C578-468F-A7D0-DB17FE17A6E4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88960" y="1388880"/>
            <a:ext cx="855504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E-Moderated discussion on Donor Grants and Fiscal Transfers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11200" y="2627280"/>
            <a:ext cx="8066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sk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. Donor Grants and Fiscal Transfer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 you agree that SDC is rather funding own pilots than supporting nationally defined formula based grant systems? Do you know of exceptions to this statement? Please share your experie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) What are the main reasons why SDC has little experience in supporting performance based grant system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) What are the main reasons why SDC has limited experience in providing technical assistance to establish or adjust intergovernmental fiscal transfer systems?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CC93-5F57-4F0E-BE3B-12300635D1B3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88960" y="1388880"/>
            <a:ext cx="855504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Preparation of the Debates at the F2F in Sarajevo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52440" y="258912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olidated reply on the three deb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rallel analysis on “international state of the ar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ultants compare SDC practice (case studies) and “state of the art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80596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in Results of the Comparison of SDC experiences with internat. “state of the art” </a:t>
            </a:r>
            <a:endParaRPr b="0" lang="en-US" sz="36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476360" y="5229360"/>
            <a:ext cx="6400800" cy="111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Matthias Boss / Katharina Wal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March 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itel 1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Donor Support to Sustainable Municipal Finance</a:t>
            </a:r>
            <a:br>
              <a:rPr sz="1800"/>
            </a:br>
            <a:r>
              <a:rPr b="0" lang="en-GB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-</a:t>
            </a:r>
            <a:br>
              <a:rPr sz="1800"/>
            </a:br>
            <a:r>
              <a:rPr b="0" lang="en-GB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Comparing experiences of SDC and the international state-of-the-art</a:t>
            </a:r>
            <a:endParaRPr b="1" i="1" lang="en-US" sz="18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Role of context factors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1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12B9-DDC9-446D-BE04-D79FE3C7125B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468360" y="1413000"/>
            <a:ext cx="79912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 factors important for design and results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ircumstances the most important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to municipal finances is effecting: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ests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wer relations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landscape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2401"/>
              </a:spcAft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SDC needs to acknowledge that by supporting municipal finances it always interferes in domestic politics.</a:t>
            </a: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Own revenues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1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CE1B-0F59-477D-A151-755D76EB37A6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18" name="Text Box 23"/>
          <p:cNvSpPr/>
          <p:nvPr/>
        </p:nvSpPr>
        <p:spPr>
          <a:xfrm>
            <a:off x="468360" y="1413000"/>
            <a:ext cx="79912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d is conducive legal framework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C’s experience exist but is limited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put more focus on supporting municipalities’ own revenues because of its potential to improve: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local autonomy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downward accountability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Intergovernmental fiscal transfer systems 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A0DE-EBA9-4BCB-B3A8-3400BCD1D0D7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468360" y="1413000"/>
            <a:ext cx="79912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trend towards supporting formula based equalization transfer system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DC experience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move away from providing conditional grants to local governments to supporting overall national transfer systems (commitment to Paris Declaration)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access knowledge form the Federal Finance Administration on issues of fiscal transfer system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28:53Z</dcterms:created>
  <dc:creator>rohner Christa</dc:creator>
  <dc:description/>
  <dc:language>en-US</dc:language>
  <cp:lastModifiedBy>Christoforos Korakas</cp:lastModifiedBy>
  <dcterms:modified xsi:type="dcterms:W3CDTF">2011-08-31T12:43:42Z</dcterms:modified>
  <cp:revision>234</cp:revision>
  <dc:subject/>
  <dc:title>Slide 1</dc:title>
</cp:coreProperties>
</file>