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FBFC-BAA1-4C2D-BF8C-3609ABC172D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44C5-5775-40C2-B6FC-B80067FC27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DCC4-5D14-4456-99DA-4CAFF5E46C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36D8E7-106A-434E-980B-CD7AFCD879F5}"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A89BB3-168F-41C0-9AE9-3EE1F2E1C2D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5AC9296-78C9-4182-8EFA-3F372FDE0CEE}"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6CD539C-15FF-4333-8618-F68DF3A5A69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4C33-074B-469F-B1BE-4D11AA535C86}"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6464-E6FC-42E1-B9AB-8938946980CB}" type="datetime3">
              <a:rPr b="0" lang="en-GB" sz="1200" spc="-1" strike="noStrike">
                <a:solidFill>
                  <a:srgbClr val="000000"/>
                </a:solidFill>
                <a:latin typeface="Arial"/>
              </a:rPr>
              <a:t>30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68F3-399A-4801-BEA9-B7004B67C4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4AC3-4C41-411C-A4A6-A59513060B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C88E-AC47-4D05-B420-DAD532DB3B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C9B5-59FB-42CD-AD6E-F6CC1D82A0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A033-03DB-46AD-A30C-15B73809616B}"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6B45-5CFD-46F6-85F4-BFCF962B0298}" type="datetime3">
              <a:rPr b="0" lang="en-GB" sz="1200" spc="-1" strike="noStrike">
                <a:solidFill>
                  <a:srgbClr val="000000"/>
                </a:solidFill>
                <a:latin typeface="Arial"/>
              </a:rPr>
              <a:t>30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549E-21DB-4DBF-949D-CB18543411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8414-B08C-49BD-B49F-CDAE614586C0}"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BB28-4EC2-463E-963F-668916E23C43}"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1272966-06C6-461F-B022-57338FEE7348}"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BDBF21-BE4A-4836-AA86-11F0441DF71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B734-5220-4294-BBE9-E982C5DA37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A682-641A-4EC1-B97A-E8AF3CFC2B8F}"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A63B-AC24-4295-AE2C-B2EA8F1534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D35E3B0-1594-4F25-92A4-DC03B4F78A4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0FBA-5E87-4E3A-84D1-B057168FD1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77D2-9477-42A0-9C80-A658254248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7431-3993-4B2A-AD54-B6DF3BB031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8E81-017A-4928-99A4-C006827DAE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7B63-6159-43F3-BBB9-14E7A18471E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1C1A-D64E-4F34-876E-2D4FCB0A66E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1BBF-5F82-44AD-A5E3-88F33FF49B7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A6AD-5007-4E23-B300-CE97D551E7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0107-6DD2-44F8-BDD5-D63D8AC996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EAF1-D260-441E-AFC2-1D343B9999E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3528-1716-4541-A350-FB3C0A51B42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DBA9-E088-46C1-9401-E922921D92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5260-75C0-4EF0-AA2A-C1A3830C675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FAF5CBE-A170-4FB7-B2E8-462467CC18E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6F8F-FCAA-4658-BFE6-9883067CBE2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67C3-4F37-42FA-8448-302C1F4C2D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20A3-041E-4958-A99F-9DEFC9B060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5677-6B0D-465D-B0E2-8DACE0A3F722}"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ADC38-F125-45C8-97E4-C5D006DEB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4A00-F76F-486D-8552-998B9470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AC0EF-3142-4466-AEE3-F03630F27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1D563-395B-48AC-86C2-6301C46CD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7C0FB-548F-4277-94E3-F77D75A76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1FE53-4E69-490F-971F-26EC990F1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C8B91-EB8C-4B60-84EA-1970EEA58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AB62B-CD62-4924-92A8-55A69576A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18DB5-CBB1-467D-A42C-6572FC5E5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AFBF2-73A0-431A-AFF7-36E897A13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FADB4-B3CE-4DBB-B23D-3581C51DC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FF9B-F382-417B-A1B5-49A22981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1288-5C1D-489D-9EC9-F97D2BB73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ED731-6F47-49A0-8D8F-E181F164F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61C3A-1EC6-417C-A788-A2784997E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22E9E-3858-4D83-852C-B1CB94062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37CAD-77B6-41A9-9BB7-1B1F6D2B0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B9E5-F49F-4CEF-BA71-40F725124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7BE2-872C-4F38-91A7-2D7E04D2C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A8FA0-35FF-4AB2-AA0C-362F7647F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443C-7ADE-4AB4-B158-D62CC487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B2B8-0B72-4D06-8EC8-D77E501C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A2BB-4C78-46BC-A1AE-D1541E6BB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65E5-AAA7-43B1-92EF-F15CF7FE7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85FE-4E2B-47AD-BE70-14DCF5BDF31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054F-2A20-48A1-AA9F-25C24B6563B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26DA-C89C-4B1F-BA4F-D68D146D16C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7A35-ED58-44A6-8E38-F99F71843E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0D57-F2C5-47FA-B432-3EBFAC8931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1F75-14F4-4FEC-A205-FB679C7288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367A-11A5-49EA-9031-C89FBD6DEA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659E-91DF-494A-9D2D-D2CF9FB0546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F0B5-5581-45C1-8B8C-C86A3B72AC91}"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8039-BBF5-4095-AA8B-345D14B798CE}"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457B-9D90-4A88-B283-6D16A606FDC3}"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57EF-519E-47E1-AFE5-4FAF06CDF8DB}"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7325-61CC-4500-9A11-9BE3686B69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1441-FE93-4324-846D-C434D1C42B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03BF-FCF6-4F9B-9D93-193C6CC7268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102B-BEA4-40C3-9EC8-6765626104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2622-BDD7-495B-85AE-C3723CD283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83E4-B125-4E13-A0FB-A7C727127CD5}"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BB06-8ADC-4260-AB46-6D73E5B02D5F}"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4DFC-6E1B-4715-AA93-24FD3E8721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2C9C-DFB5-4845-A8E1-4A4C82018A6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F788-81BC-442A-B279-B9E233E7941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7376-6781-432D-A75F-EBEA2C1B6A6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2222-665A-47DA-9BDB-5FC68E69DAE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32B6-F495-41ED-9D41-F959C57C5C4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DC1A-7635-42AF-A5DE-DBD6A11624F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2052-3FBD-46F9-BC9C-6AB91B91A14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B4A9-F6C6-4181-B8D5-2E3D3BCD7E2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6B96-85BE-493D-AA48-8F14E787CF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D038-827E-4524-BB8F-FC42D198BB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03D8-E788-46DD-A544-F932E025C1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8AE7-6952-4B74-A0D8-15924C3AC4BD}"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7F03-897F-4FB5-8DA9-F40F88A735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56A2-C509-4F8E-8102-FC4F8B176D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E86D-1880-45C4-A858-0D067C8B3A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081B-A13C-45B6-A998-F7D07B6E4B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F9FD-9EBB-431B-9EED-0D78AC197A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25EF-6F5D-4E09-82A4-9865C1AF2F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F22E-F3C5-4D77-9220-8F48796074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0206-982A-4D4D-B27E-90BA4EA869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9045-E12C-4A1A-A7D0-34DF614A62D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304D-7C5C-42D9-ADCB-133A81AE932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7639-20EA-45EC-A386-119A45FDC5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227C-F3C7-4C91-85D1-AB37DD6C5B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AEDD-DB2B-4DEE-8438-6AC07097AC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EE7A-01A6-4566-9C54-8A04965904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4462-3B85-4C88-9680-898C4F24AE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660B-87DC-4660-948F-8CA6573E80FE}"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7836-E9A8-4A9B-A921-2AB6A68C12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