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0F4193-D6AF-4F0B-B73F-7D9225C9C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C269C7-965A-4422-A383-5CFAD3D828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ED5E9F-4C4D-4653-8C46-1A58079E89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8290-25D1-4A1C-B8CA-E8E53F78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2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2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E1F7-F0A1-4074-B9EC-F40FA9BA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EEE-393E-49A1-953A-59CB42CB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4922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4922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8A77-4D08-4E08-993B-B9B271F3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C7EB-17EE-47BB-AA77-631FCE44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2492280"/>
            <a:ext cx="82292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7CB7-8119-49AE-8EF9-E15B8703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2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E38E-9055-4B59-A9F8-4A80407A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B970-59C1-4F23-9B20-77373D6A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7C8A-6F62-4C9C-864E-FF8032DE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2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07AD-9C7B-42C4-B433-EA52CBA5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8D14-1BDB-477D-8CEB-2C1C5DB3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492280"/>
            <a:ext cx="82292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C6EC-6178-476B-8644-FE460653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5BE3-0FB4-45EC-AB04-257F345C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2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593D-C053-4ED9-B269-FE996752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2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2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2A15-DDE9-40DD-A5D7-32091142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36BA-497E-4360-8024-074CCECB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24922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24922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DEB8-77BA-4D26-B180-00D403ED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2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9A4E-D430-483C-89B8-A8CEEC29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DBDD-FF7D-4120-9477-1905FD4F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5A6-BE60-4A6C-9845-0AF175FF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2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4A13-9F6B-4CD9-A363-C952DC05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D58-97F7-49F5-874D-FDE46E89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66F-804E-4C60-8D25-FC01F83F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2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5428-8590-42E8-AF00-78CF811F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 hidden="1"/>
          <p:cNvSpPr/>
          <p:nvPr/>
        </p:nvSpPr>
        <p:spPr>
          <a:xfrm>
            <a:off x="0" y="0"/>
            <a:ext cx="9143640" cy="956880"/>
          </a:xfrm>
          <a:prstGeom prst="rect">
            <a:avLst/>
          </a:prstGeom>
          <a:solidFill>
            <a:srgbClr val="0f5494"/>
          </a:solidFill>
          <a:ln>
            <a:solidFill>
              <a:srgbClr val="0f5494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6" hidden="1"/>
          <p:cNvSpPr/>
          <p:nvPr/>
        </p:nvSpPr>
        <p:spPr>
          <a:xfrm>
            <a:off x="4262400" y="6659640"/>
            <a:ext cx="610920" cy="198000"/>
          </a:xfrm>
          <a:prstGeom prst="rect">
            <a:avLst/>
          </a:prstGeom>
          <a:solidFill>
            <a:srgbClr val="133176"/>
          </a:solidFill>
          <a:ln>
            <a:solidFill>
              <a:srgbClr val="13317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400" cy="1004400"/>
          </a:xfrm>
          <a:prstGeom prst="rect">
            <a:avLst/>
          </a:prstGeom>
          <a:ln w="0">
            <a:noFill/>
          </a:ln>
        </p:spPr>
      </p:pic>
      <p:sp>
        <p:nvSpPr>
          <p:cNvPr id="3" name="Rectangle 9"/>
          <p:cNvSpPr/>
          <p:nvPr/>
        </p:nvSpPr>
        <p:spPr>
          <a:xfrm>
            <a:off x="0" y="981000"/>
            <a:ext cx="9180000" cy="5876640"/>
          </a:xfrm>
          <a:prstGeom prst="rect">
            <a:avLst/>
          </a:prstGeom>
          <a:solidFill>
            <a:srgbClr val="0f5494"/>
          </a:solidFill>
          <a:ln w="25400">
            <a:solidFill>
              <a:srgbClr val="0f5494"/>
            </a:solidFill>
            <a:miter/>
          </a:ln>
          <a:effectLst>
            <a:outerShdw dir="5400000" dist="2304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Picture 6" descr="LOGO CE-EN-quadri.eps"/>
          <p:cNvPicPr/>
          <p:nvPr/>
        </p:nvPicPr>
        <p:blipFill>
          <a:blip r:embed="rId3"/>
          <a:stretch/>
        </p:blipFill>
        <p:spPr>
          <a:xfrm>
            <a:off x="3957480" y="258840"/>
            <a:ext cx="1436400" cy="998280"/>
          </a:xfrm>
          <a:prstGeom prst="rect">
            <a:avLst/>
          </a:prstGeom>
          <a:ln w="0">
            <a:noFill/>
          </a:ln>
        </p:spPr>
      </p:pic>
      <p:sp>
        <p:nvSpPr>
          <p:cNvPr id="5" name="Rectangle 5"/>
          <p:cNvSpPr/>
          <p:nvPr/>
        </p:nvSpPr>
        <p:spPr>
          <a:xfrm>
            <a:off x="4267080" y="6659640"/>
            <a:ext cx="610920" cy="215640"/>
          </a:xfrm>
          <a:prstGeom prst="rect">
            <a:avLst/>
          </a:prstGeom>
          <a:solidFill>
            <a:srgbClr val="133176"/>
          </a:solidFill>
          <a:ln>
            <a:solidFill>
              <a:srgbClr val="13317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95640" y="2565360"/>
            <a:ext cx="5040000" cy="790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fr-BE" sz="7600" spc="-1" strike="noStrike">
                <a:solidFill>
                  <a:srgbClr val="ffd624"/>
                </a:solidFill>
                <a:latin typeface="Verdana"/>
              </a:rPr>
              <a:t>Title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F3D93E-AA68-49FC-8881-BAB2A5651FB8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3640" cy="956880"/>
          </a:xfrm>
          <a:prstGeom prst="rect">
            <a:avLst/>
          </a:prstGeom>
          <a:solidFill>
            <a:srgbClr val="0f5494"/>
          </a:solidFill>
          <a:ln>
            <a:solidFill>
              <a:srgbClr val="0f5494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4262400" y="6659640"/>
            <a:ext cx="610920" cy="198000"/>
          </a:xfrm>
          <a:prstGeom prst="rect">
            <a:avLst/>
          </a:prstGeom>
          <a:solidFill>
            <a:srgbClr val="133176"/>
          </a:solidFill>
          <a:ln>
            <a:solidFill>
              <a:srgbClr val="13317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9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400" cy="1004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2492280"/>
            <a:ext cx="8229240" cy="3528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Master text sty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9fba"/>
              </a:buClr>
              <a:buFont typeface="Symbol" charset="2"/>
              <a:buChar char=""/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Second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1430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Third level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441451-3C7C-4950-BC7B-9BD60526AB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57200" y="2133720"/>
            <a:ext cx="7678440" cy="1221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C" sz="4800" spc="-1" strike="noStrike">
                <a:solidFill>
                  <a:srgbClr val="ffd624"/>
                </a:solidFill>
                <a:latin typeface="Verdana"/>
              </a:rPr>
              <a:t>Autonomía,</a:t>
            </a:r>
            <a:br>
              <a:rPr sz="4800"/>
            </a:br>
            <a:r>
              <a:rPr b="1" lang="es-EC" sz="4800" spc="-1" strike="noStrike">
                <a:solidFill>
                  <a:srgbClr val="ffd624"/>
                </a:solidFill>
                <a:latin typeface="Verdana"/>
              </a:rPr>
              <a:t>Rendición de Cuentas</a:t>
            </a:r>
            <a:br>
              <a:rPr sz="4800"/>
            </a:br>
            <a:r>
              <a:rPr b="1" lang="es-EC" sz="4800" spc="-1" strike="noStrike">
                <a:solidFill>
                  <a:srgbClr val="ffd624"/>
                </a:solidFill>
                <a:latin typeface="Verdana"/>
              </a:rPr>
              <a:t>y Desarrollo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819520" y="4724280"/>
            <a:ext cx="6324120" cy="93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Para una descentralización dirigida al desarrollo local/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1357200" y="6172200"/>
            <a:ext cx="767844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es-EC" sz="1600" spc="-1" strike="noStrike">
                <a:solidFill>
                  <a:srgbClr val="ffffff"/>
                </a:solidFill>
                <a:latin typeface="Verdana"/>
              </a:rPr>
              <a:t>Leonardo G. Romeo, </a:t>
            </a:r>
            <a:r>
              <a:rPr b="1" lang="es-EC" sz="1600" spc="-1" strike="noStrike">
                <a:solidFill>
                  <a:srgbClr val="ffffff"/>
                </a:solidFill>
                <a:latin typeface="Arial Black"/>
              </a:rPr>
              <a:t>LDI</a:t>
            </a:r>
            <a:r>
              <a:rPr b="1" lang="es-EC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C" sz="1050" spc="-1" strike="noStrike">
                <a:solidFill>
                  <a:srgbClr val="ffffff"/>
                </a:solidFill>
                <a:latin typeface="Verdana"/>
              </a:rPr>
              <a:t>LLC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10"/>
              </a:spcBef>
              <a:tabLst>
                <a:tab algn="l" pos="0"/>
              </a:tabLst>
            </a:pPr>
            <a:r>
              <a:rPr b="1" lang="es-EC" sz="1050" spc="-1" strike="noStrike">
                <a:solidFill>
                  <a:srgbClr val="ffffff"/>
                </a:solidFill>
                <a:latin typeface="Verdana"/>
              </a:rPr>
              <a:t>Quito,  11 Junio 2013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641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Donde va América Latin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8305920" y="195840"/>
            <a:ext cx="609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52280" y="2057400"/>
            <a:ext cx="8838720" cy="44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28908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</a:pP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Reformas de las tres ultimas décadas parecen inspiradas por el modelo “</a:t>
            </a:r>
            <a:r>
              <a:rPr b="0" i="1" lang="es-EC" sz="1400" spc="-1" strike="noStrike">
                <a:solidFill>
                  <a:srgbClr val="0f5494"/>
                </a:solidFill>
                <a:latin typeface="Verdana"/>
              </a:rPr>
              <a:t>gobierno pleno</a:t>
            </a: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908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</a:pP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Realidad muy distinta de la retorica : GL se limitan a cumplir con funciones obligatorias relativamente marginales y el principio de “competencia general” 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5840">
              <a:lnSpc>
                <a:spcPct val="100000"/>
              </a:lnSpc>
              <a:buClr>
                <a:srgbClr val="0f5494"/>
              </a:buClr>
              <a:buFont typeface="Courier New"/>
              <a:buChar char="o"/>
            </a:pP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Reconocido</a:t>
            </a: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 (mas o menos) formalmente </a:t>
            </a: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pero no realmente apoyado</a:t>
            </a: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 por el Estado (falta de una política nacional de desarrollo loc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5840">
              <a:lnSpc>
                <a:spcPct val="100000"/>
              </a:lnSpc>
              <a:buClr>
                <a:srgbClr val="0f5494"/>
              </a:buClr>
              <a:buFont typeface="Courier New"/>
              <a:buChar char="o"/>
            </a:pP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Reclamado</a:t>
            </a: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 por las autoridades locales </a:t>
            </a: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pero no realmente asumido</a:t>
            </a: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 e implementado (falta de liderazgo y responsabilidad loc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El modelo “</a:t>
            </a:r>
            <a:r>
              <a:rPr b="0" i="1" lang="es-EC" sz="1400" spc="-1" strike="noStrike">
                <a:solidFill>
                  <a:srgbClr val="0f5494"/>
                </a:solidFill>
                <a:latin typeface="Verdana"/>
              </a:rPr>
              <a:t>gestor de servicios</a:t>
            </a: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” </a:t>
            </a: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se cándida a substituir</a:t>
            </a: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 el modelo “gobierno pleno” como inspiración de la próxima hola de reformas de descentralización (o re-centralización). Ejemplo mas claro: Chile con la valorización de los GL como “agentes” del Estado, la estricta focalización funcional de las transferencias y el monitoreo estatal de los estándares de servicio local.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Pregunt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136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0"/>
              </a:tabLst>
            </a:pP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Estamos asistiendo al inicio de un nuevo ciclo de re-centralización? (</a:t>
            </a:r>
            <a:r>
              <a:rPr b="1" i="1" lang="es-EC" sz="1400" spc="-1" strike="noStrike">
                <a:solidFill>
                  <a:srgbClr val="0f5494"/>
                </a:solidFill>
                <a:latin typeface="Verdana"/>
              </a:rPr>
              <a:t>Yo no lo cre</a:t>
            </a: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136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0"/>
              </a:tabLst>
            </a:pP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Es la valorización de los GL como agentes del estado contradictoria con un rol de promoción autónoma del desarrollo local? (</a:t>
            </a:r>
            <a:r>
              <a:rPr b="1" i="1" lang="es-EC" sz="1400" spc="-1" strike="noStrike">
                <a:solidFill>
                  <a:srgbClr val="0f5494"/>
                </a:solidFill>
                <a:latin typeface="Verdana"/>
              </a:rPr>
              <a:t>Yo no lo cre</a:t>
            </a: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136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0"/>
              </a:tabLst>
            </a:pP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Se puede realizar una síntesis de los dos modelos? (</a:t>
            </a:r>
            <a:r>
              <a:rPr b="1" i="1" lang="es-EC" sz="1400" spc="-1" strike="noStrike">
                <a:solidFill>
                  <a:srgbClr val="0f5494"/>
                </a:solidFill>
                <a:latin typeface="Verdana"/>
              </a:rPr>
              <a:t>Si y esto es el desafío</a:t>
            </a: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641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Que rol para la asistencia extern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8305920" y="195840"/>
            <a:ext cx="609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152280" y="2089440"/>
            <a:ext cx="883872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Por un lado, </a:t>
            </a:r>
            <a:r>
              <a:rPr b="0" lang="es-EC" sz="1800" spc="-1" strike="noStrike" u="sng">
                <a:solidFill>
                  <a:srgbClr val="0070c0"/>
                </a:solidFill>
                <a:uFillTx/>
                <a:latin typeface="Verdana"/>
              </a:rPr>
              <a:t>superar la alternativa centralismo o devolución</a:t>
            </a: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 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Apoyar experimentos de </a:t>
            </a:r>
            <a:r>
              <a:rPr b="1" lang="es-EC" sz="1800" spc="-1" strike="noStrike">
                <a:solidFill>
                  <a:srgbClr val="0070c0"/>
                </a:solidFill>
                <a:latin typeface="Verdana"/>
              </a:rPr>
              <a:t>delegación</a:t>
            </a: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 contractual de prestación de servicios en educación, salud, asistencia social, vivienda, agua. (programas y proyectos específ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Por otro lado, </a:t>
            </a:r>
            <a:r>
              <a:rPr b="0" lang="es-EC" sz="1800" spc="-1" strike="noStrike" u="sng">
                <a:solidFill>
                  <a:srgbClr val="0070c0"/>
                </a:solidFill>
                <a:uFillTx/>
                <a:latin typeface="Verdana"/>
              </a:rPr>
              <a:t>superar el marco tradicional de la descentralización fiscal</a:t>
            </a: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 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Ayudar a diseñar y adoptar una </a:t>
            </a:r>
            <a:r>
              <a:rPr b="1" lang="es-EC" sz="1800" spc="-1" strike="noStrike">
                <a:solidFill>
                  <a:srgbClr val="0070c0"/>
                </a:solidFill>
                <a:latin typeface="Verdana"/>
              </a:rPr>
              <a:t>política nacional </a:t>
            </a: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de promoción del desarrollo local/territorial que informe las reformas de descentralización (dialogo de política con el Estado y con las asociaciones de GL y eventualmente apoyo presupuestario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Apoyar </a:t>
            </a:r>
            <a:r>
              <a:rPr b="0" i="1" lang="es-EC" sz="1800" spc="-1" strike="noStrike">
                <a:solidFill>
                  <a:srgbClr val="0070c0"/>
                </a:solidFill>
                <a:latin typeface="Verdana"/>
              </a:rPr>
              <a:t>directamente</a:t>
            </a: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s-EC" sz="1800" spc="-1" strike="noStrike">
                <a:solidFill>
                  <a:srgbClr val="0070c0"/>
                </a:solidFill>
                <a:latin typeface="Verdana"/>
              </a:rPr>
              <a:t>iniciativas autónomas </a:t>
            </a: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de promoción del desarrollo local por los GL y sus asociaciones (programas y proyectos específ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686440" cy="4725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i="1" lang="es-EC" sz="2800" spc="-1" strike="noStrike">
                <a:solidFill>
                  <a:srgbClr val="0f5494"/>
                </a:solidFill>
                <a:latin typeface="Verdana"/>
              </a:rPr>
              <a:t>Marco analítico básico :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9fba"/>
              </a:buClr>
              <a:buFont typeface="Symbol" charset="2"/>
              <a:buChar char=""/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El doble papel de un gobierno sub-naciona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9fba"/>
              </a:buClr>
              <a:buFont typeface="Symbol" charset="2"/>
              <a:buChar char=""/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Autonomía y Rendición de Cuenta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9fba"/>
              </a:buClr>
              <a:buFont typeface="Symbol" charset="2"/>
              <a:buChar char=""/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Entender el Desarrollo Local/Territoria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i="1" lang="es-EC" sz="2800" spc="-1" strike="noStrike">
                <a:solidFill>
                  <a:srgbClr val="0f5494"/>
                </a:solidFill>
                <a:latin typeface="Verdana"/>
              </a:rPr>
              <a:t>Dos Ideal-tipos de gobierno sub-nacional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9fba"/>
              </a:buClr>
              <a:buFont typeface="Symbol" charset="2"/>
              <a:buChar char=""/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GSN como “gestor de servicios” o “gobierno pleno” ?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9fba"/>
              </a:buClr>
              <a:buFont typeface="Symbol" charset="2"/>
              <a:buChar char=""/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Donde va América Latina?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9fba"/>
              </a:buClr>
              <a:buFont typeface="Symbol" charset="2"/>
              <a:buChar char=""/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Consecuencias para la asistencia externa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8305920" y="195840"/>
            <a:ext cx="609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339920"/>
            <a:ext cx="8239680" cy="641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Los dos papeles de un Gobierno Sub-Nac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52280" y="1981080"/>
            <a:ext cx="8849160" cy="44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un Gobierno sub-nacional (GSN) tiene </a:t>
            </a:r>
            <a:r>
              <a:rPr b="0" lang="es-EC" sz="1800" spc="-1" strike="noStrike" u="sng">
                <a:solidFill>
                  <a:schemeClr val="accent6"/>
                </a:solidFill>
                <a:uFillTx/>
                <a:latin typeface="Verdana"/>
              </a:rPr>
              <a:t>dos</a:t>
            </a: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 papel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60"/>
              </a:spcBef>
              <a:buClr>
                <a:srgbClr val="2d2d8a"/>
              </a:buClr>
              <a:buFont typeface="Verdana"/>
              <a:buAutoNum type="arabicPeriod"/>
              <a:tabLst>
                <a:tab algn="l" pos="0"/>
              </a:tabLst>
            </a:pP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Representar, y atender al bienestar de, una comunidad política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60"/>
              </a:spcBef>
              <a:buClr>
                <a:srgbClr val="2d2d8a"/>
              </a:buClr>
              <a:buFont typeface="Verdana"/>
              <a:buAutoNum type="arabicPeriod"/>
              <a:tabLst>
                <a:tab algn="l" pos="0"/>
              </a:tabLst>
            </a:pP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Representar, y facilitar la acción del Estado en la lo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es-EC" sz="1800" spc="-1" strike="noStrike">
                <a:solidFill>
                  <a:srgbClr val="c00000"/>
                </a:solidFill>
                <a:latin typeface="Verdana"/>
              </a:rPr>
              <a:t>Observ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2d2d8a"/>
              </a:buClr>
              <a:buFont typeface="Verdana"/>
              <a:buChar char="•"/>
              <a:tabLst>
                <a:tab algn="l" pos="0"/>
              </a:tabLst>
            </a:pPr>
            <a:r>
              <a:rPr b="0" lang="es-EC" sz="1600" spc="-1" strike="noStrike">
                <a:solidFill>
                  <a:srgbClr val="2d2d8a"/>
                </a:solidFill>
                <a:latin typeface="Verdana"/>
              </a:rPr>
              <a:t>En la practica, los dos papeles se enfatizan de manera diferente en diferentes países, y esto gener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81"/>
              </a:spcBef>
              <a:buClr>
                <a:srgbClr val="2d2d8a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s-EC" sz="1400" spc="-1" strike="noStrike">
                <a:solidFill>
                  <a:srgbClr val="2d2d8a"/>
                </a:solidFill>
                <a:latin typeface="Verdana"/>
              </a:rPr>
              <a:t>Diferentes grados/formas de Autonomía Local y Rendición de Cuent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81"/>
              </a:spcBef>
              <a:buClr>
                <a:srgbClr val="2d2d8a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s-EC" sz="1400" spc="-1" strike="noStrike">
                <a:solidFill>
                  <a:srgbClr val="2d2d8a"/>
                </a:solidFill>
                <a:latin typeface="Verdana"/>
              </a:rPr>
              <a:t>diferentes alcances de la descentralización política, administrativa y fiscal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81"/>
              </a:spcBef>
              <a:buClr>
                <a:srgbClr val="2d2d8a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s-EC" sz="1400" spc="-1" strike="noStrike">
                <a:solidFill>
                  <a:srgbClr val="2d2d8a"/>
                </a:solidFill>
                <a:latin typeface="Verdana"/>
              </a:rPr>
              <a:t>diferentes modelos de gobierno loc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2d2d8a"/>
              </a:buClr>
              <a:buFont typeface="Verdana"/>
              <a:buChar char="•"/>
              <a:tabLst>
                <a:tab algn="l" pos="0"/>
              </a:tabLst>
            </a:pPr>
            <a:r>
              <a:rPr b="0" lang="es-EC" sz="1600" spc="-1" strike="noStrike">
                <a:solidFill>
                  <a:srgbClr val="2d2d8a"/>
                </a:solidFill>
                <a:latin typeface="Verdana"/>
              </a:rPr>
              <a:t>Elemento clave de diferenciación es como se entiende el </a:t>
            </a:r>
            <a:r>
              <a:rPr b="1" lang="es-EC" sz="1600" spc="-1" strike="noStrike" u="sng">
                <a:solidFill>
                  <a:srgbClr val="2d2d8a"/>
                </a:solidFill>
                <a:uFillTx/>
                <a:latin typeface="Verdana"/>
              </a:rPr>
              <a:t>desarrollo local / territorial</a:t>
            </a:r>
            <a:r>
              <a:rPr b="0" lang="es-EC" sz="1600" spc="-1" strike="noStrike" u="sng">
                <a:solidFill>
                  <a:srgbClr val="2d2d8a"/>
                </a:solidFill>
                <a:uFillTx/>
                <a:latin typeface="Verdana"/>
              </a:rPr>
              <a:t> </a:t>
            </a:r>
            <a:r>
              <a:rPr b="0" lang="es-EC" sz="1600" spc="-1" strike="noStrike">
                <a:solidFill>
                  <a:srgbClr val="2d2d8a"/>
                </a:solidFill>
                <a:latin typeface="Verdana"/>
              </a:rPr>
              <a:t> y si existe o no, una política nacional para su promo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2d2d8a"/>
              </a:buClr>
              <a:buFont typeface="Verdana"/>
              <a:buChar char="•"/>
              <a:tabLst>
                <a:tab algn="l" pos="0"/>
              </a:tabLst>
            </a:pPr>
            <a:r>
              <a:rPr b="0" lang="es-EC" sz="1600" spc="-1" strike="noStrike">
                <a:solidFill>
                  <a:srgbClr val="2d2d8a"/>
                </a:solidFill>
                <a:latin typeface="Verdana"/>
              </a:rPr>
              <a:t>Aclarar la relación “autonomía/rendición de cuentas” , y sus manifestaciones  político-institucionales es básico para una asistencia externa que quiera apoyar </a:t>
            </a:r>
            <a:r>
              <a:rPr b="1" lang="es-EC" sz="1600" spc="-1" strike="noStrike" u="sng">
                <a:solidFill>
                  <a:srgbClr val="2d2d8a"/>
                </a:solidFill>
                <a:uFillTx/>
                <a:latin typeface="Verdana"/>
              </a:rPr>
              <a:t>una descentralización orientada al desarrollo local</a:t>
            </a:r>
            <a:r>
              <a:rPr b="0" lang="es-EC" sz="1600" spc="-1" strike="noStrike">
                <a:solidFill>
                  <a:srgbClr val="2d2d8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305920" y="195840"/>
            <a:ext cx="609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4880" y="1219320"/>
            <a:ext cx="8534160" cy="433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Autonomía y Rendición de Cuentas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60280" y="1847880"/>
            <a:ext cx="880704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es-EC" sz="1800" spc="-1" strike="noStrike">
                <a:solidFill>
                  <a:srgbClr val="2d2d8a"/>
                </a:solidFill>
                <a:latin typeface="Verdana"/>
              </a:rPr>
              <a:t>La</a:t>
            </a:r>
            <a:r>
              <a:rPr b="1" lang="es-EC" sz="18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1" lang="es-EC" sz="1800" spc="-1" strike="noStrike">
                <a:solidFill>
                  <a:srgbClr val="c00000"/>
                </a:solidFill>
                <a:latin typeface="Verdana"/>
              </a:rPr>
              <a:t>Autonomía </a:t>
            </a: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es necesaria para que un GS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60"/>
              </a:spcBef>
              <a:buClr>
                <a:srgbClr val="2d2d8a"/>
              </a:buClr>
              <a:buFont typeface="Verdana"/>
              <a:buAutoNum type="arabicPeriod"/>
              <a:tabLst>
                <a:tab algn="l" pos="0"/>
              </a:tabLst>
            </a:pP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Desarrolle e implemente </a:t>
            </a:r>
            <a:r>
              <a:rPr b="0" i="1" lang="es-EC" sz="1800" spc="-1" strike="noStrike">
                <a:solidFill>
                  <a:schemeClr val="accent6"/>
                </a:solidFill>
                <a:latin typeface="Verdana"/>
              </a:rPr>
              <a:t>sus propias políticas </a:t>
            </a: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de desarrollo local y movilice recursos adicionales (asociando la sociedad civil y el sector privad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60"/>
              </a:spcBef>
              <a:buClr>
                <a:srgbClr val="2d2d8a"/>
              </a:buClr>
              <a:buFont typeface="Verdana"/>
              <a:buAutoNum type="arabicPeriod"/>
              <a:tabLst>
                <a:tab algn="l" pos="0"/>
              </a:tabLst>
            </a:pP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Mejore el diseño e implementación local de las </a:t>
            </a:r>
            <a:r>
              <a:rPr b="0" i="1" lang="es-EC" sz="1800" spc="-1" strike="noStrike">
                <a:solidFill>
                  <a:schemeClr val="accent6"/>
                </a:solidFill>
                <a:latin typeface="Verdana"/>
              </a:rPr>
              <a:t>políticas centrales</a:t>
            </a: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 y la eficiencia del gasto publico correspondiente (aportando información y facilitando adapt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260280" y="1371600"/>
            <a:ext cx="865476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71080" y="4191120"/>
            <a:ext cx="880704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es-EC" sz="1800" spc="-1" strike="noStrike">
                <a:solidFill>
                  <a:srgbClr val="2d2d8a"/>
                </a:solidFill>
                <a:latin typeface="Verdana"/>
              </a:rPr>
              <a:t>La</a:t>
            </a:r>
            <a:r>
              <a:rPr b="1" lang="es-EC" sz="18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1" lang="es-EC" sz="1800" spc="-1" strike="noStrike">
                <a:solidFill>
                  <a:srgbClr val="c00000"/>
                </a:solidFill>
                <a:latin typeface="Verdana"/>
              </a:rPr>
              <a:t>Rendición de Cuentas </a:t>
            </a: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es necesaria para que un GS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60"/>
              </a:spcBef>
              <a:buClr>
                <a:srgbClr val="2d2d8a"/>
              </a:buClr>
              <a:buFont typeface="Verdana"/>
              <a:buAutoNum type="arabicPeriod"/>
              <a:tabLst>
                <a:tab algn="l" pos="0"/>
              </a:tabLst>
            </a:pP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De respuestas a todas las componentes de la sociedad local (adoptando formas de participación a la decisión  y de auditoria soc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60"/>
              </a:spcBef>
              <a:buClr>
                <a:srgbClr val="2d2d8a"/>
              </a:buClr>
              <a:buFont typeface="Verdana"/>
              <a:buAutoNum type="arabicPeriod"/>
              <a:tabLst>
                <a:tab algn="l" pos="0"/>
              </a:tabLst>
            </a:pP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Se alinee con el esfuerzo de desarrollo del Estado central (en el marco de un sistema efectivo de apoyo y supervisión inter-gubernamen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"/>
          <p:cNvSpPr/>
          <p:nvPr/>
        </p:nvSpPr>
        <p:spPr>
          <a:xfrm>
            <a:off x="8077320" y="152280"/>
            <a:ext cx="68544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8305920" y="195840"/>
            <a:ext cx="609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s-EC" sz="1800" spc="-1" strike="noStrike">
                <a:solidFill>
                  <a:srgbClr val="c00000"/>
                </a:solidFill>
                <a:latin typeface="Verdana"/>
              </a:rPr>
              <a:t>Sin autonomía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Se hace mas difícil movilizar recursos adicionales (de la comunidad y del sector privado) y promover un desarrollo auténticamente “local” (ver mas adelante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Se hace mas difícil ajustar a las condiciones locales las políticas del Estado central, y realizar ganancias en la eficiencia del gasto publico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2d2d8a"/>
              </a:buClr>
              <a:buFont typeface="Wingdings" charset="2"/>
              <a:buChar char=""/>
            </a:pPr>
            <a:r>
              <a:rPr b="1" lang="es-EC" sz="1800" spc="-1" strike="noStrike" u="sng">
                <a:solidFill>
                  <a:srgbClr val="2d2d8a"/>
                </a:solidFill>
                <a:uFillTx/>
                <a:latin typeface="Verdana"/>
              </a:rPr>
              <a:t>Resultado</a:t>
            </a:r>
            <a:r>
              <a:rPr b="1" lang="es-EC" sz="1800" spc="-1" strike="noStrike">
                <a:solidFill>
                  <a:srgbClr val="2d2d8a"/>
                </a:solidFill>
                <a:latin typeface="Verdana"/>
              </a:rPr>
              <a:t>: El Estado renuncia a los beneficios potenciales del “desarrollo local” (Los GSN </a:t>
            </a:r>
            <a:r>
              <a:rPr b="1" i="1" lang="es-EC" sz="1800" spc="-1" strike="noStrike" u="sng">
                <a:solidFill>
                  <a:srgbClr val="2d2d8a"/>
                </a:solidFill>
                <a:uFillTx/>
                <a:latin typeface="Verdana"/>
              </a:rPr>
              <a:t>no son </a:t>
            </a:r>
            <a:r>
              <a:rPr b="1" lang="es-EC" sz="1800" spc="-1" strike="noStrike">
                <a:solidFill>
                  <a:srgbClr val="2d2d8a"/>
                </a:solidFill>
                <a:latin typeface="Verdana"/>
              </a:rPr>
              <a:t>“GOBIERNOS DE DESARROLLO”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" charset="2"/>
              <a:buChar char="•"/>
            </a:pPr>
            <a:r>
              <a:rPr b="1" lang="es-EC" sz="1800" spc="-1" strike="noStrike">
                <a:solidFill>
                  <a:srgbClr val="c00000"/>
                </a:solidFill>
                <a:latin typeface="Verdana"/>
              </a:rPr>
              <a:t>Sin rendición de cuentas</a:t>
            </a:r>
            <a:r>
              <a:rPr b="0" lang="es-EC" sz="1800" spc="-1" strike="noStrike">
                <a:solidFill>
                  <a:srgbClr val="c00000"/>
                </a:solidFill>
                <a:latin typeface="Verdana"/>
              </a:rPr>
              <a:t>: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Aumentan los riesgos (i) de “captura” del GSN por una elite y (ii) de desatención a la pobreza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Aumenta el riesgo de GSN “fuera de control” (riesgos macro-económicos , de disparidad territorial , de ineficiencia en la inversión publica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2d2d8a"/>
              </a:buClr>
              <a:buFont typeface="Wingdings" charset="2"/>
              <a:buChar char=""/>
            </a:pPr>
            <a:r>
              <a:rPr b="1" lang="es-EC" sz="1800" spc="-1" strike="noStrike" u="sng">
                <a:solidFill>
                  <a:srgbClr val="2d2d8a"/>
                </a:solidFill>
                <a:uFillTx/>
                <a:latin typeface="Verdana"/>
              </a:rPr>
              <a:t>Resultado</a:t>
            </a:r>
            <a:r>
              <a:rPr b="1" lang="es-EC" sz="1800" spc="-1" strike="noStrike">
                <a:solidFill>
                  <a:srgbClr val="2d2d8a"/>
                </a:solidFill>
                <a:latin typeface="Verdana"/>
              </a:rPr>
              <a:t>: Disminuye la capacidad del Estado de fomentar el crecimiento y reducir la pobreza (El Gobierno Central </a:t>
            </a:r>
            <a:r>
              <a:rPr b="1" i="1" lang="es-EC" sz="1800" spc="-1" strike="noStrike" u="sng">
                <a:solidFill>
                  <a:srgbClr val="2d2d8a"/>
                </a:solidFill>
                <a:uFillTx/>
                <a:latin typeface="Verdana"/>
              </a:rPr>
              <a:t>es menos </a:t>
            </a:r>
            <a:r>
              <a:rPr b="1" lang="es-EC" sz="1800" spc="-1" strike="noStrike">
                <a:solidFill>
                  <a:srgbClr val="2d2d8a"/>
                </a:solidFill>
                <a:latin typeface="Verdana"/>
              </a:rPr>
              <a:t>“GOBIERNO DE DESARROLLO”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" charset="2"/>
              <a:buChar char="•"/>
            </a:pPr>
            <a:r>
              <a:rPr b="0" i="1" lang="es-EC" sz="18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•"/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34880" y="1219320"/>
            <a:ext cx="8534160" cy="433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…</a:t>
            </a: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.de lo contrario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8305920" y="195840"/>
            <a:ext cx="609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339920"/>
            <a:ext cx="8856360" cy="576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Entender</a:t>
            </a:r>
            <a:r>
              <a:rPr b="1" lang="es-EC" sz="2800" spc="-1" strike="noStrike">
                <a:solidFill>
                  <a:srgbClr val="0f5494"/>
                </a:solidFill>
                <a:latin typeface="Verdana"/>
              </a:rPr>
              <a:t> el desarrollo “local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888804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El balance “autonomía/ rendición de cuentas” </a:t>
            </a:r>
            <a:r>
              <a:rPr b="1" lang="es-EC" sz="1600" spc="-1" strike="noStrike">
                <a:solidFill>
                  <a:srgbClr val="c00000"/>
                </a:solidFill>
                <a:latin typeface="Verdana"/>
              </a:rPr>
              <a:t>define los incentivos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 para promoción del desarrollo local. Sin embargo: que es verdaderamente el desarrollo “local” ? 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En la expresión “</a:t>
            </a:r>
            <a:r>
              <a:rPr b="1" lang="es-EC" sz="1600" spc="-1" strike="noStrike">
                <a:solidFill>
                  <a:srgbClr val="c00000"/>
                </a:solidFill>
                <a:latin typeface="Verdana"/>
              </a:rPr>
              <a:t>Desarrollo Local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” la palabra “local” no se refiere tanto a un </a:t>
            </a:r>
            <a:r>
              <a:rPr b="0" i="1" lang="es-EC" sz="1600" spc="-1" strike="noStrike">
                <a:solidFill>
                  <a:srgbClr val="0f5494"/>
                </a:solidFill>
                <a:latin typeface="Verdana"/>
              </a:rPr>
              <a:t>“donde” 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cuanto a un </a:t>
            </a:r>
            <a:r>
              <a:rPr b="0" i="1" lang="es-EC" sz="1600" spc="-1" strike="noStrike">
                <a:solidFill>
                  <a:srgbClr val="0f5494"/>
                </a:solidFill>
                <a:latin typeface="Verdana"/>
              </a:rPr>
              <a:t>“quien y como”, 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es decir se refiere a </a:t>
            </a:r>
            <a:r>
              <a:rPr b="0" i="1" lang="es-EC" sz="1600" spc="-1" strike="noStrike">
                <a:solidFill>
                  <a:srgbClr val="0f5494"/>
                </a:solidFill>
                <a:latin typeface="Verdana"/>
              </a:rPr>
              <a:t>los actores 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que promueven el desarrollo y a </a:t>
            </a:r>
            <a:r>
              <a:rPr b="0" i="1" lang="es-EC" sz="1600" spc="-1" strike="noStrike">
                <a:solidFill>
                  <a:srgbClr val="0f5494"/>
                </a:solidFill>
                <a:latin typeface="Verdana"/>
              </a:rPr>
              <a:t>los recursos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 que ellos movilizan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Un autentico desarrollo local es </a:t>
            </a:r>
            <a:r>
              <a:rPr b="1" i="1" lang="es-EC" sz="1600" spc="-1" strike="noStrike">
                <a:solidFill>
                  <a:srgbClr val="c00000"/>
                </a:solidFill>
                <a:latin typeface="Verdana"/>
              </a:rPr>
              <a:t>endógeno</a:t>
            </a:r>
            <a:r>
              <a:rPr b="1" lang="es-EC" sz="1600" spc="-1" strike="noStrike">
                <a:solidFill>
                  <a:srgbClr val="c00000"/>
                </a:solidFill>
                <a:latin typeface="Verdana"/>
              </a:rPr>
              <a:t>, </a:t>
            </a:r>
            <a:r>
              <a:rPr b="1" i="1" lang="es-EC" sz="1600" spc="-1" strike="noStrike">
                <a:solidFill>
                  <a:srgbClr val="c00000"/>
                </a:solidFill>
                <a:latin typeface="Verdana"/>
              </a:rPr>
              <a:t>abierto e incremental</a:t>
            </a:r>
            <a:r>
              <a:rPr b="1" lang="es-EC" sz="1600" spc="-1" strike="noStrike">
                <a:solidFill>
                  <a:srgbClr val="0f5494"/>
                </a:solidFill>
                <a:latin typeface="Verdana"/>
              </a:rPr>
              <a:t>,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 es decir (i) moviliza recursos (económicos, sociales y políticos) de la localidad, (ii) los combina con recursos de origen nacional o global y (iii) los lleva a </a:t>
            </a:r>
            <a:r>
              <a:rPr b="0" lang="es-EC" sz="1600" spc="-1" strike="noStrike" u="sng">
                <a:solidFill>
                  <a:srgbClr val="0f5494"/>
                </a:solidFill>
                <a:uFillTx/>
                <a:latin typeface="Verdana"/>
              </a:rPr>
              <a:t>suplementar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 el esfuerzo nacional de desarrollo en un </a:t>
            </a:r>
            <a:r>
              <a:rPr b="1" lang="es-EC" sz="1600" spc="-1" strike="noStrike">
                <a:solidFill>
                  <a:srgbClr val="c00000"/>
                </a:solidFill>
                <a:latin typeface="Verdana"/>
              </a:rPr>
              <a:t>juego a suma positiva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Entre todos los actores (públicos, comunitario, y privados) que operan en el nivel local, los </a:t>
            </a:r>
            <a:r>
              <a:rPr b="1" lang="es-EC" sz="1600" spc="-1" strike="noStrike">
                <a:solidFill>
                  <a:srgbClr val="c00000"/>
                </a:solidFill>
                <a:latin typeface="Verdana"/>
              </a:rPr>
              <a:t>gobiernos locales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 tienen mayores ventajas comparativas en promover el desarrollo local (como arriba definido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8305920" y="195840"/>
            <a:ext cx="609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0" y="1371600"/>
            <a:ext cx="6490800" cy="93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C" sz="3000" spc="-1" strike="noStrike">
                <a:solidFill>
                  <a:srgbClr val="0f5494"/>
                </a:solidFill>
                <a:latin typeface="Verdana"/>
              </a:rPr>
              <a:t>Autonomia y desarrollo loc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2492280"/>
            <a:ext cx="8457840" cy="3831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5144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s-EC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s-EC" sz="2400" spc="-1" strike="noStrike">
                <a:solidFill>
                  <a:srgbClr val="0f5494"/>
                </a:solidFill>
                <a:latin typeface="Verdana"/>
              </a:rPr>
              <a:t>Entender la importancia de la </a:t>
            </a:r>
            <a:r>
              <a:rPr b="1" i="1" lang="es-EC" sz="2400" spc="-1" strike="noStrike" u="sng">
                <a:solidFill>
                  <a:srgbClr val="0f5494"/>
                </a:solidFill>
                <a:uFillTx/>
                <a:latin typeface="Verdana"/>
              </a:rPr>
              <a:t>autonomía</a:t>
            </a:r>
            <a:r>
              <a:rPr b="0" i="1" lang="es-EC" sz="2400" spc="-1" strike="noStrike">
                <a:solidFill>
                  <a:srgbClr val="0f5494"/>
                </a:solidFill>
                <a:latin typeface="Verdana"/>
              </a:rPr>
              <a:t> para promoción del desarrollo local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971640" indent="-514440">
              <a:lnSpc>
                <a:spcPct val="100000"/>
              </a:lnSpc>
              <a:spcBef>
                <a:spcPts val="400"/>
              </a:spcBef>
              <a:buClr>
                <a:srgbClr val="009fba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s-EC" sz="2000" spc="-1" strike="noStrike">
                <a:solidFill>
                  <a:srgbClr val="0f5494"/>
                </a:solidFill>
                <a:latin typeface="Verdana"/>
              </a:rPr>
              <a:t>Autonomía como “iniciativa” (el </a:t>
            </a:r>
            <a:r>
              <a:rPr b="1" lang="es-EC" sz="2000" spc="-1" strike="noStrike" u="sng">
                <a:solidFill>
                  <a:srgbClr val="0f5494"/>
                </a:solidFill>
                <a:uFillTx/>
                <a:latin typeface="Verdana"/>
              </a:rPr>
              <a:t>que pueden hacer</a:t>
            </a:r>
            <a:r>
              <a:rPr b="1" lang="es-EC" sz="2000" spc="-1" strike="noStrike">
                <a:solidFill>
                  <a:srgbClr val="0f5494"/>
                </a:solidFill>
                <a:latin typeface="Verdana"/>
              </a:rPr>
              <a:t> los GSN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971640" indent="-514440">
              <a:lnSpc>
                <a:spcPct val="100000"/>
              </a:lnSpc>
              <a:spcBef>
                <a:spcPts val="400"/>
              </a:spcBef>
              <a:buClr>
                <a:srgbClr val="009fba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s-EC" sz="2000" spc="-1" strike="noStrike">
                <a:solidFill>
                  <a:srgbClr val="0f5494"/>
                </a:solidFill>
                <a:latin typeface="Verdana"/>
              </a:rPr>
              <a:t>Autonomía como “inmunidad” (Como pueden hacerlo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971640" indent="-514440">
              <a:lnSpc>
                <a:spcPct val="100000"/>
              </a:lnSpc>
              <a:spcBef>
                <a:spcPts val="400"/>
              </a:spcBef>
              <a:buClr>
                <a:srgbClr val="009fba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s-EC" sz="2000" spc="-1" strike="noStrike">
                <a:solidFill>
                  <a:srgbClr val="0f5494"/>
                </a:solidFill>
                <a:latin typeface="Verdana"/>
              </a:rPr>
              <a:t>Autonomía y planificación descentralizada del desarrollo  : planificación local o localización de planes y objetivos  nacionales/globales ?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339920"/>
            <a:ext cx="8838720" cy="433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0280" y="6172200"/>
            <a:ext cx="877536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r>
              <a:rPr b="0" lang="es-EC" sz="1100" spc="-1" strike="noStrike">
                <a:solidFill>
                  <a:srgbClr val="0f5494"/>
                </a:solidFill>
                <a:latin typeface="Verdana"/>
              </a:rPr>
              <a:t>(*) Esta lamina y la siguiente se basan en : Andrew Nickson, </a:t>
            </a:r>
            <a:r>
              <a:rPr b="0" lang="es-EC" sz="1100" spc="-1" strike="noStrike" u="sng">
                <a:solidFill>
                  <a:srgbClr val="0f5494"/>
                </a:solidFill>
                <a:uFillTx/>
                <a:latin typeface="Verdana"/>
              </a:rPr>
              <a:t>Where is local Government going in Latin America? A comparative perspective </a:t>
            </a:r>
            <a:r>
              <a:rPr b="0" lang="es-EC" sz="1100" spc="-1" strike="noStrike">
                <a:solidFill>
                  <a:srgbClr val="0f5494"/>
                </a:solidFill>
                <a:latin typeface="Verdana"/>
              </a:rPr>
              <a:t>(UNU forthcoming 2013). La tabla es una versión modificada/reducida de la presentada por Nickson</a:t>
            </a:r>
            <a:endParaRPr b="0" i="1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60280" y="1916280"/>
            <a:ext cx="8704080" cy="12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Cual es el propósito del gobierno sub-nacional ? Una propuesta recién de clasificación(*) propone dos modelos ideales/extremos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GSN como “</a:t>
            </a:r>
            <a:r>
              <a:rPr b="1" lang="es-EC" sz="1600" spc="-1" strike="noStrike">
                <a:solidFill>
                  <a:srgbClr val="c00000"/>
                </a:solidFill>
                <a:latin typeface="Verdana"/>
              </a:rPr>
              <a:t>gobierno pleno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”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GSN como “</a:t>
            </a:r>
            <a:r>
              <a:rPr b="1" lang="es-EC" sz="1600" spc="-1" strike="noStrike">
                <a:solidFill>
                  <a:srgbClr val="c00000"/>
                </a:solidFill>
                <a:latin typeface="Verdana"/>
              </a:rPr>
              <a:t>gestor de servicios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” específ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tle 1"/>
          <p:cNvSpPr/>
          <p:nvPr/>
        </p:nvSpPr>
        <p:spPr>
          <a:xfrm>
            <a:off x="108000" y="1339920"/>
            <a:ext cx="885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58920" indent="-358920" algn="r">
              <a:lnSpc>
                <a:spcPct val="100000"/>
              </a:lnSpc>
              <a:tabLst>
                <a:tab algn="l" pos="0"/>
              </a:tabLst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Dos modelos de gobierno sub-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Table 1"/>
          <p:cNvGraphicFramePr/>
          <p:nvPr/>
        </p:nvGraphicFramePr>
        <p:xfrm>
          <a:off x="260280" y="3200400"/>
          <a:ext cx="8654760" cy="2895120"/>
        </p:xfrm>
        <a:graphic>
          <a:graphicData uri="http://schemas.openxmlformats.org/drawingml/2006/table">
            <a:tbl>
              <a:tblPr/>
              <a:tblGrid>
                <a:gridCol w="2635200"/>
                <a:gridCol w="2971800"/>
                <a:gridCol w="3047760"/>
              </a:tblGrid>
              <a:tr h="418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s-EC" sz="1800" spc="-1" strike="noStrike">
                        <a:solidFill>
                          <a:schemeClr val="lt1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Gestor de servic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Gobierno pl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5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Estatus le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Creatura de la Asamb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Dignidad Constitu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</a:tr>
              <a:tr h="35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Tamaño (població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Relativamente gra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Relativamente pequeñ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</a:tr>
              <a:tr h="35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Fun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Especificadas por l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Competencia 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</a:tr>
              <a:tr h="35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Trans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Presupuestarias/especif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Fiscales/gener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</a:tr>
              <a:tr h="35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Contr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oportunidad (calidad/preci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leg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</a:tr>
              <a:tr h="35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Monitoreo de resul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Estri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Bla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</a:tr>
              <a:tr h="35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Participación ciudad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Limitada/Restringi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Amplia/Promovi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</a:tr>
            </a:tbl>
          </a:graphicData>
        </a:graphic>
      </p:graphicFrame>
      <p:sp>
        <p:nvSpPr>
          <p:cNvPr id="124" name="Rectangle 7"/>
          <p:cNvSpPr/>
          <p:nvPr/>
        </p:nvSpPr>
        <p:spPr>
          <a:xfrm>
            <a:off x="8305920" y="195840"/>
            <a:ext cx="609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641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Dos direcciones para el cambi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6" name="Table 4"/>
          <p:cNvGraphicFramePr/>
          <p:nvPr/>
        </p:nvGraphicFramePr>
        <p:xfrm>
          <a:off x="152280" y="1981080"/>
          <a:ext cx="8838720" cy="5137920"/>
        </p:xfrm>
        <a:graphic>
          <a:graphicData uri="http://schemas.openxmlformats.org/drawingml/2006/table">
            <a:tbl>
              <a:tblPr/>
              <a:tblGrid>
                <a:gridCol w="4419360"/>
                <a:gridCol w="4419360"/>
              </a:tblGrid>
              <a:tr h="68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hacia “Gestor de Servicios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hacia “Gobierno Pleno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88656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Asignación de  funciones especificas (en educación, salud, vivienda, agua) y reducción de funciones “concurrentes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Se vinculan las transferencias a las funciones transfer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Agencias centrales regulan y monitorean niveles de prestación y calidad de servic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Monitoreo central del uso de transfere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Auditoria central de la relación “calidad-precio” en la entrega local de servic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Reorganización territorial para mayor eficiencia (aglomeraciones, áreas metropolitanas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Amplias áreas funcionales “concurrentes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Búsqueda de formas de asociación y cooperación entre actores (públicos, comunitarios y privad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Transferencias generales como ingresos compartidos y mas discrecionalidad local en su programa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Controles limitados a los de leg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Mínima reorganización territorial en la entrega de servicios, basada en necesidades especificas y de forma voluntaria (mancomunidades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</a:tr>
            </a:tbl>
          </a:graphicData>
        </a:graphic>
      </p:graphicFrame>
      <p:sp>
        <p:nvSpPr>
          <p:cNvPr id="127" name="Rectangle 5"/>
          <p:cNvSpPr/>
          <p:nvPr/>
        </p:nvSpPr>
        <p:spPr>
          <a:xfrm>
            <a:off x="8305920" y="195840"/>
            <a:ext cx="609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lide_Master">
  <a:themeElements>
    <a:clrScheme name="Slide_Maste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lide_Master">
  <a:themeElements>
    <a:clrScheme name="Slide_Maste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9</TotalTime>
  <Application>LibreOffice/7.4.7.2$Linux_X86_64 LibreOffice_project/40$Build-2</Application>
  <AppVersion>15.0000</AppVersion>
  <Words>1312</Words>
  <Paragraphs>1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2:40:57Z</dcterms:created>
  <dc:creator>Leonardo G&gt; Romeo</dc:creator>
  <dc:description/>
  <dc:language>en-US</dc:language>
  <cp:lastModifiedBy>Leonardo G&gt; Romeo</cp:lastModifiedBy>
  <dcterms:modified xsi:type="dcterms:W3CDTF">2013-06-11T13:47:45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On-screen Show (4:3)</vt:lpwstr>
  </property>
  <property fmtid="{D5CDD505-2E9C-101B-9397-08002B2CF9AE}" pid="4" name="Slides">
    <vt:r8>11</vt:r8>
  </property>
</Properties>
</file>