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28D2FA-8B8B-4356-B209-F8A6E0012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5FA933-0918-4DBD-8D65-D3051A6DD4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DB880D-2AA9-4263-A9C0-1509EFDE85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34C-407C-4A7D-BBEA-2292E27C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3C2-BA5D-4817-84D8-1721582E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7C9-EBC0-406A-A332-208551AC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472-8228-42FA-BFBD-BC2C5852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CA23-B61B-4E41-9C1C-D516D3DE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81B3-1FA7-42E1-A37D-7D03619E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1DE3-9D42-47FB-980F-E31DAAA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73FA-7865-4E74-9487-B19EE32A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D065-F872-496F-A899-BDAF97DE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2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5108-00E2-47DC-A5FC-C1CFC29C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0933-4DBA-4921-BCCB-9DAC8220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EF5-C98B-4CD8-B4B5-1606ADFE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8FE1-05DD-4DBA-ABFF-D08E6940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D75A-77AE-4FE0-8164-96D4F32D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B7D5-959F-4599-B6B9-FEBD3FF7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BCDB-27FD-4D4E-BC47-EAB1A9DB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A5B4-D71B-4F2A-B8D0-92CE35F1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4BE-2D0C-4C63-B265-2794B455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281-029E-4CA5-BA4E-08F8A092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583-BCEF-4617-98C9-9E788A50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2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F38-AD06-46A3-9AFC-9783033E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9DF-2AB4-4C69-94E7-B3C414AB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EC4-06A4-4D50-B496-22C51EA5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2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5C0-5AE0-4949-9037-13A4C8F9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 hidden="1"/>
          <p:cNvSpPr/>
          <p:nvPr/>
        </p:nvSpPr>
        <p:spPr>
          <a:xfrm>
            <a:off x="0" y="0"/>
            <a:ext cx="9143640" cy="956880"/>
          </a:xfrm>
          <a:prstGeom prst="rect">
            <a:avLst/>
          </a:prstGeom>
          <a:solidFill>
            <a:srgbClr val="0f5494"/>
          </a:solidFill>
          <a:ln>
            <a:solidFill>
              <a:srgbClr val="0f5494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Rectangle 6" hidden="1"/>
          <p:cNvSpPr/>
          <p:nvPr/>
        </p:nvSpPr>
        <p:spPr>
          <a:xfrm>
            <a:off x="4262400" y="6659640"/>
            <a:ext cx="610920" cy="198000"/>
          </a:xfrm>
          <a:prstGeom prst="rect">
            <a:avLst/>
          </a:prstGeom>
          <a:solidFill>
            <a:srgbClr val="133176"/>
          </a:solidFill>
          <a:ln>
            <a:solidFill>
              <a:srgbClr val="13317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400" cy="10044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9"/>
          <p:cNvSpPr/>
          <p:nvPr/>
        </p:nvSpPr>
        <p:spPr>
          <a:xfrm>
            <a:off x="0" y="981000"/>
            <a:ext cx="9180000" cy="5876640"/>
          </a:xfrm>
          <a:prstGeom prst="rect">
            <a:avLst/>
          </a:prstGeom>
          <a:solidFill>
            <a:srgbClr val="0f5494"/>
          </a:solidFill>
          <a:ln w="25400">
            <a:solidFill>
              <a:srgbClr val="0f5494"/>
            </a:solidFill>
            <a:miter/>
          </a:ln>
          <a:effectLst>
            <a:outerShdw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6" descr="LOGO CE-EN-quadri.eps"/>
          <p:cNvPicPr/>
          <p:nvPr/>
        </p:nvPicPr>
        <p:blipFill>
          <a:blip r:embed="rId3"/>
          <a:stretch/>
        </p:blipFill>
        <p:spPr>
          <a:xfrm>
            <a:off x="3957480" y="258840"/>
            <a:ext cx="1436400" cy="998280"/>
          </a:xfrm>
          <a:prstGeom prst="rect">
            <a:avLst/>
          </a:prstGeom>
          <a:ln w="0">
            <a:noFill/>
          </a:ln>
        </p:spPr>
      </p:pic>
      <p:sp>
        <p:nvSpPr>
          <p:cNvPr id="5" name="Rectangle 5"/>
          <p:cNvSpPr/>
          <p:nvPr/>
        </p:nvSpPr>
        <p:spPr>
          <a:xfrm>
            <a:off x="4267080" y="6659640"/>
            <a:ext cx="610920" cy="215640"/>
          </a:xfrm>
          <a:prstGeom prst="rect">
            <a:avLst/>
          </a:prstGeom>
          <a:solidFill>
            <a:srgbClr val="133176"/>
          </a:solidFill>
          <a:ln>
            <a:solidFill>
              <a:srgbClr val="13317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95640" y="2565360"/>
            <a:ext cx="504000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fr-BE" sz="7600" spc="-1" strike="noStrike">
                <a:solidFill>
                  <a:srgbClr val="ffd624"/>
                </a:solidFill>
                <a:latin typeface="Verdana"/>
              </a:rPr>
              <a:t>Title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4160D9-80AA-48C1-8C06-488A2E24E5EA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3640" cy="956880"/>
          </a:xfrm>
          <a:prstGeom prst="rect">
            <a:avLst/>
          </a:prstGeom>
          <a:solidFill>
            <a:srgbClr val="0f5494"/>
          </a:solidFill>
          <a:ln>
            <a:solidFill>
              <a:srgbClr val="0f5494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262400" y="6659640"/>
            <a:ext cx="610920" cy="198000"/>
          </a:xfrm>
          <a:prstGeom prst="rect">
            <a:avLst/>
          </a:prstGeom>
          <a:solidFill>
            <a:srgbClr val="133176"/>
          </a:solidFill>
          <a:ln>
            <a:solidFill>
              <a:srgbClr val="133176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400" cy="1004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240" cy="3528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Master text sty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econd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1430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Third level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497CF4-18C8-45E5-97D1-1652BC5DC6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57200" y="2133720"/>
            <a:ext cx="7678440" cy="1221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4800" spc="-1" strike="noStrike">
                <a:solidFill>
                  <a:srgbClr val="ffd624"/>
                </a:solidFill>
                <a:latin typeface="Verdana"/>
              </a:rPr>
              <a:t>Autonomía,</a:t>
            </a:r>
            <a:br>
              <a:rPr sz="4800"/>
            </a:br>
            <a:r>
              <a:rPr b="1" lang="es-EC" sz="4800" spc="-1" strike="noStrike">
                <a:solidFill>
                  <a:srgbClr val="ffd624"/>
                </a:solidFill>
                <a:latin typeface="Verdana"/>
              </a:rPr>
              <a:t>Rendición de Cuentas</a:t>
            </a:r>
            <a:br>
              <a:rPr sz="4800"/>
            </a:br>
            <a:r>
              <a:rPr b="1" lang="es-EC" sz="4800" spc="-1" strike="noStrike">
                <a:solidFill>
                  <a:srgbClr val="ffd624"/>
                </a:solidFill>
                <a:latin typeface="Verdana"/>
              </a:rPr>
              <a:t>y Desarroll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19520" y="4724280"/>
            <a:ext cx="632412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Para una descentralización dirigida al desarrollo local/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357200" y="6172200"/>
            <a:ext cx="76784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Verdana"/>
              </a:rPr>
              <a:t>Leonardo G. Romeo, </a:t>
            </a:r>
            <a:r>
              <a:rPr b="1" lang="es-EC" sz="1600" spc="-1" strike="noStrike">
                <a:solidFill>
                  <a:srgbClr val="ffffff"/>
                </a:solidFill>
                <a:latin typeface="Arial Black"/>
              </a:rPr>
              <a:t>LDI</a:t>
            </a:r>
            <a:r>
              <a:rPr b="1" lang="es-EC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C" sz="1050" spc="-1" strike="noStrike">
                <a:solidFill>
                  <a:srgbClr val="ffffff"/>
                </a:solidFill>
                <a:latin typeface="Verdana"/>
              </a:rPr>
              <a:t>LLC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10"/>
              </a:spcBef>
              <a:tabLst>
                <a:tab algn="l" pos="0"/>
              </a:tabLst>
            </a:pPr>
            <a:r>
              <a:rPr b="1" lang="es-EC" sz="1050" spc="-1" strike="noStrike">
                <a:solidFill>
                  <a:srgbClr val="ffffff"/>
                </a:solidFill>
                <a:latin typeface="Verdana"/>
              </a:rPr>
              <a:t>Quito,  11 Junio 2013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64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Donde va América Latin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52280" y="2057400"/>
            <a:ext cx="883872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28908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</a:pP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Reformas de las tres ultimas décadas parecen inspiradas por el modelo “</a:t>
            </a:r>
            <a:r>
              <a:rPr b="0" i="1" lang="es-EC" sz="1400" spc="-1" strike="noStrike">
                <a:solidFill>
                  <a:srgbClr val="0f5494"/>
                </a:solidFill>
                <a:latin typeface="Verdana"/>
              </a:rPr>
              <a:t>gobierno plen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908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</a:pP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Realidad muy distinta de la retorica : GL se limitan a cumplir con funciones obligatorias relativamente marginales y el principio de “competencia general” 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5840">
              <a:lnSpc>
                <a:spcPct val="100000"/>
              </a:lnSpc>
              <a:buClr>
                <a:srgbClr val="0f5494"/>
              </a:buClr>
              <a:buFont typeface="Courier New"/>
              <a:buChar char="o"/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Reconocid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(mas o menos) formalmente 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pero no realmente apoyad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por el Estado (falta de una política nacional de desarrollo lo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5840">
              <a:lnSpc>
                <a:spcPct val="100000"/>
              </a:lnSpc>
              <a:buClr>
                <a:srgbClr val="0f5494"/>
              </a:buClr>
              <a:buFont typeface="Courier New"/>
              <a:buChar char="o"/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Reclamad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por las autoridades locales 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pero no realmente asumido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e implementado (falta de liderazgo y responsabilidad lo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El modelo “</a:t>
            </a:r>
            <a:r>
              <a:rPr b="0" i="1" lang="es-EC" sz="1400" spc="-1" strike="noStrike">
                <a:solidFill>
                  <a:srgbClr val="0f5494"/>
                </a:solidFill>
                <a:latin typeface="Verdana"/>
              </a:rPr>
              <a:t>gestor de servicios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” 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se cándida a substituir</a:t>
            </a: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 el modelo “gobierno pleno” como inspiración de la próxima hola de reformas de descentralización (o re-centralización). Ejemplo mas claro: Chile con la valorización de los GL como “agentes” del Estado, la estricta focalización funcional de las transferencias y el monitoreo estatal de los estándares de servicio local.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0" lang="es-EC" sz="1400" spc="-1" strike="noStrike">
                <a:solidFill>
                  <a:srgbClr val="0f5494"/>
                </a:solidFill>
                <a:latin typeface="Verdana"/>
              </a:rPr>
              <a:t>Pregunt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0"/>
              </a:tabLst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Estamos asistiendo al inicio de un nuevo ciclo de re-centralización? (</a:t>
            </a:r>
            <a:r>
              <a:rPr b="1" i="1" lang="es-EC" sz="1400" spc="-1" strike="noStrike">
                <a:solidFill>
                  <a:srgbClr val="0f5494"/>
                </a:solidFill>
                <a:latin typeface="Verdana"/>
              </a:rPr>
              <a:t>Yo no lo cre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0"/>
              </a:tabLst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Es la valorización de los GL como agentes del estado contradictoria con un rol de promoción autónoma del desarrollo local? (</a:t>
            </a:r>
            <a:r>
              <a:rPr b="1" i="1" lang="es-EC" sz="1400" spc="-1" strike="noStrike">
                <a:solidFill>
                  <a:srgbClr val="0f5494"/>
                </a:solidFill>
                <a:latin typeface="Verdana"/>
              </a:rPr>
              <a:t>Yo no lo cre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0"/>
              </a:tabLst>
            </a:pP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Se puede realizar una síntesis de los dos modelos? (</a:t>
            </a:r>
            <a:r>
              <a:rPr b="1" i="1" lang="es-EC" sz="1400" spc="-1" strike="noStrike">
                <a:solidFill>
                  <a:srgbClr val="0f5494"/>
                </a:solidFill>
                <a:latin typeface="Verdana"/>
              </a:rPr>
              <a:t>Si y esto es el desafío</a:t>
            </a:r>
            <a:r>
              <a:rPr b="1" lang="es-EC" sz="14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64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Que rol para la asistencia extern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152280" y="2089440"/>
            <a:ext cx="883872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Por un lado, </a:t>
            </a:r>
            <a:r>
              <a:rPr b="0" lang="es-EC" sz="1800" spc="-1" strike="noStrike" u="sng">
                <a:solidFill>
                  <a:srgbClr val="0070c0"/>
                </a:solidFill>
                <a:uFillTx/>
                <a:latin typeface="Verdana"/>
              </a:rPr>
              <a:t>superar la alternativa centralismo o devolución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 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Apoyar experimentos de </a:t>
            </a:r>
            <a:r>
              <a:rPr b="1" lang="es-EC" sz="1800" spc="-1" strike="noStrike">
                <a:solidFill>
                  <a:srgbClr val="0070c0"/>
                </a:solidFill>
                <a:latin typeface="Verdana"/>
              </a:rPr>
              <a:t>delegación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 contractual de prestación de servicios en educación, salud, asistencia social, vivienda, agua. (programas y proyectos específ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Por otro lado, </a:t>
            </a:r>
            <a:r>
              <a:rPr b="0" lang="es-EC" sz="1800" spc="-1" strike="noStrike" u="sng">
                <a:solidFill>
                  <a:srgbClr val="0070c0"/>
                </a:solidFill>
                <a:uFillTx/>
                <a:latin typeface="Verdana"/>
              </a:rPr>
              <a:t>superar el marco tradicional de la descentralización fiscal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 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Ayudar a diseñar y adoptar una </a:t>
            </a:r>
            <a:r>
              <a:rPr b="1" lang="es-EC" sz="1800" spc="-1" strike="noStrike">
                <a:solidFill>
                  <a:srgbClr val="0070c0"/>
                </a:solidFill>
                <a:latin typeface="Verdana"/>
              </a:rPr>
              <a:t>política nacional 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de promoción del desarrollo local/territorial que informe las reformas de descentralización (dialogo de política con el Estado y con las asociaciones de GL y eventualmente apoyo presupuestario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Apoyar </a:t>
            </a:r>
            <a:r>
              <a:rPr b="0" i="1" lang="es-EC" sz="1800" spc="-1" strike="noStrike">
                <a:solidFill>
                  <a:srgbClr val="0070c0"/>
                </a:solidFill>
                <a:latin typeface="Verdana"/>
              </a:rPr>
              <a:t>directamente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s-EC" sz="1800" spc="-1" strike="noStrike">
                <a:solidFill>
                  <a:srgbClr val="0070c0"/>
                </a:solidFill>
                <a:latin typeface="Verdana"/>
              </a:rPr>
              <a:t>iniciativas autónomas </a:t>
            </a:r>
            <a:r>
              <a:rPr b="0" lang="es-EC" sz="1800" spc="-1" strike="noStrike">
                <a:solidFill>
                  <a:srgbClr val="0070c0"/>
                </a:solidFill>
                <a:latin typeface="Verdana"/>
              </a:rPr>
              <a:t>de promoción del desarrollo local por los GL y sus asociaciones (programas y proyectos específ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86440" cy="4725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i="1" lang="es-EC" sz="2800" spc="-1" strike="noStrike">
                <a:solidFill>
                  <a:srgbClr val="0f5494"/>
                </a:solidFill>
                <a:latin typeface="Verdana"/>
              </a:rPr>
              <a:t>Marco analítico básico 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El doble papel de un gobierno sub-nacion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Autonomía y Rendición de Cuenta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Entender el Desarrollo Local/Territori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i="1" lang="es-EC" sz="2800" spc="-1" strike="noStrike">
                <a:solidFill>
                  <a:srgbClr val="0f5494"/>
                </a:solidFill>
                <a:latin typeface="Verdana"/>
              </a:rPr>
              <a:t>Dos Ideal-tipos de gobierno sub-nacional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GSN como “gestor de servicios” o “gobierno pleno”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Donde va América Latina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fba"/>
              </a:buClr>
              <a:buFont typeface="Symbol" charset="2"/>
              <a:buChar char=""/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Consecuencias para la asistencia externa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339920"/>
            <a:ext cx="8239680" cy="64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Los dos papeles de un Gobierno Sub-Nac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52280" y="1981080"/>
            <a:ext cx="884916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un Gobierno sub-nacional (GSN) tiene </a:t>
            </a:r>
            <a:r>
              <a:rPr b="0" lang="es-EC" sz="1800" spc="-1" strike="noStrike" u="sng">
                <a:solidFill>
                  <a:schemeClr val="accent6"/>
                </a:solidFill>
                <a:uFillTx/>
                <a:latin typeface="Verdana"/>
              </a:rPr>
              <a:t>dos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 pape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Representar, y atender al bienestar de, una comunidad política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Representar, y facilitar la acción del Estado en la lo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Observ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2d2d8a"/>
              </a:buClr>
              <a:buFont typeface="Verdana"/>
              <a:buChar char="•"/>
              <a:tabLst>
                <a:tab algn="l" pos="0"/>
              </a:tabLst>
            </a:pP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En la practica, los dos papeles se enfatizan de manera diferente en diferentes países, y esto gener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1"/>
              </a:spcBef>
              <a:buClr>
                <a:srgbClr val="2d2d8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s-EC" sz="1400" spc="-1" strike="noStrike">
                <a:solidFill>
                  <a:srgbClr val="2d2d8a"/>
                </a:solidFill>
                <a:latin typeface="Verdana"/>
              </a:rPr>
              <a:t>Diferentes grados/formas de Autonomía Local y Rendición de Cuent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1"/>
              </a:spcBef>
              <a:buClr>
                <a:srgbClr val="2d2d8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s-EC" sz="1400" spc="-1" strike="noStrike">
                <a:solidFill>
                  <a:srgbClr val="2d2d8a"/>
                </a:solidFill>
                <a:latin typeface="Verdana"/>
              </a:rPr>
              <a:t>diferentes alcances de la descentralización política, administrativa y fiscal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1"/>
              </a:spcBef>
              <a:buClr>
                <a:srgbClr val="2d2d8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s-EC" sz="1400" spc="-1" strike="noStrike">
                <a:solidFill>
                  <a:srgbClr val="2d2d8a"/>
                </a:solidFill>
                <a:latin typeface="Verdana"/>
              </a:rPr>
              <a:t>diferentes modelos de gobierno loc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2d2d8a"/>
              </a:buClr>
              <a:buFont typeface="Verdana"/>
              <a:buChar char="•"/>
              <a:tabLst>
                <a:tab algn="l" pos="0"/>
              </a:tabLst>
            </a:pP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Elemento clave de diferenciación es como se entiende el </a:t>
            </a:r>
            <a:r>
              <a:rPr b="1" lang="es-EC" sz="1600" spc="-1" strike="noStrike" u="sng">
                <a:solidFill>
                  <a:srgbClr val="2d2d8a"/>
                </a:solidFill>
                <a:uFillTx/>
                <a:latin typeface="Verdana"/>
              </a:rPr>
              <a:t>desarrollo local / territorial</a:t>
            </a:r>
            <a:r>
              <a:rPr b="0" lang="es-EC" sz="1600" spc="-1" strike="noStrike" u="sng">
                <a:solidFill>
                  <a:srgbClr val="2d2d8a"/>
                </a:solidFill>
                <a:uFillTx/>
                <a:latin typeface="Verdana"/>
              </a:rPr>
              <a:t> </a:t>
            </a: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 y si existe o no, una política nacional para su promo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2d2d8a"/>
              </a:buClr>
              <a:buFont typeface="Verdana"/>
              <a:buChar char="•"/>
              <a:tabLst>
                <a:tab algn="l" pos="0"/>
              </a:tabLst>
            </a:pP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Aclarar la relación “autonomía/rendición de cuentas” , y sus manifestaciones  político-institucionales es básico para una asistencia externa que quiera apoyar </a:t>
            </a:r>
            <a:r>
              <a:rPr b="1" lang="es-EC" sz="1600" spc="-1" strike="noStrike" u="sng">
                <a:solidFill>
                  <a:srgbClr val="2d2d8a"/>
                </a:solidFill>
                <a:uFillTx/>
                <a:latin typeface="Verdana"/>
              </a:rPr>
              <a:t>una descentralización orientada al desarrollo local</a:t>
            </a:r>
            <a:r>
              <a:rPr b="0" lang="es-EC" sz="1600" spc="-1" strike="noStrike">
                <a:solidFill>
                  <a:srgbClr val="2d2d8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4880" y="1219320"/>
            <a:ext cx="8534160" cy="43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Autonomía y Rendición de Cuentas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60280" y="1847880"/>
            <a:ext cx="880704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s-EC" sz="1800" spc="-1" strike="noStrike">
                <a:solidFill>
                  <a:srgbClr val="2d2d8a"/>
                </a:solidFill>
                <a:latin typeface="Verdana"/>
              </a:rPr>
              <a:t>La</a:t>
            </a:r>
            <a:r>
              <a:rPr b="1" lang="es-EC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Autonomía 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es necesaria para que un GS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Desarrolle e implemente </a:t>
            </a:r>
            <a:r>
              <a:rPr b="0" i="1" lang="es-EC" sz="1800" spc="-1" strike="noStrike">
                <a:solidFill>
                  <a:schemeClr val="accent6"/>
                </a:solidFill>
                <a:latin typeface="Verdana"/>
              </a:rPr>
              <a:t>sus propias políticas 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de desarrollo local y movilice recursos adicionales (asociando la sociedad civil y el sector privad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Mejore el diseño e implementación local de las </a:t>
            </a:r>
            <a:r>
              <a:rPr b="0" i="1" lang="es-EC" sz="1800" spc="-1" strike="noStrike">
                <a:solidFill>
                  <a:schemeClr val="accent6"/>
                </a:solidFill>
                <a:latin typeface="Verdana"/>
              </a:rPr>
              <a:t>políticas centrales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 y la eficiencia del gasto publico correspondiente (aportando información y facilitando adapt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260280" y="1371600"/>
            <a:ext cx="865476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71080" y="4191120"/>
            <a:ext cx="880704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es-EC" sz="1800" spc="-1" strike="noStrike">
                <a:solidFill>
                  <a:srgbClr val="2d2d8a"/>
                </a:solidFill>
                <a:latin typeface="Verdana"/>
              </a:rPr>
              <a:t>La</a:t>
            </a:r>
            <a:r>
              <a:rPr b="1" lang="es-EC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Rendición de Cuentas </a:t>
            </a: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es necesaria para que un GS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De respuestas a todas las componentes de la sociedad local (adoptando formas de participación a la decisión  y de auditoria so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Verdana"/>
              <a:buAutoNum type="arabicPeriod"/>
              <a:tabLst>
                <a:tab algn="l" pos="0"/>
              </a:tabLst>
            </a:pPr>
            <a:r>
              <a:rPr b="0" lang="es-EC" sz="1800" spc="-1" strike="noStrike">
                <a:solidFill>
                  <a:schemeClr val="accent6"/>
                </a:solidFill>
                <a:latin typeface="Verdana"/>
              </a:rPr>
              <a:t>Se alinee con el esfuerzo de desarrollo del Estado central (en el marco de un sistema efectivo de apoyo y supervisión inter-gubernam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8077320" y="152280"/>
            <a:ext cx="6854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Sin autonomía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Se hace mas difícil movilizar recursos adicionales (de la comunidad y del sector privado) y promover un desarrollo auténticamente “local” (ver mas adelante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Se hace mas difícil ajustar a las condiciones locales las políticas del Estado central, y realizar ganancias en la eficiencia del gasto publico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Wingdings" charset="2"/>
              <a:buChar char=""/>
            </a:pPr>
            <a:r>
              <a:rPr b="1" lang="es-EC" sz="1800" spc="-1" strike="noStrike" u="sng">
                <a:solidFill>
                  <a:srgbClr val="2d2d8a"/>
                </a:solidFill>
                <a:uFillTx/>
                <a:latin typeface="Verdana"/>
              </a:rPr>
              <a:t>Resultado</a:t>
            </a:r>
            <a:r>
              <a:rPr b="1" lang="es-EC" sz="1800" spc="-1" strike="noStrike">
                <a:solidFill>
                  <a:srgbClr val="2d2d8a"/>
                </a:solidFill>
                <a:latin typeface="Verdana"/>
              </a:rPr>
              <a:t>: El Estado renuncia a los beneficios potenciales del “desarrollo local” (Los GSN </a:t>
            </a:r>
            <a:r>
              <a:rPr b="1" i="1" lang="es-EC" sz="1800" spc="-1" strike="noStrike" u="sng">
                <a:solidFill>
                  <a:srgbClr val="2d2d8a"/>
                </a:solidFill>
                <a:uFillTx/>
                <a:latin typeface="Verdana"/>
              </a:rPr>
              <a:t>no son </a:t>
            </a:r>
            <a:r>
              <a:rPr b="1" lang="es-EC" sz="1800" spc="-1" strike="noStrike">
                <a:solidFill>
                  <a:srgbClr val="2d2d8a"/>
                </a:solidFill>
                <a:latin typeface="Verdana"/>
              </a:rPr>
              <a:t>“GOBIERNOS DE DESARROLLO”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" charset="2"/>
              <a:buChar char="•"/>
            </a:pPr>
            <a:r>
              <a:rPr b="1" lang="es-EC" sz="1800" spc="-1" strike="noStrike">
                <a:solidFill>
                  <a:srgbClr val="c00000"/>
                </a:solidFill>
                <a:latin typeface="Verdana"/>
              </a:rPr>
              <a:t>Sin rendición de cuentas</a:t>
            </a:r>
            <a:r>
              <a:rPr b="0" lang="es-EC" sz="1800" spc="-1" strike="noStrike">
                <a:solidFill>
                  <a:srgbClr val="c00000"/>
                </a:solidFill>
                <a:latin typeface="Verdana"/>
              </a:rPr>
              <a:t>: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Aumentan los riesgos (i) de “captura” del GSN por una elite y (ii) de desatención a la pobreza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Aumenta el riesgo de GSN “fuera de control” (riesgos macro-económicos , de disparidad territorial , de ineficiencia en la inversión publica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2d2d8a"/>
              </a:buClr>
              <a:buFont typeface="Wingdings" charset="2"/>
              <a:buChar char=""/>
            </a:pPr>
            <a:r>
              <a:rPr b="1" lang="es-EC" sz="1800" spc="-1" strike="noStrike" u="sng">
                <a:solidFill>
                  <a:srgbClr val="2d2d8a"/>
                </a:solidFill>
                <a:uFillTx/>
                <a:latin typeface="Verdana"/>
              </a:rPr>
              <a:t>Resultado</a:t>
            </a:r>
            <a:r>
              <a:rPr b="1" lang="es-EC" sz="1800" spc="-1" strike="noStrike">
                <a:solidFill>
                  <a:srgbClr val="2d2d8a"/>
                </a:solidFill>
                <a:latin typeface="Verdana"/>
              </a:rPr>
              <a:t>: Disminuye la capacidad del Estado de fomentar el crecimiento y reducir la pobreza (El Gobierno Central </a:t>
            </a:r>
            <a:r>
              <a:rPr b="1" i="1" lang="es-EC" sz="1800" spc="-1" strike="noStrike" u="sng">
                <a:solidFill>
                  <a:srgbClr val="2d2d8a"/>
                </a:solidFill>
                <a:uFillTx/>
                <a:latin typeface="Verdana"/>
              </a:rPr>
              <a:t>es menos </a:t>
            </a:r>
            <a:r>
              <a:rPr b="1" lang="es-EC" sz="1800" spc="-1" strike="noStrike">
                <a:solidFill>
                  <a:srgbClr val="2d2d8a"/>
                </a:solidFill>
                <a:latin typeface="Verdana"/>
              </a:rPr>
              <a:t>“GOBIERNO DE DESARROLLO”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" charset="2"/>
              <a:buChar char="•"/>
            </a:pPr>
            <a:r>
              <a:rPr b="0" i="1" lang="es-EC" sz="18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•"/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34880" y="1219320"/>
            <a:ext cx="8534160" cy="43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…</a:t>
            </a: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.de lo contrario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339920"/>
            <a:ext cx="8856360" cy="57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Entender</a:t>
            </a:r>
            <a:r>
              <a:rPr b="1" lang="es-EC" sz="2800" spc="-1" strike="noStrike">
                <a:solidFill>
                  <a:srgbClr val="0f5494"/>
                </a:solidFill>
                <a:latin typeface="Verdana"/>
              </a:rPr>
              <a:t> el desarrollo “local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88804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El balance “autonomía/ rendición de cuentas” 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define los incentivos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para promoción del desarrollo local. Sin embargo: que es verdaderamente el desarrollo “local” ? 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En la expresión “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Desarrollo Local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” la palabra “local” no se refiere tanto a un </a:t>
            </a:r>
            <a:r>
              <a:rPr b="0" i="1" lang="es-EC" sz="1600" spc="-1" strike="noStrike">
                <a:solidFill>
                  <a:srgbClr val="0f5494"/>
                </a:solidFill>
                <a:latin typeface="Verdana"/>
              </a:rPr>
              <a:t>“donde” 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cuanto a un </a:t>
            </a:r>
            <a:r>
              <a:rPr b="0" i="1" lang="es-EC" sz="1600" spc="-1" strike="noStrike">
                <a:solidFill>
                  <a:srgbClr val="0f5494"/>
                </a:solidFill>
                <a:latin typeface="Verdana"/>
              </a:rPr>
              <a:t>“quien y como”, 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es decir se refiere a </a:t>
            </a:r>
            <a:r>
              <a:rPr b="0" i="1" lang="es-EC" sz="1600" spc="-1" strike="noStrike">
                <a:solidFill>
                  <a:srgbClr val="0f5494"/>
                </a:solidFill>
                <a:latin typeface="Verdana"/>
              </a:rPr>
              <a:t>los actores 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que promueven el desarrollo y a </a:t>
            </a:r>
            <a:r>
              <a:rPr b="0" i="1" lang="es-EC" sz="1600" spc="-1" strike="noStrike">
                <a:solidFill>
                  <a:srgbClr val="0f5494"/>
                </a:solidFill>
                <a:latin typeface="Verdana"/>
              </a:rPr>
              <a:t>los recursos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que ellos moviliza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Un autentico desarrollo local es </a:t>
            </a:r>
            <a:r>
              <a:rPr b="1" i="1" lang="es-EC" sz="1600" spc="-1" strike="noStrike">
                <a:solidFill>
                  <a:srgbClr val="c00000"/>
                </a:solidFill>
                <a:latin typeface="Verdana"/>
              </a:rPr>
              <a:t>endógeno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, </a:t>
            </a:r>
            <a:r>
              <a:rPr b="1" i="1" lang="es-EC" sz="1600" spc="-1" strike="noStrike">
                <a:solidFill>
                  <a:srgbClr val="c00000"/>
                </a:solidFill>
                <a:latin typeface="Verdana"/>
              </a:rPr>
              <a:t>abierto e incremental</a:t>
            </a:r>
            <a:r>
              <a:rPr b="1" lang="es-EC" sz="1600" spc="-1" strike="noStrike">
                <a:solidFill>
                  <a:srgbClr val="0f5494"/>
                </a:solidFill>
                <a:latin typeface="Verdana"/>
              </a:rPr>
              <a:t>,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es decir (i) moviliza recursos (económicos, sociales y políticos) de la localidad, (ii) los combina con recursos de origen nacional o global y (iii) los lleva a </a:t>
            </a:r>
            <a:r>
              <a:rPr b="0" lang="es-EC" sz="1600" spc="-1" strike="noStrike" u="sng">
                <a:solidFill>
                  <a:srgbClr val="0f5494"/>
                </a:solidFill>
                <a:uFillTx/>
                <a:latin typeface="Verdana"/>
              </a:rPr>
              <a:t>suplementar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el esfuerzo nacional de desarrollo en un 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juego a suma positiva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Entre todos los actores (públicos, comunitario, y privados) que operan en el nivel local, los 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gobiernos locales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 tienen mayores ventajas comparativas en promover el desarrollo local (como arriba definido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0" y="1371600"/>
            <a:ext cx="6490800" cy="9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3000" spc="-1" strike="noStrike">
                <a:solidFill>
                  <a:srgbClr val="0f5494"/>
                </a:solidFill>
                <a:latin typeface="Verdana"/>
              </a:rPr>
              <a:t>Autonomia y desarrollo loc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2492280"/>
            <a:ext cx="8457840" cy="3831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1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s-EC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s-EC" sz="2400" spc="-1" strike="noStrike">
                <a:solidFill>
                  <a:srgbClr val="0f5494"/>
                </a:solidFill>
                <a:latin typeface="Verdana"/>
              </a:rPr>
              <a:t>Entender la importancia de la </a:t>
            </a:r>
            <a:r>
              <a:rPr b="1" i="1" lang="es-EC" sz="2400" spc="-1" strike="noStrike" u="sng">
                <a:solidFill>
                  <a:srgbClr val="0f5494"/>
                </a:solidFill>
                <a:uFillTx/>
                <a:latin typeface="Verdana"/>
              </a:rPr>
              <a:t>autonomía</a:t>
            </a:r>
            <a:r>
              <a:rPr b="0" i="1" lang="es-EC" sz="2400" spc="-1" strike="noStrike">
                <a:solidFill>
                  <a:srgbClr val="0f5494"/>
                </a:solidFill>
                <a:latin typeface="Verdana"/>
              </a:rPr>
              <a:t> para promoción del desarrollo loca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971640" indent="-5144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s-EC" sz="2000" spc="-1" strike="noStrike">
                <a:solidFill>
                  <a:srgbClr val="0f5494"/>
                </a:solidFill>
                <a:latin typeface="Verdana"/>
              </a:rPr>
              <a:t>Autonomía como “iniciativa” (el </a:t>
            </a:r>
            <a:r>
              <a:rPr b="1" lang="es-EC" sz="2000" spc="-1" strike="noStrike" u="sng">
                <a:solidFill>
                  <a:srgbClr val="0f5494"/>
                </a:solidFill>
                <a:uFillTx/>
                <a:latin typeface="Verdana"/>
              </a:rPr>
              <a:t>que pueden hacer</a:t>
            </a:r>
            <a:r>
              <a:rPr b="1" lang="es-EC" sz="2000" spc="-1" strike="noStrike">
                <a:solidFill>
                  <a:srgbClr val="0f5494"/>
                </a:solidFill>
                <a:latin typeface="Verdana"/>
              </a:rPr>
              <a:t> los GSN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971640" indent="-5144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s-EC" sz="2000" spc="-1" strike="noStrike">
                <a:solidFill>
                  <a:srgbClr val="0f5494"/>
                </a:solidFill>
                <a:latin typeface="Verdana"/>
              </a:rPr>
              <a:t>Autonomía como “inmunidad” (Como pueden hacerlo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971640" indent="-5144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s-EC" sz="2000" spc="-1" strike="noStrike">
                <a:solidFill>
                  <a:srgbClr val="0f5494"/>
                </a:solidFill>
                <a:latin typeface="Verdana"/>
              </a:rPr>
              <a:t>Autonomía y planificación descentralizada del desarrollo  : planificación local o localización de planes y objetivos  nacionales/globales ?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339920"/>
            <a:ext cx="8838720" cy="43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0280" y="6172200"/>
            <a:ext cx="87753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es-EC" sz="1100" spc="-1" strike="noStrike">
                <a:solidFill>
                  <a:srgbClr val="0f5494"/>
                </a:solidFill>
                <a:latin typeface="Verdana"/>
              </a:rPr>
              <a:t>(*) Esta lamina y la siguiente se basan en : Andrew Nickson, </a:t>
            </a:r>
            <a:r>
              <a:rPr b="0" lang="es-EC" sz="1100" spc="-1" strike="noStrike" u="sng">
                <a:solidFill>
                  <a:srgbClr val="0f5494"/>
                </a:solidFill>
                <a:uFillTx/>
                <a:latin typeface="Verdana"/>
              </a:rPr>
              <a:t>Where is local Government going in Latin America? A comparative perspective </a:t>
            </a:r>
            <a:r>
              <a:rPr b="0" lang="es-EC" sz="1100" spc="-1" strike="noStrike">
                <a:solidFill>
                  <a:srgbClr val="0f5494"/>
                </a:solidFill>
                <a:latin typeface="Verdana"/>
              </a:rPr>
              <a:t>(UNU forthcoming 2013). La tabla es una versión modificada/reducida de la presentada por Nickson</a:t>
            </a:r>
            <a:endParaRPr b="0" i="1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60280" y="1916280"/>
            <a:ext cx="8704080" cy="12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Cual es el propósito del gobierno sub-nacional ? Una propuesta recién de clasificación(*) propone dos modelos ideales/extremo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GSN como “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gobierno pleno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”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GSN como “</a:t>
            </a:r>
            <a:r>
              <a:rPr b="1" lang="es-EC" sz="1600" spc="-1" strike="noStrike">
                <a:solidFill>
                  <a:srgbClr val="c00000"/>
                </a:solidFill>
                <a:latin typeface="Verdana"/>
              </a:rPr>
              <a:t>gestor de servicios</a:t>
            </a:r>
            <a:r>
              <a:rPr b="0" lang="es-EC" sz="1600" spc="-1" strike="noStrike">
                <a:solidFill>
                  <a:srgbClr val="0f5494"/>
                </a:solidFill>
                <a:latin typeface="Verdana"/>
              </a:rPr>
              <a:t>”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108000" y="1339920"/>
            <a:ext cx="88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58920" indent="-358920" algn="r">
              <a:lnSpc>
                <a:spcPct val="100000"/>
              </a:lnSpc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Dos modelos de gobierno sub-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Table 1"/>
          <p:cNvGraphicFramePr/>
          <p:nvPr/>
        </p:nvGraphicFramePr>
        <p:xfrm>
          <a:off x="260280" y="3200400"/>
          <a:ext cx="8654760" cy="2895120"/>
        </p:xfrm>
        <a:graphic>
          <a:graphicData uri="http://schemas.openxmlformats.org/drawingml/2006/table">
            <a:tbl>
              <a:tblPr/>
              <a:tblGrid>
                <a:gridCol w="2635200"/>
                <a:gridCol w="2971800"/>
                <a:gridCol w="3047760"/>
              </a:tblGrid>
              <a:tr h="418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s-EC" sz="1800" spc="-1" strike="noStrike">
                        <a:solidFill>
                          <a:schemeClr val="lt1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Gestor de serv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Gobierno pl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Estatus le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Creatura de la Asamb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Dignidad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Tamaño (població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Relativamente gr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Relativamente peque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Fun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Especificadas por l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Competencia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Trans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Presupuestarias/especif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Fiscales/gener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Contr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oportunidad (calidad/preci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leg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Monitoreo de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Estri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Bla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3f9f9"/>
                    </a:solidFill>
                  </a:tcPr>
                </a:tc>
              </a:tr>
              <a:tr h="35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Participación ciudad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Limitada/Restring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2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mplia/Promov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7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240" cy="64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3589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s-EC" sz="2400" spc="-1" strike="noStrike">
                <a:solidFill>
                  <a:srgbClr val="0f5494"/>
                </a:solidFill>
                <a:latin typeface="Verdana"/>
              </a:rPr>
              <a:t>Dos direcciones para el camb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Table 4"/>
          <p:cNvGraphicFramePr/>
          <p:nvPr/>
        </p:nvGraphicFramePr>
        <p:xfrm>
          <a:off x="152280" y="1981080"/>
          <a:ext cx="8838720" cy="5137920"/>
        </p:xfrm>
        <a:graphic>
          <a:graphicData uri="http://schemas.openxmlformats.org/drawingml/2006/table">
            <a:tbl>
              <a:tblPr/>
              <a:tblGrid>
                <a:gridCol w="4419360"/>
                <a:gridCol w="4419360"/>
              </a:tblGrid>
              <a:tr h="68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hacia “Gestor de Servicio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s-EC" sz="1800" spc="-1" strike="noStrike">
                          <a:solidFill>
                            <a:schemeClr val="lt1"/>
                          </a:solidFill>
                          <a:latin typeface="Verdana"/>
                        </a:rPr>
                        <a:t>hacia “Gobierno Pleno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865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signación de  funciones especificas (en educación, salud, vivienda, agua) y reducción de funciones “concurrentes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Se vinculan las transferencias a las funciones transfer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gencias centrales regulan y monitorean niveles de prestación y calidad de serv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Monitoreo central del uso de transfer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uditoria central de la relación “calidad-precio” en la entrega local de serv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Reorganización territorial para mayor eficiencia (aglomeraciones, áreas metropolitana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Amplias áreas funcionales “concurrentes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Búsqueda de formas de asociación y cooperación entre actores (públicos, comunitarios y priv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Transferencias generales como ingresos compartidos y mas discrecionalidad local en su progra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Controles limitados a los de leg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s-EC" sz="1400" spc="-1" strike="noStrike">
                          <a:solidFill>
                            <a:schemeClr val="dk1"/>
                          </a:solidFill>
                          <a:latin typeface="Verdana"/>
                        </a:rPr>
                        <a:t>Mínima reorganización territorial en la entrega de servicios, basada en necesidades especificas y de forma voluntaria (mancomunidades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f3f4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5"/>
          <p:cNvSpPr/>
          <p:nvPr/>
        </p:nvSpPr>
        <p:spPr>
          <a:xfrm>
            <a:off x="8305920" y="195840"/>
            <a:ext cx="6091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lide_Master">
  <a:themeElements>
    <a:clrScheme name="Slide_Maste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lide_Master">
  <a:themeElements>
    <a:clrScheme name="Slide_Master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9</TotalTime>
  <Application>LibreOffice/7.4.7.2$Linux_X86_64 LibreOffice_project/40$Build-2</Application>
  <AppVersion>15.0000</AppVersion>
  <Words>1312</Words>
  <Paragraphs>1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2:40:57Z</dcterms:created>
  <dc:creator>Leonardo G&gt; Romeo</dc:creator>
  <dc:description/>
  <dc:language>en-US</dc:language>
  <cp:lastModifiedBy>Leonardo G&gt; Romeo</cp:lastModifiedBy>
  <dcterms:modified xsi:type="dcterms:W3CDTF">2013-06-11T13:47:45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11</vt:r8>
  </property>
</Properties>
</file>