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F433-A7A0-413B-BD37-7126460D4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-Short Term= 3 yrs; MT-Medium Term= 3-7 yrs; LT-Long Term = beyond 7 y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option &amp; implementation of coherent &amp; efficient Trade Policies @ national, regional &amp; continental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factor in low level of intr-African Trade is numerous TF constra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gnificant share of Africa in global trade &amp; low level intra African trade is die to inadequacy of productive capacity= dynamic sectors of global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dequacy of basic infrastructure= hindrance &amp; impediment to production &amp;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 of funding= from level of production to order finan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quate, easily accessible &amp; timely information is necessary for taking full advantage of the opportunitie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hould be intra &amp; inter regional mobility of factors of production (labour, enterprise &amp; capit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F6C6-F0CF-4D95-9D6B-5F44C8720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00D0-33B4-4F81-9EA6-74EA1A491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6187-1EDD-42AE-9EB4-2E13FB72A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th America Intra Trade is 40 % and Western Europe is 63 %. Objective for Africa is to have 25 % or more Intra Trade in the next dec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A16C-9390-4B24-A7C8-87ADB579A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8B8E-3D54-449B-925A-3EB55579C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0891-B64E-4FD9-BD41-5EA7011AB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partite encouraged to complete its FTA by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OWAS, CEN-SAD, ECCAS &amp; AMU to expedite completion of their FTAs by 2014. May also join &amp; form a parallel arrangement similar to the Tripart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other AU Ms outside the FTAs of the 8 recognised RECs to join CFTA process by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bove will lead to the establishment of a CFTA by 20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otiations facilitated by the AUC, supported by the RECs, taking place between 2015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proposed that CFTA should be built on the Acquis, i.e built on the progress made by the RE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FB93-93E5-437A-A48E-5C810BE7C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Business Council-represents the pvt sector &amp; their views in continental policy form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Chairs of umbrella regional Associations / Chambers of Commerce; Farmers Associations; S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 Observatory-monitoring &amp; evaluation of the Action Plan, Road Map; Summit Decisions &amp; collection &amp; analyse Trade Statiscs. Located in AUC d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4DE8-384E-49CA-8902-814382E95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A95-E477-4B16-82B1-4EAA1E5E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65B-06AA-47B2-A8F8-210BB6D0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E62-A726-45AC-8F70-4B845610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673-D02C-45AF-9519-98240CEA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DF5-9FF0-4963-AF57-24A3719F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614-F5F2-47C7-91A1-EF1FF8C5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CF6-22FC-4793-B960-80C1C8D8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5A4-3390-4822-919C-7213DC0B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E32-250D-49DF-9912-CA79DE2E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777-270A-4ABB-BF80-003E7C85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9F0-877A-4CCD-A2BD-10125CEF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25E-905B-430B-891E-F9931CA7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7497-8107-4BE4-99D4-4CE13E80EA72}" type="slidenum">
              <a:rPr b="0" lang="en-Z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83818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C-EC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OINT CUSTOMS &amp; TRADE FACILITATION FORUM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russels, Belgiu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-13 December, 201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419112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360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on Plan on Boosting Intra African Tra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 Clusters of the Action Pl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de Facilit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tive Capac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Related Infra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Fin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In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 Market Integ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me Frames  - ST,MT,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79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vities for the CFTA &amp; BI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Comprehensive Trade Facilitation program which will include issues such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Integrated bord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Rules of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Revised Kyoto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79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The AUC will continue to work with MS, RECs and other Partners (like the EC) in the area of Customs and Trade Facili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come more Partners to support RECs and MS in the implementation of the CFTA and BI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The outcomes of the Forum will assist in the development of a Customs strategy for the implementation of the Trade Facilitation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79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ank You For Your Ki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ttention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bayac@africa-union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utli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done in Customs &amp; Trade Fac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blishment of the CF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ities to support the CFTA &amp; BI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lu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rent Posi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rica’s share in global trade is 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7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- African trad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.3%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rope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3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trading Partners- Europe and U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ajor factor in the low level of intra-African trade has been the numerous trade facilitation constrai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al of these constraints is critical to boosting trade among African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284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ork d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armonization of Rules of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raft Protocol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armonization of Transit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raft Protocol on Transit procedures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erconnectivity of Computerized Customs Clearance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uidelines, roadmap &amp; strategy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egrity &amp; Eth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mon Tariff Nomenclature  (CT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284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ture Work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5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2 Assembly Decision AU/Dec.394 (XVI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blish a Pan Africa Continental Free Trade Area (CFTA) by an indicative date of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saged CFTA has the Framework, Road Map and Archite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orsed an Action Plan for Boosting Intra-African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es the fundamental issues , PIDA, AIDA, M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3604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rganogram of the Road M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5181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609480" y="1371600"/>
            <a:ext cx="43434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1160" y="0"/>
            <a:ext cx="1360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rchitecture For The CF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990720" y="1219320"/>
            <a:ext cx="41907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ight Arrow 5"/>
          <p:cNvSpPr/>
          <p:nvPr/>
        </p:nvSpPr>
        <p:spPr>
          <a:xfrm rot="18630600">
            <a:off x="247320" y="4697280"/>
            <a:ext cx="766800" cy="484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6"/>
          <p:cNvSpPr/>
          <p:nvPr/>
        </p:nvSpPr>
        <p:spPr>
          <a:xfrm rot="19165800">
            <a:off x="1885680" y="3087720"/>
            <a:ext cx="761760" cy="4572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086600" y="4800600"/>
            <a:ext cx="1523880" cy="91440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T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Bent-Up Arrow 8"/>
          <p:cNvSpPr/>
          <p:nvPr/>
        </p:nvSpPr>
        <p:spPr>
          <a:xfrm rot="16200000">
            <a:off x="5911200" y="2851560"/>
            <a:ext cx="1143000" cy="2754360"/>
          </a:xfrm>
          <a:custGeom>
            <a:avLst/>
            <a:gdLst/>
            <a:ahLst/>
            <a:rect l="l" t="t" r="r" b="b"/>
            <a:pathLst>
              <a:path w="1143000" h="2754313">
                <a:moveTo>
                  <a:pt x="0" y="2462048"/>
                </a:moveTo>
                <a:lnTo>
                  <a:pt x="789790" y="2462048"/>
                </a:lnTo>
                <a:lnTo>
                  <a:pt x="789790" y="550732"/>
                </a:lnTo>
                <a:lnTo>
                  <a:pt x="728845" y="550732"/>
                </a:lnTo>
                <a:lnTo>
                  <a:pt x="935923" y="0"/>
                </a:lnTo>
                <a:lnTo>
                  <a:pt x="1143000" y="550732"/>
                </a:lnTo>
                <a:lnTo>
                  <a:pt x="1082055" y="550732"/>
                </a:lnTo>
                <a:lnTo>
                  <a:pt x="1082055" y="2754313"/>
                </a:lnTo>
                <a:lnTo>
                  <a:pt x="0" y="2754313"/>
                </a:lnTo>
                <a:lnTo>
                  <a:pt x="0" y="246204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1160" y="0"/>
            <a:ext cx="1360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ustoms Technical Committee (CTC</a:t>
            </a: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s to &amp; serve as the TC of the Conference of AU Ministers of Trade - Customs matters &amp; any other issues relating to facilitation of Intra-African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S level   - Directors General / Heads of Customs Administr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s/AUC  level- Directors/Heads of Customs Departments/Divi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360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ustoms Technical Committee (CTC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Develop and submit proposals to the Conference of AU  Ministers of Trade on issues such 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Rules of Origin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customs regulations and procedur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Calibri"/>
              </a:rPr>
              <a:t>Implement the decisions of the policy organs of the AU on the facilitation of intra-African trade</a:t>
            </a: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1284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5:44:39Z</dcterms:created>
  <dc:creator>Batanai Chikwene</dc:creator>
  <dc:description/>
  <dc:language>en-US</dc:language>
  <cp:lastModifiedBy>DI BENEDETTO Marco (DEVCO)</cp:lastModifiedBy>
  <cp:lastPrinted>2012-09-04T10:04:11Z</cp:lastPrinted>
  <dcterms:modified xsi:type="dcterms:W3CDTF">2013-01-08T17:02:45Z</dcterms:modified>
  <cp:revision>82</cp:revision>
  <dc:subject/>
  <dc:title>PowerPoint Presentation</dc:title>
</cp:coreProperties>
</file>