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C534-69F0-4078-BF1B-9AFA348F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-Short Term= 3 yrs; MT-Medium Term= 3-7 yrs; LT-Long Term = beyond 7 y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ption &amp; implementation of coherent &amp; efficient Trade Policies @ national, regional &amp; continental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factor in low level of intr-African Trade is numerous TF constra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gnificant share of Africa in global trade &amp; low level intra African trade is die to inadequacy of productive capacity= dynamic sectors of global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dequacy of basic infrastructure= hindrance &amp; impediment to production &amp;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 of funding= from level of production to order fin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quate, easily accessible &amp; timely information is necessary for taking full advantage of the opportunitie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intra &amp; inter regional mobility of factors of production (labour, enterprise &amp; capit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1ADB-5D99-4E31-90A5-5EEE26A3B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448F-D904-4EA2-8411-8194CB38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1AFA-3F05-45CD-B34F-E06FA50AA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America Intra Trade is 40 % and Western Europe is 63 %. Objective for Africa is to have 25 % or more Intra Trade in the next de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C4B4-8D81-4A74-BB09-A979ABF35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4668-1ABE-4009-AC09-F675FD57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2885-D105-4529-9E97-1E2DD2BF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partite encouraged to complete its FTA by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WAS, CEN-SAD, ECCAS &amp; AMU to expedite completion of their FTAs by 2014. May also join &amp; form a parallel arrangement similar to the Tripart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other AU Ms outside the FTAs of the 8 recognised RECs to join CFTA process by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bove will lead to the establishment of a CFTA by 20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ions facilitated by the AUC, supported by the RECs, taking place between 2015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roposed that CFTA should be built on the Acquis, i.e built on the progress made by the RE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1A6F-3E56-44D3-AF80-D5FB55616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Business Council-represents the pvt sector &amp; their views in continental policy form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Chairs of umbrella regional Associations / Chambers of Commerce; Farmers Associations; S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 Observatory-monitoring &amp; evaluation of the Action Plan, Road Map; Summit Decisions &amp; collection &amp; analyse Trade Statiscs. Located in AUC d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9580-A8CD-4BAE-891B-C7F0B1973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075-3FD9-4DE1-B454-C909519F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BA5-62B1-4505-870F-BE597E33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60B-547C-45FE-954B-6738023C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4E9-4BA8-4323-A8BF-C2463D57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205-781A-4AC4-AE91-2024B353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118-B2C3-4BA2-9FA4-205D3E14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C65-E3C3-456B-8234-8F94F719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C9E-5CA8-47BE-B39F-362BD168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81D-168F-48B8-9A94-3B2942FA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6A5-BFC0-4456-9F6B-47D8649E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066-BD04-4A27-9A4F-90E5323A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A00-96BD-4190-AD68-CCF8E9A4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2588-2A20-4215-9D51-31CE6B3E84E0}" type="slidenum">
              <a:rPr b="0" lang="en-Z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3818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C-E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INT CUSTOMS &amp; TRADE FACILITATION FORUM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ussels, Belgiu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-13 December, 201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41911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on Plan on Boosting Intra African Tra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 Clusters of the Action Pl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de Facili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tive Capac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Related Infra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Fin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 Market Integ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e Frames  - ST,MT,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79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ities for the CFTA &amp; BI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Comprehensive Trade Facilitation program which will include issues such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Integrated bord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Rules of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Revised Kyoto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79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The AUC will continue to work with MS, RECs and other Partners (like the EC) in the area of Customs and Trade Facili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come more Partners to support RECs and MS in the implementation of the CFTA and B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The outcomes of the Forum will assist in the development of a Customs strategy for the implementation of the Trade Facilitation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79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ank You For Your Ki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ttentio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bayac@africa-union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done in Customs &amp; Trade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ment of the CF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ities to support the CFTA &amp; B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rent Posi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’s share in global trade is 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7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- African trad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.3%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3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trading Partners- Europe and U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jor factor in the low level of intra-African trade has been the numerous trade facilitation constra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al of these constraints is critical to boosting trade among African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284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ork d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rmonization of Rules of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raft Protocol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rmonization of Transit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raft Protocol on Transit procedures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erconnectivity of Computerized Customs Clearance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uidelines, roadmap &amp; strategy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egrity &amp; Eth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mon Tariff Nomenclature  (CT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284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ture Work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2 Assembly Decision AU/Dec.394 (XV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 a Pan Africa Continental Free Trade Area (CFTA) by an indicative date of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saged CFTA has the Framework, Road Map and Archit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rsed an Action Plan for Boosting Intra-African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es the fundamental issues , PIDA, AIDA, M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360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ganogram of the Road 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5181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609480" y="1371600"/>
            <a:ext cx="43434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rchitecture For The CF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990720" y="1219320"/>
            <a:ext cx="4190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5"/>
          <p:cNvSpPr/>
          <p:nvPr/>
        </p:nvSpPr>
        <p:spPr>
          <a:xfrm rot="18630600">
            <a:off x="247320" y="4697280"/>
            <a:ext cx="766800" cy="484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6"/>
          <p:cNvSpPr/>
          <p:nvPr/>
        </p:nvSpPr>
        <p:spPr>
          <a:xfrm rot="19165800">
            <a:off x="1885680" y="3087720"/>
            <a:ext cx="761760" cy="4572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086600" y="4800600"/>
            <a:ext cx="1523880" cy="91440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Bent-Up Arrow 8"/>
          <p:cNvSpPr/>
          <p:nvPr/>
        </p:nvSpPr>
        <p:spPr>
          <a:xfrm rot="16200000">
            <a:off x="5911200" y="2851560"/>
            <a:ext cx="1143000" cy="2754360"/>
          </a:xfrm>
          <a:custGeom>
            <a:avLst/>
            <a:gdLst/>
            <a:ahLst/>
            <a:rect l="l" t="t" r="r" b="b"/>
            <a:pathLst>
              <a:path w="1143000" h="2754313">
                <a:moveTo>
                  <a:pt x="0" y="2462048"/>
                </a:moveTo>
                <a:lnTo>
                  <a:pt x="789790" y="2462048"/>
                </a:lnTo>
                <a:lnTo>
                  <a:pt x="789790" y="550732"/>
                </a:lnTo>
                <a:lnTo>
                  <a:pt x="728845" y="550732"/>
                </a:lnTo>
                <a:lnTo>
                  <a:pt x="935923" y="0"/>
                </a:lnTo>
                <a:lnTo>
                  <a:pt x="1143000" y="550732"/>
                </a:lnTo>
                <a:lnTo>
                  <a:pt x="1082055" y="550732"/>
                </a:lnTo>
                <a:lnTo>
                  <a:pt x="1082055" y="2754313"/>
                </a:lnTo>
                <a:lnTo>
                  <a:pt x="0" y="2754313"/>
                </a:lnTo>
                <a:lnTo>
                  <a:pt x="0" y="246204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stoms Technical Committee (CTC</a:t>
            </a: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s to &amp; serve as the TC of the Conference of AU Ministers of Trade - Customs matters &amp; any other issues relating to facilitation of Intra-African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 level   - Directors General / Heads of Customs Administr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s/AUC  level- Directors/Heads of Customs Departments/Divi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stoms Technical Committee (CTC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Develop and submit proposals to the Conference of AU  Ministers of Trade on issues such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Rules of Origin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customs regulations and procedur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Implement the decisions of the policy organs of the AU on the facilitation of intra-African trade</a:t>
            </a: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284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5:44:39Z</dcterms:created>
  <dc:creator>Batanai Chikwene</dc:creator>
  <dc:description/>
  <dc:language>en-US</dc:language>
  <cp:lastModifiedBy>DI BENEDETTO Marco (DEVCO)</cp:lastModifiedBy>
  <cp:lastPrinted>2012-09-04T10:04:11Z</cp:lastPrinted>
  <dcterms:modified xsi:type="dcterms:W3CDTF">2013-01-08T17:02:45Z</dcterms:modified>
  <cp:revision>82</cp:revision>
  <dc:subject/>
  <dc:title>PowerPoint Presentation</dc:title>
</cp:coreProperties>
</file>