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7675" cy="9926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GB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50A511-535E-4564-B046-F261B0DB5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Num" idx="18"/>
          </p:nvPr>
        </p:nvSpPr>
        <p:spPr>
          <a:xfrm>
            <a:off x="3851280" y="9431280"/>
            <a:ext cx="2944440" cy="493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</a:pPr>
            <a:fld id="{258C1A0F-A0B7-4559-95D3-BAFB13E97DE3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3680" cy="37224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9960" cy="4468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Num" idx="19"/>
          </p:nvPr>
        </p:nvSpPr>
        <p:spPr>
          <a:xfrm>
            <a:off x="3851280" y="9431280"/>
            <a:ext cx="2944440" cy="493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</a:pPr>
            <a:fld id="{0C55A47F-5315-4686-B1F8-40164BCBED38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3680" cy="37224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9960" cy="4468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851280" y="9431280"/>
            <a:ext cx="29458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542F-F6EA-48C7-B20F-71DC87D4CC33}" type="slidenum">
              <a:rPr b="1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Num" idx="20"/>
          </p:nvPr>
        </p:nvSpPr>
        <p:spPr>
          <a:xfrm>
            <a:off x="3851280" y="9431280"/>
            <a:ext cx="2944440" cy="493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</a:pPr>
            <a:fld id="{F4AE3838-7D80-43F0-A88D-0AF18BA7744E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3680" cy="37224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9960" cy="4468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Num" idx="21"/>
          </p:nvPr>
        </p:nvSpPr>
        <p:spPr>
          <a:xfrm>
            <a:off x="3851280" y="9431280"/>
            <a:ext cx="2944440" cy="493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</a:pPr>
            <a:fld id="{0BD77824-DE69-4A80-B793-FBA3BE4D26A5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3680" cy="37224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9960" cy="4468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Num" idx="22"/>
          </p:nvPr>
        </p:nvSpPr>
        <p:spPr>
          <a:xfrm>
            <a:off x="3851280" y="9431280"/>
            <a:ext cx="2944440" cy="493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</a:pPr>
            <a:fld id="{292F1397-F99C-4530-8463-DF71629231FD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3680" cy="37224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9960" cy="4468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Num" idx="23"/>
          </p:nvPr>
        </p:nvSpPr>
        <p:spPr>
          <a:xfrm>
            <a:off x="3851280" y="9431280"/>
            <a:ext cx="2944440" cy="493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</a:pPr>
            <a:fld id="{D785944D-29A3-4A25-8DFC-9A9A7D03027A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3680" cy="37224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9960" cy="4468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Num" idx="24"/>
          </p:nvPr>
        </p:nvSpPr>
        <p:spPr>
          <a:xfrm>
            <a:off x="3851280" y="9431280"/>
            <a:ext cx="2944440" cy="493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</a:pPr>
            <a:fld id="{D6923DAE-3E02-48A3-A8D5-796292B333B3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3680" cy="37224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9960" cy="4468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Num" idx="25"/>
          </p:nvPr>
        </p:nvSpPr>
        <p:spPr>
          <a:xfrm>
            <a:off x="3851280" y="9431280"/>
            <a:ext cx="2944440" cy="493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</a:pPr>
            <a:fld id="{CEEAF765-7F32-475B-9AFC-4B4B631E9608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3680" cy="37224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9960" cy="4468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6A07-2F2D-4877-8723-B3B7A599E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ACC4-A173-4068-9FE4-A434DF17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8006-55CB-41FB-8F5F-ACB3D1B3A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2F59-32BA-40B7-9EB5-BAE4312D0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98D0-185B-4FC5-B2CF-BD42FCC59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AFCE-5D10-499D-8B07-1053BF4A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963D-3D12-460C-ABE2-31D69D35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92A1-B646-4013-83B1-4D11268D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4678-4EF8-410C-A2D5-6B238CB3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7CD5-D0BF-478F-AEE8-585C2D8A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ABD6-A030-4D90-B0A0-79316846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5C6D-18C6-4D1B-9D0E-C6411EBE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9D19-ED03-4C93-9415-04D03586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C6C8-FB28-4843-A42D-93EF4C07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7E02-56E0-4CAB-8659-48FC2BFB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25E5-E16F-4942-9D45-63D31B336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1C1F-8970-4E98-8423-111D41276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50DB-6C42-4936-8281-84F2C3C7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FF0F-5964-4CD9-99C2-75667513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7DFD-BE63-476B-99F7-CBED02DD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3FD2-618B-41B9-BF6A-46ABDB10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45A7-69F6-4DBF-A73A-B3852909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73E7-FAB0-4781-81D0-8681ACA7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1108-F35A-4249-A877-BC6C511D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981000"/>
            <a:ext cx="9180000" cy="587664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algn="ctr" dir="5400000" dist="2304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ffffff"/>
              </a:solidFill>
              <a:latin typeface="Arial"/>
              <a:ea typeface="ヒラギノ角ゴ Pro W3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2"/>
          <a:stretch/>
        </p:blipFill>
        <p:spPr>
          <a:xfrm>
            <a:off x="3849840" y="258840"/>
            <a:ext cx="1439640" cy="1001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3680" cy="947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</a:tabLst>
              <a:defRPr b="1" lang="en-US" sz="1400" spc="-1" strike="noStrike">
                <a:solidFill>
                  <a:srgbClr val="ffffff"/>
                </a:solidFill>
                <a:latin typeface="Verdana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</a:tabLst>
            </a:pPr>
            <a:fld id="{F690BF8C-B67F-4E6F-BC64-781953442071}" type="slidenum">
              <a:rPr b="1" lang="en-US" sz="14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/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GB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GB" sz="1400" spc="-1" strike="noStrike">
              <a:solidFill>
                <a:srgbClr val="0f5494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0"/>
            <a:ext cx="9143640" cy="95688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ffffcc"/>
              </a:solidFill>
              <a:latin typeface="Arial"/>
              <a:ea typeface="ヒラギノ角ゴ Pro W3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3849840" y="258840"/>
            <a:ext cx="1439640" cy="10015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3680" cy="5490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1850-BB66-4233-BE6B-52BBD71B113E}" type="slidenum"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/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GB" sz="1400" spc="-1" strike="noStrike">
              <a:solidFill>
                <a:srgbClr val="0f5494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c.europa.eu/taxation_customs/customs/policy_issues/electronic_customs_initiative/index_en.htm" TargetMode="External"/><Relationship Id="rId2" Type="http://schemas.openxmlformats.org/officeDocument/2006/relationships/hyperlink" Target="http://ec.europa.eu/taxation_customs/customs/policy_issues/electronic_customs_initiative/index_en.htm" TargetMode="External"/><Relationship Id="rId3" Type="http://schemas.openxmlformats.org/officeDocument/2006/relationships/hyperlink" Target="http://ec.europa.eu/taxation_customs/customs/policy_issues/trade_falicitation/index_en.htm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755640" y="1557360"/>
            <a:ext cx="8280000" cy="25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3240" algn="ctr">
              <a:lnSpc>
                <a:spcPct val="100000"/>
              </a:lnSpc>
              <a:spcAft>
                <a:spcPts val="876"/>
              </a:spcAft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spcAft>
                <a:spcPts val="876"/>
              </a:spcAft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spcAft>
                <a:spcPts val="876"/>
              </a:spcAft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spcAft>
                <a:spcPts val="876"/>
              </a:spcAft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r>
              <a:rPr b="0" lang="en-GB" sz="2800" spc="-1" strike="noStrike">
                <a:solidFill>
                  <a:srgbClr val="ffd624"/>
                </a:solidFill>
                <a:latin typeface="Verdana"/>
                <a:ea typeface="Microsoft YaHei"/>
              </a:rPr>
              <a:t>Interconnectivity of computeri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spcAft>
                <a:spcPts val="876"/>
              </a:spcAft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r>
              <a:rPr b="0" lang="en-GB" sz="2800" spc="-1" strike="noStrike">
                <a:solidFill>
                  <a:srgbClr val="ffd624"/>
                </a:solidFill>
                <a:latin typeface="Verdana"/>
                <a:ea typeface="Microsoft YaHei"/>
              </a:rPr>
              <a:t>customs systems</a:t>
            </a:r>
            <a:r>
              <a:rPr b="0" lang="en-GB" sz="2400" spc="-1" strike="noStrike">
                <a:solidFill>
                  <a:srgbClr val="ffd624"/>
                </a:solidFill>
                <a:latin typeface="Verdana"/>
                <a:ea typeface="Microsoft YaHe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br>
              <a:rPr sz="2000"/>
            </a:br>
            <a:r>
              <a:rPr b="0" lang="en-GB" sz="1400" spc="-1" strike="noStrike">
                <a:solidFill>
                  <a:srgbClr val="ffd624"/>
                </a:solidFill>
                <a:latin typeface="Verdana"/>
                <a:ea typeface="Microsoft YaHei"/>
              </a:rPr>
              <a:t>Brussels</a:t>
            </a:r>
            <a:br>
              <a:rPr sz="1400"/>
            </a:br>
            <a:r>
              <a:rPr b="0" lang="en-GB" sz="1400" spc="-1" strike="noStrike">
                <a:solidFill>
                  <a:srgbClr val="ffd624"/>
                </a:solidFill>
                <a:latin typeface="Verdana"/>
                <a:ea typeface="Microsoft YaHei"/>
              </a:rPr>
              <a:t> 12 December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r>
              <a:rPr b="0" lang="de-DE" sz="1400" spc="-1" strike="noStrike">
                <a:solidFill>
                  <a:srgbClr val="ffd624"/>
                </a:solidFill>
                <a:latin typeface="Verdana"/>
                <a:ea typeface="Microsoft YaHei"/>
              </a:rPr>
              <a:t>Juan José García Sánch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JOINT CUSTOMS AND TRADE FACILITATION FORU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A CUSTOMS STRATEGY FOR THE CONTINENTAL FREE TRADE AREA (CF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Organised by the African Union and European Union Commissions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with the African Regional Economic Commun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spcAft>
                <a:spcPts val="876"/>
              </a:spcAft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r>
              <a:rPr b="0" lang="fr-BE" sz="1400" spc="-1" strike="noStrike">
                <a:solidFill>
                  <a:srgbClr val="ffd624"/>
                </a:solidFill>
                <a:latin typeface="Verdana"/>
                <a:ea typeface="Microsoft YaHei"/>
              </a:rPr>
              <a:t>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684360" y="3978360"/>
            <a:ext cx="80640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324000" y="6381720"/>
            <a:ext cx="85690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>
              <a:lnSpc>
                <a:spcPct val="100000"/>
              </a:lnSpc>
              <a:spcBef>
                <a:spcPts val="624"/>
              </a:spcBef>
              <a:tabLst>
                <a:tab algn="l" pos="3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</a:tabLst>
            </a:pPr>
            <a:r>
              <a:rPr b="0" lang="en-GB" sz="1000" spc="-1" strike="noStrike">
                <a:solidFill>
                  <a:srgbClr val="ffd624"/>
                </a:solidFill>
                <a:latin typeface="Verdana"/>
                <a:ea typeface="ヒラギノ角ゴ Pro W3"/>
              </a:rPr>
              <a:t>	</a:t>
            </a:r>
            <a:r>
              <a:rPr b="0" lang="en-GB" sz="1000" spc="-1" strike="noStrike">
                <a:solidFill>
                  <a:srgbClr val="ffd624"/>
                </a:solidFill>
                <a:latin typeface="Verdana"/>
                <a:ea typeface="ヒラギノ角ゴ Pro W3"/>
              </a:rPr>
              <a:t>	</a:t>
            </a:r>
            <a:r>
              <a:rPr b="0" lang="en-GB" sz="1000" spc="-1" strike="noStrike">
                <a:solidFill>
                  <a:srgbClr val="ffd624"/>
                </a:solidFill>
                <a:latin typeface="Verdana"/>
                <a:ea typeface="ヒラギノ角ゴ Pro W3"/>
              </a:rPr>
              <a:t>	</a:t>
            </a:r>
            <a:r>
              <a:rPr b="0" lang="en-GB" sz="1000" spc="-1" strike="noStrike">
                <a:solidFill>
                  <a:srgbClr val="ffd624"/>
                </a:solidFill>
                <a:latin typeface="Verdana"/>
                <a:ea typeface="ヒラギノ角ゴ Pro W3"/>
              </a:rPr>
              <a:t>	</a:t>
            </a:r>
            <a:r>
              <a:rPr b="0" lang="en-GB" sz="1000" spc="-1" strike="noStrike">
                <a:solidFill>
                  <a:srgbClr val="ffd624"/>
                </a:solidFill>
                <a:latin typeface="Verdana"/>
                <a:ea typeface="ヒラギノ角ゴ Pro W3"/>
              </a:rPr>
              <a:t>	</a:t>
            </a:r>
            <a:r>
              <a:rPr b="0" lang="en-GB" sz="1000" spc="-1" strike="noStrike">
                <a:solidFill>
                  <a:srgbClr val="ffd624"/>
                </a:solidFill>
                <a:latin typeface="Verdana"/>
                <a:ea typeface="ヒラギノ角ゴ Pro W3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Num" idx="10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</a:tabLst>
              <a:defRPr b="1" lang="en-US" sz="1400" spc="-1" strike="noStrike">
                <a:solidFill>
                  <a:srgbClr val="ffffff"/>
                </a:solidFill>
                <a:latin typeface="Verdana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</a:tabLst>
            </a:pPr>
            <a:fld id="{5B9C4CBB-9DB9-45E5-B2E2-EF2B906BF172}" type="slidenum">
              <a:rPr b="1" lang="en-US" sz="14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6804000" y="623736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ffffcc"/>
              </a:solidFill>
              <a:latin typeface="Arial"/>
              <a:ea typeface="ヒラギノ角ゴ Pro W3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395280" y="1197000"/>
            <a:ext cx="82292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358920" indent="-35712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Arial"/>
                <a:ea typeface="Microsoft YaHei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11280" y="1989000"/>
            <a:ext cx="777204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equirements and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ommon mistak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8229600" y="6400800"/>
            <a:ext cx="400176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Num" idx="11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DFBA-F667-4056-9859-B60E0487C694}" type="slidenum"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/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ffffcc"/>
              </a:solidFill>
              <a:latin typeface="Arial"/>
              <a:ea typeface="ヒラギノ角ゴ Pro W3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358920" indent="-35712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Microsoft YaHei"/>
              </a:rPr>
              <a:t>(a) Intro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57200" y="2349360"/>
            <a:ext cx="82292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hat is interconnectivity? Exchange of information between IT sys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Between customs administ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Between state agenc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With economic opera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FTA: exchange of information between customs administ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Undervalu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Classification/orig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xchange of information is very expensiv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8229600" y="6400800"/>
            <a:ext cx="400176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39A4-DC6E-46AA-B639-83EF6B38D953}" type="slidenum"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/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ffffcc"/>
              </a:solidFill>
              <a:latin typeface="Arial"/>
              <a:ea typeface="ヒラギノ角ゴ Pro W3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358920" indent="-35712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Microsoft YaHei"/>
              </a:rPr>
              <a:t>(b) Requirements and Ris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89520" y="2421000"/>
            <a:ext cx="82292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  <a:ea typeface="ヒラギノ角ゴ Pro W3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Administrative capa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17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isk: Useless IT investments, obsolesc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  <a:ea typeface="ヒラギノ角ゴ Pro W3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Compatibl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17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isk: wrong conclusions, miss risky consign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rdt- Legal basis: Mo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999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isk: useful information is not exchanged, obsolescence of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4th- Compatible IT systems AND interface.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ヒラギノ角ゴ Pro W3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999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isk: useless purchases of IT systems, high maintenance co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8229600" y="6400800"/>
            <a:ext cx="400176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Num" idx="13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E56E-460A-4B54-A085-9BE5F4B7E789}" type="slidenum"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/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ffffcc"/>
              </a:solidFill>
              <a:latin typeface="Arial"/>
              <a:ea typeface="ヒラギノ角ゴ Pro W3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358920" indent="-35712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Microsoft YaHei"/>
              </a:rPr>
              <a:t>(c) Plan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2349360"/>
            <a:ext cx="82292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hase 1-Administrative capacity and compatible information: minimum of 2 yea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hase 2- Signature of MoU: minimum of 1 ye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hase 3- Technical: several years depending of info exchanged and compatibility of IT syste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onclusion: 2017 difficult to achie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8229600" y="6400800"/>
            <a:ext cx="400176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Num" idx="14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B390-5F08-438D-939A-280A87787E7E}" type="slidenum"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/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ffffcc"/>
              </a:solidFill>
              <a:latin typeface="Arial"/>
              <a:ea typeface="ヒラギノ角ゴ Pro W3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358920" indent="-35712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Microsoft YaHei"/>
              </a:rPr>
              <a:t>(d) Common mistak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457200" y="2349360"/>
            <a:ext cx="82292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rong assessment of required business processe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ack of comprehensive specifications of the IT system that will be used for exchange of informatio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rong estimation of development and maintenance costs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ack of coordination between partner administration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ack of expertise inside customs administrations for maintenanc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8229600" y="6400800"/>
            <a:ext cx="400176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Num" idx="15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7CAD-3305-49C4-AC89-ED37966AB0E9}" type="slidenum"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/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ffffcc"/>
              </a:solidFill>
              <a:latin typeface="Arial"/>
              <a:ea typeface="ヒラギノ角ゴ Pro W3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358920" indent="-35712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Microsoft YaHei"/>
              </a:rPr>
              <a:t>(e) Solu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457200" y="2349360"/>
            <a:ext cx="82292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etailed evaluation and planning BEFORE expenditu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ealistic goa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etailed terms of referen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eliable companies/partne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sure that you have project management experts and IT exper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entralised project management; national coordinato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8229600" y="6400800"/>
            <a:ext cx="400176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Num" idx="16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D739-07F9-4576-B2C8-06275BF512C2}" type="slidenum"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/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392040" y="1357200"/>
            <a:ext cx="82292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358920" indent="-357120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f5494"/>
              </a:solidFill>
              <a:latin typeface="Times New Roman"/>
              <a:ea typeface="Microsoft YaHei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457200" y="1484280"/>
            <a:ext cx="8229240" cy="45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en-GB" sz="2400" spc="-1" strike="noStrike" u="sng">
                <a:solidFill>
                  <a:srgbClr val="0f5494"/>
                </a:solidFill>
                <a:uFillTx/>
                <a:latin typeface="Times New Roman"/>
                <a:ea typeface="Microsoft YaHei"/>
              </a:rPr>
              <a:t>Further information on TAXUD websit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Times New Roman"/>
                <a:ea typeface="Microsoft YaHei"/>
              </a:rPr>
              <a:t>EU IT sys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en-GB" sz="1000" spc="-1" strike="noStrike" u="sng">
                <a:solidFill>
                  <a:srgbClr val="0033cc"/>
                </a:solidFill>
                <a:uFillTx/>
                <a:latin typeface="Arial"/>
                <a:ea typeface="Microsoft YaHei"/>
                <a:hlinkClick r:id="rId1"/>
              </a:rPr>
              <a:t>http://</a:t>
            </a:r>
            <a:r>
              <a:rPr b="1" i="1" lang="en-GB" sz="1000" spc="-1" strike="noStrike" u="sng">
                <a:solidFill>
                  <a:srgbClr val="0033cc"/>
                </a:solidFill>
                <a:uFillTx/>
                <a:latin typeface="Arial"/>
                <a:ea typeface="Microsoft YaHei"/>
                <a:hlinkClick r:id="rId2"/>
              </a:rPr>
              <a:t>ec.europa.eu/taxation_customs/customs/policy_issues/electronic_customs_initiative/index_en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en-GB" sz="1000" spc="-1" strike="noStrike">
                <a:solidFill>
                  <a:srgbClr val="ffffcc"/>
                </a:solidFill>
                <a:latin typeface="Arial"/>
                <a:ea typeface="ヒラギノ角ゴ Pro W3"/>
              </a:rPr>
              <a:t>  </a:t>
            </a:r>
            <a:r>
              <a:rPr b="1" i="1" lang="en-GB" sz="2400" spc="-1" strike="noStrike">
                <a:solidFill>
                  <a:srgbClr val="0f5494"/>
                </a:solidFill>
                <a:latin typeface="Times New Roman"/>
                <a:ea typeface="Microsoft YaHei"/>
              </a:rPr>
              <a:t>Trade Facili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en-GB" sz="1000" spc="-1" strike="noStrike" u="sng">
                <a:solidFill>
                  <a:srgbClr val="0033cc"/>
                </a:solidFill>
                <a:uFillTx/>
                <a:latin typeface="Arial"/>
                <a:ea typeface="ヒラギノ角ゴ Pro W3"/>
                <a:hlinkClick r:id="rId3"/>
              </a:rPr>
              <a:t>http://ec.europa.eu/taxation_customs/customs/policy_issues/trade_falicitation/index_en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Times New Roman"/>
                <a:ea typeface="Microsoft YaHei"/>
              </a:rPr>
              <a:t>or by e-ma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en-GB" sz="16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juan.garcia-sanchez@ec.europa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Times New Roman"/>
                <a:ea typeface="Microsoft YaHei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ffffcc"/>
              </a:solidFill>
              <a:latin typeface="Arial"/>
              <a:ea typeface="ヒラギノ角ゴ Pro W3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8229600" y="6400800"/>
            <a:ext cx="400176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  <a:ea typeface="ヒラギノ角ゴ Pro W3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Num" idx="17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D21E-08D4-468A-A744-421135507737}" type="slidenum"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/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Office Theme">
  <a:themeElements>
    <a:clrScheme name="Office Them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FTA - Common transit as an instrument of trade facilitation - African Union -Continental Free trade aerea">
  <a:themeElements>
    <a:clrScheme name="Office Theme 3">
      <a:dk1>
        <a:srgbClr val="000000"/>
      </a:dk1>
      <a:lt1>
        <a:srgbClr val="ffffcc"/>
      </a:lt1>
      <a:dk2>
        <a:srgbClr val="808000"/>
      </a:dk2>
      <a:lt2>
        <a:srgbClr val="666633"/>
      </a:lt2>
      <a:accent1>
        <a:srgbClr val="339933"/>
      </a:accent1>
      <a:accent2>
        <a:srgbClr val="800000"/>
      </a:accent2>
      <a:accent3>
        <a:srgbClr val="ffffe2"/>
      </a:accent3>
      <a:accent4>
        <a:srgbClr val="000000"/>
      </a:accent4>
      <a:accent5>
        <a:srgbClr val="adcaad"/>
      </a:accent5>
      <a:accent6>
        <a:srgbClr val="730000"/>
      </a:accent6>
      <a:hlink>
        <a:srgbClr val="0033cc"/>
      </a:hlink>
      <a:folHlink>
        <a:srgbClr val="ffcc6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FTA - Common transit as an instrument of trade facilitation - African Union -Continental Free trade aerea</Template>
  <TotalTime>71</TotalTime>
  <Application>LibreOffice/7.4.7.2$Linux_X86_64 LibreOffice_project/40$Build-2</Application>
  <AppVersion>15.0000</AppVersion>
  <Words>307</Words>
  <Paragraphs>104</Paragraphs>
  <Company>European Commiss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09:47:48Z</dcterms:created>
  <dc:creator>GARCIA SANCHEZ Juan Jose (TAXUD)</dc:creator>
  <dc:description/>
  <dc:language>en-US</dc:language>
  <cp:lastModifiedBy>GARCIA SANCHEZ Juan Jose (TAXUD)</cp:lastModifiedBy>
  <cp:lastPrinted>2012-11-23T17:23:40Z</cp:lastPrinted>
  <dcterms:modified xsi:type="dcterms:W3CDTF">2012-12-12T15:30:14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8</vt:r8>
  </property>
  <property fmtid="{D5CDD505-2E9C-101B-9397-08002B2CF9AE}" pid="3" name="PresentationFormat">
    <vt:lpwstr>On-screen Show (4:3)</vt:lpwstr>
  </property>
  <property fmtid="{D5CDD505-2E9C-101B-9397-08002B2CF9AE}" pid="4" name="Slides">
    <vt:r8>8</vt:r8>
  </property>
</Properties>
</file>