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7675" cy="9926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GB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AE021E-A81E-4D6C-85F4-2ADB39437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Num" idx="18"/>
          </p:nvPr>
        </p:nvSpPr>
        <p:spPr>
          <a:xfrm>
            <a:off x="3851280" y="9431280"/>
            <a:ext cx="2944440" cy="4932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</a:pPr>
            <a:fld id="{392A5073-C373-4470-B170-B8E2E36869FB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3680" cy="37224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3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9960" cy="44683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Num" idx="19"/>
          </p:nvPr>
        </p:nvSpPr>
        <p:spPr>
          <a:xfrm>
            <a:off x="3851280" y="9431280"/>
            <a:ext cx="2944440" cy="4932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</a:pPr>
            <a:fld id="{F34AC9D0-62E7-4E21-AE35-218B86B131AC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3680" cy="37224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3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9960" cy="44683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851280" y="9431280"/>
            <a:ext cx="29458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6A54-885E-45C9-A190-6D3597230BF4}" type="slidenum">
              <a:rPr b="1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Num" idx="20"/>
          </p:nvPr>
        </p:nvSpPr>
        <p:spPr>
          <a:xfrm>
            <a:off x="3851280" y="9431280"/>
            <a:ext cx="2944440" cy="4932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</a:pPr>
            <a:fld id="{9D1E0349-889E-49D9-BC63-20DB12C7DAE3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3680" cy="37224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3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9960" cy="44683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Num" idx="21"/>
          </p:nvPr>
        </p:nvSpPr>
        <p:spPr>
          <a:xfrm>
            <a:off x="3851280" y="9431280"/>
            <a:ext cx="2944440" cy="4932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</a:pPr>
            <a:fld id="{0E20911B-14C4-4FF3-8E2A-969164750586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3680" cy="37224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3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9960" cy="44683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Num" idx="22"/>
          </p:nvPr>
        </p:nvSpPr>
        <p:spPr>
          <a:xfrm>
            <a:off x="3851280" y="9431280"/>
            <a:ext cx="2944440" cy="4932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</a:pPr>
            <a:fld id="{F1BF15EA-ACF8-4640-B7E6-815286A1DB13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3680" cy="37224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3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9960" cy="44683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Num" idx="23"/>
          </p:nvPr>
        </p:nvSpPr>
        <p:spPr>
          <a:xfrm>
            <a:off x="3851280" y="9431280"/>
            <a:ext cx="2944440" cy="4932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</a:pPr>
            <a:fld id="{0380C5A9-654A-4356-AE1E-CC14C7EBC9FE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3680" cy="37224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3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9960" cy="44683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Num" idx="24"/>
          </p:nvPr>
        </p:nvSpPr>
        <p:spPr>
          <a:xfrm>
            <a:off x="3851280" y="9431280"/>
            <a:ext cx="2944440" cy="4932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</a:pPr>
            <a:fld id="{E9CB0633-5AC5-4A59-BFEC-08FF0F432AF0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3680" cy="37224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9960" cy="44683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Num" idx="25"/>
          </p:nvPr>
        </p:nvSpPr>
        <p:spPr>
          <a:xfrm>
            <a:off x="3851280" y="9431280"/>
            <a:ext cx="2944440" cy="4932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</a:tabLst>
            </a:pPr>
            <a:fld id="{27414014-D5D2-418E-9EA6-A62049211EF4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3680" cy="37224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3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9960" cy="44683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E809-8531-427C-AFB7-A78F969E3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53A1-0145-4C7F-A263-F44989D8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205C-FC27-4E09-B85E-DDD505F2B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BB23-F993-4AFB-B00A-717B78C28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457C-0C34-45C9-892A-5867ADE8D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FAD1-A680-4C69-BCEE-08523B94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4BD9-3BB1-491F-AA73-A3059602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BCBC-4A13-487D-8C25-8ED304C4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065D-79D3-4A0A-A92D-35A96C66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7475-174A-45ED-912C-2231FFAB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CA19-D569-4999-8C9E-51C71303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188C-4B26-4473-9FC2-79018332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0CBE4-308A-4C5A-931F-D67B1D47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F25A-8B0E-4887-A230-A5D4351D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5121-0CF4-4BD5-B95D-13CB7246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2F5E-4D01-4353-8897-06A42B3B5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5DEF-9C73-41BE-B450-38276F68B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9166-5691-4797-B79D-C4D7E21C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5E82-30CB-4C87-A0E4-52F3823F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72D9-666E-4539-8B84-FEED068C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1A7B-CB3E-4926-A331-317570EE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9703-5798-44D0-8FAF-E182FC64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BDA1-9D4D-489F-AA65-C2DF8A45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415F-9FB0-46CD-BD8A-79CB7011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981000"/>
            <a:ext cx="9180000" cy="587664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algn="ctr" dir="5400000" dist="2304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ffffff"/>
              </a:solidFill>
              <a:latin typeface="Arial"/>
              <a:ea typeface="ヒラギノ角ゴ Pro W3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2"/>
          <a:stretch/>
        </p:blipFill>
        <p:spPr>
          <a:xfrm>
            <a:off x="3849840" y="258840"/>
            <a:ext cx="1439640" cy="1001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3680" cy="947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960"/>
                <a:tab algn="l" pos="1447920"/>
              </a:tabLst>
              <a:defRPr b="1" lang="en-US" sz="1400" spc="-1" strike="noStrike">
                <a:solidFill>
                  <a:srgbClr val="ffffff"/>
                </a:solidFill>
                <a:latin typeface="Verdana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960"/>
                <a:tab algn="l" pos="1447920"/>
              </a:tabLst>
            </a:pPr>
            <a:fld id="{D484F5FC-76FA-4F3B-9E96-A76C7F49DBD7}" type="slidenum">
              <a:rPr b="1" lang="en-US" sz="14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/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GB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GB" sz="1400" spc="-1" strike="noStrike">
              <a:solidFill>
                <a:srgbClr val="0f5494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0"/>
            <a:ext cx="9143640" cy="95688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ffffcc"/>
              </a:solidFill>
              <a:latin typeface="Arial"/>
              <a:ea typeface="ヒラギノ角ゴ Pro W3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3849840" y="258840"/>
            <a:ext cx="1439640" cy="10015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3680" cy="5490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F4F1-D601-4364-B420-D2EF4430522F}" type="slidenum"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/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GB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GB" sz="2400" spc="-1" strike="noStrike">
              <a:solidFill>
                <a:srgbClr val="0f5494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GB" sz="1400" spc="-1" strike="noStrike">
              <a:solidFill>
                <a:srgbClr val="0f5494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c.europa.eu/taxation_customs/customs/policy_issues/electronic_customs_initiative/index_en.htm" TargetMode="External"/><Relationship Id="rId2" Type="http://schemas.openxmlformats.org/officeDocument/2006/relationships/hyperlink" Target="http://ec.europa.eu/taxation_customs/customs/policy_issues/electronic_customs_initiative/index_en.htm" TargetMode="External"/><Relationship Id="rId3" Type="http://schemas.openxmlformats.org/officeDocument/2006/relationships/hyperlink" Target="http://ec.europa.eu/taxation_customs/customs/policy_issues/trade_falicitation/index_en.htm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755640" y="1557360"/>
            <a:ext cx="8280000" cy="25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3240" algn="ctr">
              <a:lnSpc>
                <a:spcPct val="100000"/>
              </a:lnSpc>
              <a:spcAft>
                <a:spcPts val="876"/>
              </a:spcAft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spcAft>
                <a:spcPts val="876"/>
              </a:spcAft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spcAft>
                <a:spcPts val="876"/>
              </a:spcAft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spcAft>
                <a:spcPts val="876"/>
              </a:spcAft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r>
              <a:rPr b="0" lang="en-GB" sz="2800" spc="-1" strike="noStrike">
                <a:solidFill>
                  <a:srgbClr val="ffd624"/>
                </a:solidFill>
                <a:latin typeface="Verdana"/>
                <a:ea typeface="Microsoft YaHei"/>
              </a:rPr>
              <a:t>Interconnectivity of computeri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spcAft>
                <a:spcPts val="876"/>
              </a:spcAft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r>
              <a:rPr b="0" lang="en-GB" sz="2800" spc="-1" strike="noStrike">
                <a:solidFill>
                  <a:srgbClr val="ffd624"/>
                </a:solidFill>
                <a:latin typeface="Verdana"/>
                <a:ea typeface="Microsoft YaHei"/>
              </a:rPr>
              <a:t>customs systems</a:t>
            </a:r>
            <a:r>
              <a:rPr b="0" lang="en-GB" sz="2400" spc="-1" strike="noStrike">
                <a:solidFill>
                  <a:srgbClr val="ffd624"/>
                </a:solidFill>
                <a:latin typeface="Verdana"/>
                <a:ea typeface="Microsoft YaHe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br>
              <a:rPr sz="2000"/>
            </a:br>
            <a:r>
              <a:rPr b="0" lang="en-GB" sz="1400" spc="-1" strike="noStrike">
                <a:solidFill>
                  <a:srgbClr val="ffd624"/>
                </a:solidFill>
                <a:latin typeface="Verdana"/>
                <a:ea typeface="Microsoft YaHei"/>
              </a:rPr>
              <a:t>Brussels</a:t>
            </a:r>
            <a:br>
              <a:rPr sz="1400"/>
            </a:br>
            <a:r>
              <a:rPr b="0" lang="en-GB" sz="1400" spc="-1" strike="noStrike">
                <a:solidFill>
                  <a:srgbClr val="ffd624"/>
                </a:solidFill>
                <a:latin typeface="Verdana"/>
                <a:ea typeface="Microsoft YaHei"/>
              </a:rPr>
              <a:t> 12 December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r>
              <a:rPr b="0" lang="de-DE" sz="1400" spc="-1" strike="noStrike">
                <a:solidFill>
                  <a:srgbClr val="ffd624"/>
                </a:solidFill>
                <a:latin typeface="Verdana"/>
                <a:ea typeface="Microsoft YaHei"/>
              </a:rPr>
              <a:t>Juan José García Sánch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JOINT CUSTOMS AND TRADE FACILITATION FORU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A CUSTOMS STRATEGY FOR THE CONTINENTAL FREE TRADE AREA (CF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Organised by the African Union and European Union Commissions</a:t>
            </a: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with the African Regional Economic Commun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spcAft>
                <a:spcPts val="876"/>
              </a:spcAft>
              <a:tabLst>
                <a:tab algn="l" pos="32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</a:tabLst>
            </a:pPr>
            <a:r>
              <a:rPr b="0" lang="fr-BE" sz="1400" spc="-1" strike="noStrike">
                <a:solidFill>
                  <a:srgbClr val="ffd624"/>
                </a:solidFill>
                <a:latin typeface="Verdana"/>
                <a:ea typeface="Microsoft YaHei"/>
              </a:rPr>
              <a:t>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684360" y="3978360"/>
            <a:ext cx="80640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2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324000" y="6381720"/>
            <a:ext cx="85690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>
              <a:lnSpc>
                <a:spcPct val="100000"/>
              </a:lnSpc>
              <a:spcBef>
                <a:spcPts val="624"/>
              </a:spcBef>
              <a:tabLst>
                <a:tab algn="l" pos="32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</a:tabLst>
            </a:pPr>
            <a:r>
              <a:rPr b="0" lang="en-GB" sz="1000" spc="-1" strike="noStrike">
                <a:solidFill>
                  <a:srgbClr val="ffd624"/>
                </a:solidFill>
                <a:latin typeface="Verdana"/>
                <a:ea typeface="ヒラギノ角ゴ Pro W3"/>
              </a:rPr>
              <a:t>	</a:t>
            </a:r>
            <a:r>
              <a:rPr b="0" lang="en-GB" sz="1000" spc="-1" strike="noStrike">
                <a:solidFill>
                  <a:srgbClr val="ffd624"/>
                </a:solidFill>
                <a:latin typeface="Verdana"/>
                <a:ea typeface="ヒラギノ角ゴ Pro W3"/>
              </a:rPr>
              <a:t>	</a:t>
            </a:r>
            <a:r>
              <a:rPr b="0" lang="en-GB" sz="1000" spc="-1" strike="noStrike">
                <a:solidFill>
                  <a:srgbClr val="ffd624"/>
                </a:solidFill>
                <a:latin typeface="Verdana"/>
                <a:ea typeface="ヒラギノ角ゴ Pro W3"/>
              </a:rPr>
              <a:t>	</a:t>
            </a:r>
            <a:r>
              <a:rPr b="0" lang="en-GB" sz="1000" spc="-1" strike="noStrike">
                <a:solidFill>
                  <a:srgbClr val="ffd624"/>
                </a:solidFill>
                <a:latin typeface="Verdana"/>
                <a:ea typeface="ヒラギノ角ゴ Pro W3"/>
              </a:rPr>
              <a:t>	</a:t>
            </a:r>
            <a:r>
              <a:rPr b="0" lang="en-GB" sz="1000" spc="-1" strike="noStrike">
                <a:solidFill>
                  <a:srgbClr val="ffd624"/>
                </a:solidFill>
                <a:latin typeface="Verdana"/>
                <a:ea typeface="ヒラギノ角ゴ Pro W3"/>
              </a:rPr>
              <a:t>	</a:t>
            </a:r>
            <a:r>
              <a:rPr b="0" lang="en-GB" sz="1000" spc="-1" strike="noStrike">
                <a:solidFill>
                  <a:srgbClr val="ffd624"/>
                </a:solidFill>
                <a:latin typeface="Verdana"/>
                <a:ea typeface="ヒラギノ角ゴ Pro W3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Num" idx="10"/>
          </p:nvPr>
        </p:nvSpPr>
        <p:spPr>
          <a:xfrm>
            <a:off x="655308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960"/>
                <a:tab algn="l" pos="1447920"/>
              </a:tabLst>
              <a:defRPr b="1" lang="en-US" sz="1400" spc="-1" strike="noStrike">
                <a:solidFill>
                  <a:srgbClr val="ffffff"/>
                </a:solidFill>
                <a:latin typeface="Verdana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960"/>
                <a:tab algn="l" pos="1447920"/>
              </a:tabLst>
            </a:pPr>
            <a:fld id="{2F852086-B66A-407C-A42B-E0E9632FD622}" type="slidenum">
              <a:rPr b="1" lang="en-US" sz="14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6804000" y="623736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ffffcc"/>
              </a:solidFill>
              <a:latin typeface="Arial"/>
              <a:ea typeface="ヒラギノ角ゴ Pro W3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395280" y="1197000"/>
            <a:ext cx="82292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358920" indent="-35712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Arial"/>
                <a:ea typeface="Microsoft YaHei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11280" y="1989000"/>
            <a:ext cx="777204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equirements and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ommon mistak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8229600" y="6400800"/>
            <a:ext cx="400176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Num" idx="11"/>
          </p:nvPr>
        </p:nvSpPr>
        <p:spPr>
          <a:xfrm>
            <a:off x="655308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0C3C-99F7-403E-A3E7-F5FECF56C4C2}" type="slidenum"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/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ffffcc"/>
              </a:solidFill>
              <a:latin typeface="Arial"/>
              <a:ea typeface="ヒラギノ角ゴ Pro W3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358920" indent="-35712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Microsoft YaHei"/>
              </a:rPr>
              <a:t>(a) Intro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457200" y="2349360"/>
            <a:ext cx="82292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hat is interconnectivity? Exchange of information between IT sys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Between customs administ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Between state agenc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With economic opera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FTA: exchange of information between customs administ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Undervalu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Classification/orig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xchange of information is very expensiv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8229600" y="6400800"/>
            <a:ext cx="400176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A9E2-CB63-4B2D-8CE9-E7EFBF33B736}" type="slidenum"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/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ffffcc"/>
              </a:solidFill>
              <a:latin typeface="Arial"/>
              <a:ea typeface="ヒラギノ角ゴ Pro W3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358920" indent="-35712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Microsoft YaHei"/>
              </a:rPr>
              <a:t>(b) Requirements and Ris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89520" y="2421000"/>
            <a:ext cx="82292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  <a:ea typeface="ヒラギノ角ゴ Pro W3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Administrative capa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17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isk: Useless IT investments, obsolesc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  <a:ea typeface="ヒラギノ角ゴ Pro W3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Compatibl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17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isk: wrong conclusions, miss risky consign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rdt- Legal basis: Mo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999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isk: useful information is not exchanged, obsolescence of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4th- Compatible IT systems AND interface.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ヒラギノ角ゴ Pro W3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999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isk: useless purchases of IT systems, high maintenance co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8229600" y="6400800"/>
            <a:ext cx="400176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Num" idx="13"/>
          </p:nvPr>
        </p:nvSpPr>
        <p:spPr>
          <a:xfrm>
            <a:off x="655308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DDA7-F7EA-49BC-847E-626C2167105F}" type="slidenum"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/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ffffcc"/>
              </a:solidFill>
              <a:latin typeface="Arial"/>
              <a:ea typeface="ヒラギノ角ゴ Pro W3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358920" indent="-35712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Microsoft YaHei"/>
              </a:rPr>
              <a:t>(c) Plan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2349360"/>
            <a:ext cx="82292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hase 1-Administrative capacity and compatible information: minimum of 2 yea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hase 2- Signature of MoU: minimum of 1 ye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hase 3- Technical: several years depending of info exchanged and compatibility of IT syste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onclusion: 2017 difficult to achiev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8229600" y="6400800"/>
            <a:ext cx="400176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Num" idx="14"/>
          </p:nvPr>
        </p:nvSpPr>
        <p:spPr>
          <a:xfrm>
            <a:off x="655308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26EC-1088-4810-BE8C-65D453BA2AA2}" type="slidenum"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/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ffffcc"/>
              </a:solidFill>
              <a:latin typeface="Arial"/>
              <a:ea typeface="ヒラギノ角ゴ Pro W3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358920" indent="-35712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Microsoft YaHei"/>
              </a:rPr>
              <a:t>(d) Common mistak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457200" y="2349360"/>
            <a:ext cx="82292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rong assessment of required business processe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ack of comprehensive specifications of the IT system that will be used for exchange of informatio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rong estimation of development and maintenance costs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ack of coordination between partner administration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ack of expertise inside customs administrations for maintenanc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8229600" y="6400800"/>
            <a:ext cx="400176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Num" idx="15"/>
          </p:nvPr>
        </p:nvSpPr>
        <p:spPr>
          <a:xfrm>
            <a:off x="655308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A055-E1B8-412C-ABD4-67CE11A8213B}" type="slidenum"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/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ffffcc"/>
              </a:solidFill>
              <a:latin typeface="Arial"/>
              <a:ea typeface="ヒラギノ角ゴ Pro W3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358920" indent="-35712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  <a:ea typeface="Microsoft YaHei"/>
              </a:rPr>
              <a:t>(e) Solu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457200" y="2349360"/>
            <a:ext cx="82292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etailed evaluation and planning BEFORE expenditu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ealistic goa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etailed terms of referenc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eliable companies/partne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nsure that you have project management experts and IT exper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entralised project management; national coordinato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8229600" y="6400800"/>
            <a:ext cx="400176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Num" idx="16"/>
          </p:nvPr>
        </p:nvSpPr>
        <p:spPr>
          <a:xfrm>
            <a:off x="655308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5697-4FCA-4313-BE25-1F7F67C8D560}" type="slidenum"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/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392040" y="1357200"/>
            <a:ext cx="82292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358920" indent="-357120"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f5494"/>
              </a:solidFill>
              <a:latin typeface="Times New Roman"/>
              <a:ea typeface="Microsoft YaHei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457200" y="1484280"/>
            <a:ext cx="8229240" cy="45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en-GB" sz="2400" spc="-1" strike="noStrike" u="sng">
                <a:solidFill>
                  <a:srgbClr val="0f5494"/>
                </a:solidFill>
                <a:uFillTx/>
                <a:latin typeface="Times New Roman"/>
                <a:ea typeface="Microsoft YaHei"/>
              </a:rPr>
              <a:t>Further information on TAXUD websit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Times New Roman"/>
                <a:ea typeface="Microsoft YaHei"/>
              </a:rPr>
              <a:t>EU IT sys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en-GB" sz="1000" spc="-1" strike="noStrike" u="sng">
                <a:solidFill>
                  <a:srgbClr val="0033cc"/>
                </a:solidFill>
                <a:uFillTx/>
                <a:latin typeface="Arial"/>
                <a:ea typeface="Microsoft YaHei"/>
                <a:hlinkClick r:id="rId1"/>
              </a:rPr>
              <a:t>http://</a:t>
            </a:r>
            <a:r>
              <a:rPr b="1" i="1" lang="en-GB" sz="1000" spc="-1" strike="noStrike" u="sng">
                <a:solidFill>
                  <a:srgbClr val="0033cc"/>
                </a:solidFill>
                <a:uFillTx/>
                <a:latin typeface="Arial"/>
                <a:ea typeface="Microsoft YaHei"/>
                <a:hlinkClick r:id="rId2"/>
              </a:rPr>
              <a:t>ec.europa.eu/taxation_customs/customs/policy_issues/electronic_customs_initiative/index_en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en-GB" sz="1000" spc="-1" strike="noStrike">
                <a:solidFill>
                  <a:srgbClr val="ffffcc"/>
                </a:solidFill>
                <a:latin typeface="Arial"/>
                <a:ea typeface="ヒラギノ角ゴ Pro W3"/>
              </a:rPr>
              <a:t>  </a:t>
            </a:r>
            <a:r>
              <a:rPr b="1" i="1" lang="en-GB" sz="2400" spc="-1" strike="noStrike">
                <a:solidFill>
                  <a:srgbClr val="0f5494"/>
                </a:solidFill>
                <a:latin typeface="Times New Roman"/>
                <a:ea typeface="Microsoft YaHei"/>
              </a:rPr>
              <a:t>Trade Facili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en-GB" sz="1000" spc="-1" strike="noStrike" u="sng">
                <a:solidFill>
                  <a:srgbClr val="0033cc"/>
                </a:solidFill>
                <a:uFillTx/>
                <a:latin typeface="Arial"/>
                <a:ea typeface="ヒラギノ角ゴ Pro W3"/>
                <a:hlinkClick r:id="rId3"/>
              </a:rPr>
              <a:t>http://ec.europa.eu/taxation_customs/customs/policy_issues/trade_falicitation/index_en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Times New Roman"/>
                <a:ea typeface="Microsoft YaHei"/>
              </a:rPr>
              <a:t>or by e-ma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en-GB" sz="16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juan.garcia-sanchez@ec.europa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Times New Roman"/>
                <a:ea typeface="Microsoft YaHei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000" spc="-1" strike="noStrike">
              <a:solidFill>
                <a:srgbClr val="ffffcc"/>
              </a:solidFill>
              <a:latin typeface="Arial"/>
              <a:ea typeface="ヒラギノ角ゴ Pro W3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8229600" y="6400800"/>
            <a:ext cx="400176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  <a:ea typeface="ヒラギノ角ゴ Pro W3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Num" idx="17"/>
          </p:nvPr>
        </p:nvSpPr>
        <p:spPr>
          <a:xfrm>
            <a:off x="6553080" y="6245280"/>
            <a:ext cx="213156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E543-111A-4995-AC36-EDE117973946}" type="slidenum"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/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Office Theme">
  <a:themeElements>
    <a:clrScheme name="Office Them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FTA - Common transit as an instrument of trade facilitation - African Union -Continental Free trade aerea">
  <a:themeElements>
    <a:clrScheme name="Office Theme 3">
      <a:dk1>
        <a:srgbClr val="000000"/>
      </a:dk1>
      <a:lt1>
        <a:srgbClr val="ffffcc"/>
      </a:lt1>
      <a:dk2>
        <a:srgbClr val="808000"/>
      </a:dk2>
      <a:lt2>
        <a:srgbClr val="666633"/>
      </a:lt2>
      <a:accent1>
        <a:srgbClr val="339933"/>
      </a:accent1>
      <a:accent2>
        <a:srgbClr val="800000"/>
      </a:accent2>
      <a:accent3>
        <a:srgbClr val="ffffe2"/>
      </a:accent3>
      <a:accent4>
        <a:srgbClr val="000000"/>
      </a:accent4>
      <a:accent5>
        <a:srgbClr val="adcaad"/>
      </a:accent5>
      <a:accent6>
        <a:srgbClr val="730000"/>
      </a:accent6>
      <a:hlink>
        <a:srgbClr val="0033cc"/>
      </a:hlink>
      <a:folHlink>
        <a:srgbClr val="ffcc6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FTA - Common transit as an instrument of trade facilitation - African Union -Continental Free trade aerea</Template>
  <TotalTime>71</TotalTime>
  <Application>LibreOffice/7.4.7.2$Linux_X86_64 LibreOffice_project/40$Build-2</Application>
  <AppVersion>15.0000</AppVersion>
  <Words>307</Words>
  <Paragraphs>104</Paragraphs>
  <Company>European Commissio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09:47:48Z</dcterms:created>
  <dc:creator>GARCIA SANCHEZ Juan Jose (TAXUD)</dc:creator>
  <dc:description/>
  <dc:language>en-US</dc:language>
  <cp:lastModifiedBy>GARCIA SANCHEZ Juan Jose (TAXUD)</cp:lastModifiedBy>
  <cp:lastPrinted>2012-11-23T17:23:40Z</cp:lastPrinted>
  <dcterms:modified xsi:type="dcterms:W3CDTF">2012-12-12T15:30:14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8</vt:r8>
  </property>
  <property fmtid="{D5CDD505-2E9C-101B-9397-08002B2CF9AE}" pid="3" name="PresentationFormat">
    <vt:lpwstr>On-screen Show (4:3)</vt:lpwstr>
  </property>
  <property fmtid="{D5CDD505-2E9C-101B-9397-08002B2CF9AE}" pid="4" name="Slides">
    <vt:r8>8</vt:r8>
  </property>
</Properties>
</file>