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7675" cy="9926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GB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AD996A-920C-447D-95F3-A9FCC393F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Num" idx="18"/>
          </p:nvPr>
        </p:nvSpPr>
        <p:spPr>
          <a:xfrm>
            <a:off x="3851280" y="9431280"/>
            <a:ext cx="2944440" cy="493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</a:pPr>
            <a:fld id="{3996B480-85E5-442E-A25A-5021C6730183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3680" cy="37224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9960" cy="4468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Num" idx="19"/>
          </p:nvPr>
        </p:nvSpPr>
        <p:spPr>
          <a:xfrm>
            <a:off x="3851280" y="9431280"/>
            <a:ext cx="2944440" cy="493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</a:pPr>
            <a:fld id="{B8E5555F-CF16-4F3B-A74F-EEF9986B8674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3680" cy="37224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9960" cy="4468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851280" y="9431280"/>
            <a:ext cx="29458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DD58-ED5C-4323-AEED-EB9F24BAC328}" type="slidenum"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4440" cy="493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</a:pPr>
            <a:fld id="{37EB212C-CE53-46C0-BB8C-C11D4FBB119F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3680" cy="37224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9960" cy="4468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Num" idx="21"/>
          </p:nvPr>
        </p:nvSpPr>
        <p:spPr>
          <a:xfrm>
            <a:off x="3851280" y="9431280"/>
            <a:ext cx="2944440" cy="493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</a:pPr>
            <a:fld id="{A274D36F-A9DF-4D86-8FA7-9DFD706FD092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3680" cy="37224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9960" cy="4468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Num" idx="22"/>
          </p:nvPr>
        </p:nvSpPr>
        <p:spPr>
          <a:xfrm>
            <a:off x="3851280" y="9431280"/>
            <a:ext cx="2944440" cy="493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</a:pPr>
            <a:fld id="{1253B5AA-C229-4CC6-B069-8FBF5B0BECE1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3680" cy="37224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9960" cy="4468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Num" idx="23"/>
          </p:nvPr>
        </p:nvSpPr>
        <p:spPr>
          <a:xfrm>
            <a:off x="3851280" y="9431280"/>
            <a:ext cx="2944440" cy="493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</a:pPr>
            <a:fld id="{B91644F7-AA33-4F13-864B-5E749AC263B0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3680" cy="37224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9960" cy="4468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Num" idx="24"/>
          </p:nvPr>
        </p:nvSpPr>
        <p:spPr>
          <a:xfrm>
            <a:off x="3851280" y="9431280"/>
            <a:ext cx="2944440" cy="493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</a:pPr>
            <a:fld id="{4B359403-C611-4102-A0F1-8FAB9CBA401D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3680" cy="37224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9960" cy="4468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Num" idx="25"/>
          </p:nvPr>
        </p:nvSpPr>
        <p:spPr>
          <a:xfrm>
            <a:off x="3851280" y="9431280"/>
            <a:ext cx="2944440" cy="493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</a:pPr>
            <a:fld id="{DF5EF387-D53F-4E4F-8D3A-750E70261FDA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3680" cy="37224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9960" cy="4468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6E10-EFCD-4E98-BE94-92B2F18E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5EBD-8DEA-4649-B20E-FA652139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086F-719A-4AC7-A9C1-4E6E8F33C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1CE1-81B9-4F83-9E6D-FEF14E4DF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5DE6-AE18-4A03-8C6B-C02F130B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7013-14B7-4BC5-ABD3-F6D80776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670E-ED07-412F-8866-9F3D5316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11D0-2F24-448A-821C-AB7B4825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6496-9BD4-498C-834B-5542653A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02B1-2369-4977-8130-89168567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76C4-1A2D-491E-B8A2-223376D7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3A71-DF5B-4463-AB04-6EB539ED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8E91-BA7E-472C-8B37-B9AAD741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ABC4-5A0F-4371-8725-9AAA4BC1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D78E-6850-436D-9B59-DFA6F875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7342-F6C9-466F-AAC7-1356DC440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5EC3-3CE9-41CD-AA33-3CF01040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1EC6-CEA2-4092-B64F-8564A679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F489-1676-4B0D-A205-50CD947A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0190-E00D-4157-85B6-093F8138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E4E3-C1FC-4941-80B3-E0096219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0D1D-FC3C-45B0-891E-4751F31F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0EAF-5E8D-4AD0-A250-EC9DB0AD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0794-9757-4E54-9545-0753C0E2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981000"/>
            <a:ext cx="9180000" cy="587664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algn="ctr" dir="5400000" dist="2304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ff"/>
              </a:solidFill>
              <a:latin typeface="Arial"/>
              <a:ea typeface="ヒラギノ角ゴ Pro W3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3849840" y="258840"/>
            <a:ext cx="1439640" cy="100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3680" cy="947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</a:tabLst>
              <a:defRPr b="1" lang="en-US" sz="1400" spc="-1" strike="noStrike">
                <a:solidFill>
                  <a:srgbClr val="ffffff"/>
                </a:solidFill>
                <a:latin typeface="Verdana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</a:tabLst>
            </a:pPr>
            <a:fld id="{FFCF7EEE-2F9B-48EB-A111-0FD286B144B9}" type="slidenum">
              <a:rPr b="1" lang="en-US" sz="1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/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GB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GB" sz="1400" spc="-1" strike="noStrike">
              <a:solidFill>
                <a:srgbClr val="0f5494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0"/>
            <a:ext cx="9143640" cy="95688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cc"/>
              </a:solidFill>
              <a:latin typeface="Arial"/>
              <a:ea typeface="ヒラギノ角ゴ Pro W3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3849840" y="258840"/>
            <a:ext cx="1439640" cy="10015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3680" cy="549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BDD7-F0E5-4F33-BBA4-34E34A991468}" type="slidenum"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/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GB" sz="1400" spc="-1" strike="noStrike">
              <a:solidFill>
                <a:srgbClr val="0f5494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c.europa.eu/taxation_customs/customs/policy_issues/electronic_customs_initiative/index_en.htm" TargetMode="External"/><Relationship Id="rId2" Type="http://schemas.openxmlformats.org/officeDocument/2006/relationships/hyperlink" Target="http://ec.europa.eu/taxation_customs/customs/policy_issues/electronic_customs_initiative/index_en.htm" TargetMode="External"/><Relationship Id="rId3" Type="http://schemas.openxmlformats.org/officeDocument/2006/relationships/hyperlink" Target="http://ec.europa.eu/taxation_customs/customs/policy_issues/trade_falicitation/index_en.htm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755640" y="1557360"/>
            <a:ext cx="828000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240" algn="ctr">
              <a:lnSpc>
                <a:spcPct val="100000"/>
              </a:lnSpc>
              <a:spcAft>
                <a:spcPts val="876"/>
              </a:spcAft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spcAft>
                <a:spcPts val="876"/>
              </a:spcAft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spcAft>
                <a:spcPts val="876"/>
              </a:spcAft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spcAft>
                <a:spcPts val="876"/>
              </a:spcAft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r>
              <a:rPr b="0" lang="en-GB" sz="2800" spc="-1" strike="noStrike">
                <a:solidFill>
                  <a:srgbClr val="ffd624"/>
                </a:solidFill>
                <a:latin typeface="Verdana"/>
                <a:ea typeface="Microsoft YaHei"/>
              </a:rPr>
              <a:t>Interconnectivity of computeri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spcAft>
                <a:spcPts val="876"/>
              </a:spcAft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r>
              <a:rPr b="0" lang="en-GB" sz="2800" spc="-1" strike="noStrike">
                <a:solidFill>
                  <a:srgbClr val="ffd624"/>
                </a:solidFill>
                <a:latin typeface="Verdana"/>
                <a:ea typeface="Microsoft YaHei"/>
              </a:rPr>
              <a:t>customs systems</a:t>
            </a:r>
            <a:r>
              <a:rPr b="0" lang="en-GB" sz="2400" spc="-1" strike="noStrike">
                <a:solidFill>
                  <a:srgbClr val="ffd624"/>
                </a:solidFill>
                <a:latin typeface="Verdana"/>
                <a:ea typeface="Microsoft YaHe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br>
              <a:rPr sz="2000"/>
            </a:br>
            <a:r>
              <a:rPr b="0" lang="en-GB" sz="1400" spc="-1" strike="noStrike">
                <a:solidFill>
                  <a:srgbClr val="ffd624"/>
                </a:solidFill>
                <a:latin typeface="Verdana"/>
                <a:ea typeface="Microsoft YaHei"/>
              </a:rPr>
              <a:t>Brussels</a:t>
            </a:r>
            <a:br>
              <a:rPr sz="1400"/>
            </a:br>
            <a:r>
              <a:rPr b="0" lang="en-GB" sz="1400" spc="-1" strike="noStrike">
                <a:solidFill>
                  <a:srgbClr val="ffd624"/>
                </a:solidFill>
                <a:latin typeface="Verdana"/>
                <a:ea typeface="Microsoft YaHei"/>
              </a:rPr>
              <a:t> 12 December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r>
              <a:rPr b="0" lang="de-DE" sz="1400" spc="-1" strike="noStrike">
                <a:solidFill>
                  <a:srgbClr val="ffd624"/>
                </a:solidFill>
                <a:latin typeface="Verdana"/>
                <a:ea typeface="Microsoft YaHei"/>
              </a:rPr>
              <a:t>Juan José García Sánch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JOINT CUSTOMS AND TRADE FACILITATION FORU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A CUSTOMS STRATEGY FOR THE CONTINENTAL FREE TRADE AREA (CF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Organised by the African Union and European Union Commissions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with the African Regional Economic Comm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spcAft>
                <a:spcPts val="876"/>
              </a:spcAft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r>
              <a:rPr b="0" lang="fr-BE" sz="1400" spc="-1" strike="noStrike">
                <a:solidFill>
                  <a:srgbClr val="ffd624"/>
                </a:solidFill>
                <a:latin typeface="Verdana"/>
                <a:ea typeface="Microsoft YaHei"/>
              </a:rPr>
              <a:t>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684360" y="3978360"/>
            <a:ext cx="80640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324000" y="6381720"/>
            <a:ext cx="85690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>
              <a:lnSpc>
                <a:spcPct val="100000"/>
              </a:lnSpc>
              <a:spcBef>
                <a:spcPts val="624"/>
              </a:spcBef>
              <a:tabLst>
                <a:tab algn="l" pos="3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</a:tabLst>
            </a:pPr>
            <a:r>
              <a:rPr b="0" lang="en-GB" sz="1000" spc="-1" strike="noStrike">
                <a:solidFill>
                  <a:srgbClr val="ffd624"/>
                </a:solidFill>
                <a:latin typeface="Verdana"/>
                <a:ea typeface="ヒラギノ角ゴ Pro W3"/>
              </a:rPr>
              <a:t>	</a:t>
            </a:r>
            <a:r>
              <a:rPr b="0" lang="en-GB" sz="1000" spc="-1" strike="noStrike">
                <a:solidFill>
                  <a:srgbClr val="ffd624"/>
                </a:solidFill>
                <a:latin typeface="Verdana"/>
                <a:ea typeface="ヒラギノ角ゴ Pro W3"/>
              </a:rPr>
              <a:t>	</a:t>
            </a:r>
            <a:r>
              <a:rPr b="0" lang="en-GB" sz="1000" spc="-1" strike="noStrike">
                <a:solidFill>
                  <a:srgbClr val="ffd624"/>
                </a:solidFill>
                <a:latin typeface="Verdana"/>
                <a:ea typeface="ヒラギノ角ゴ Pro W3"/>
              </a:rPr>
              <a:t>	</a:t>
            </a:r>
            <a:r>
              <a:rPr b="0" lang="en-GB" sz="1000" spc="-1" strike="noStrike">
                <a:solidFill>
                  <a:srgbClr val="ffd624"/>
                </a:solidFill>
                <a:latin typeface="Verdana"/>
                <a:ea typeface="ヒラギノ角ゴ Pro W3"/>
              </a:rPr>
              <a:t>	</a:t>
            </a:r>
            <a:r>
              <a:rPr b="0" lang="en-GB" sz="1000" spc="-1" strike="noStrike">
                <a:solidFill>
                  <a:srgbClr val="ffd624"/>
                </a:solidFill>
                <a:latin typeface="Verdana"/>
                <a:ea typeface="ヒラギノ角ゴ Pro W3"/>
              </a:rPr>
              <a:t>	</a:t>
            </a:r>
            <a:r>
              <a:rPr b="0" lang="en-GB" sz="1000" spc="-1" strike="noStrike">
                <a:solidFill>
                  <a:srgbClr val="ffd624"/>
                </a:solidFill>
                <a:latin typeface="Verdana"/>
                <a:ea typeface="ヒラギノ角ゴ Pro W3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Num" idx="10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</a:tabLst>
              <a:defRPr b="1" lang="en-US" sz="1400" spc="-1" strike="noStrike">
                <a:solidFill>
                  <a:srgbClr val="ffffff"/>
                </a:solidFill>
                <a:latin typeface="Verdana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</a:tabLst>
            </a:pPr>
            <a:fld id="{B4793FAA-112D-480A-81A2-4865C29F4987}" type="slidenum">
              <a:rPr b="1" lang="en-US" sz="1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6804000" y="623736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cc"/>
              </a:solidFill>
              <a:latin typeface="Arial"/>
              <a:ea typeface="ヒラギノ角ゴ Pro W3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395280" y="1197000"/>
            <a:ext cx="82292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58920" indent="-35712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Arial"/>
                <a:ea typeface="Microsoft YaHei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11280" y="1989000"/>
            <a:ext cx="777204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equirements and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ommon mistak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8229600" y="6400800"/>
            <a:ext cx="400176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Num" idx="11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0FC2-F66C-4461-A0CF-86408E122A3B}" type="slidenum"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cc"/>
              </a:solidFill>
              <a:latin typeface="Arial"/>
              <a:ea typeface="ヒラギノ角ゴ Pro W3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58920" indent="-35712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Microsoft YaHei"/>
              </a:rPr>
              <a:t>(a) Intro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57200" y="2349360"/>
            <a:ext cx="82292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hat is interconnectivity? Exchange of information between IT 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Between customs administ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Between state agenc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With economic opera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FTA: exchange of information between customs administ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Undervalu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Classification/orig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xchange of information is very expensiv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8229600" y="6400800"/>
            <a:ext cx="400176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EA28-94D3-4854-A65B-B4FD066AAE15}" type="slidenum"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cc"/>
              </a:solidFill>
              <a:latin typeface="Arial"/>
              <a:ea typeface="ヒラギノ角ゴ Pro W3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58920" indent="-35712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Microsoft YaHei"/>
              </a:rPr>
              <a:t>(b) Requirements and Ris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89520" y="2421000"/>
            <a:ext cx="82292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  <a:ea typeface="ヒラギノ角ゴ Pro W3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Administrative capa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17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isk: Useless IT investments, obsolesc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  <a:ea typeface="ヒラギノ角ゴ Pro W3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Compatibl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17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isk: wrong conclusions, miss risky consig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rdt- Legal basis: Mo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999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isk: useful information is not exchanged, obsolescence of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4th- Compatible IT systems AND interface.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ヒラギノ角ゴ Pro W3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999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isk: useless purchases of IT systems, high maintenance co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8229600" y="6400800"/>
            <a:ext cx="400176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Num" idx="13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FDC9-0295-4741-A078-55FC78B65D67}" type="slidenum"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cc"/>
              </a:solidFill>
              <a:latin typeface="Arial"/>
              <a:ea typeface="ヒラギノ角ゴ Pro W3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58920" indent="-35712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Microsoft YaHei"/>
              </a:rPr>
              <a:t>(c) Pl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2349360"/>
            <a:ext cx="82292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hase 1-Administrative capacity and compatible information: minimum of 2 yea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hase 2- Signature of MoU: minimum of 1 ye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hase 3- Technical: several years depending of info exchanged and compatibility of IT syste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onclusion: 2017 difficult to achie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8229600" y="6400800"/>
            <a:ext cx="400176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Num" idx="14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1814-7BAD-4328-9D0B-1E932FD516F6}" type="slidenum"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cc"/>
              </a:solidFill>
              <a:latin typeface="Arial"/>
              <a:ea typeface="ヒラギノ角ゴ Pro W3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58920" indent="-35712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Microsoft YaHei"/>
              </a:rPr>
              <a:t>(d) Common mistak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457200" y="2349360"/>
            <a:ext cx="82292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rong assessment of required business process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ack of comprehensive specifications of the IT system that will be used for exchange of informatio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rong estimation of development and maintenance costs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ack of coordination between partner administration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ack of expertise inside customs administrations for maintenanc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8229600" y="6400800"/>
            <a:ext cx="400176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0F32-E3F4-41DB-97FF-A0FA4FF8A740}" type="slidenum"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cc"/>
              </a:solidFill>
              <a:latin typeface="Arial"/>
              <a:ea typeface="ヒラギノ角ゴ Pro W3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58920" indent="-35712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Microsoft YaHei"/>
              </a:rPr>
              <a:t>(e) Sol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457200" y="2349360"/>
            <a:ext cx="82292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etailed evaluation and planning BEFORE expenditu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ealistic goa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etailed terms of referen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eliable companies/partne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sure that you have project management experts and IT exper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entralised project management; national coordinato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8229600" y="6400800"/>
            <a:ext cx="400176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Num" idx="16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AC4A-BE7A-4CCE-B321-FA486F3487BC}" type="slidenum"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392040" y="1357200"/>
            <a:ext cx="82292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58920" indent="-357120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f5494"/>
              </a:solidFill>
              <a:latin typeface="Times New Roman"/>
              <a:ea typeface="Microsoft YaHei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457200" y="1484280"/>
            <a:ext cx="8229240" cy="45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en-GB" sz="2400" spc="-1" strike="noStrike" u="sng">
                <a:solidFill>
                  <a:srgbClr val="0f5494"/>
                </a:solidFill>
                <a:uFillTx/>
                <a:latin typeface="Times New Roman"/>
                <a:ea typeface="Microsoft YaHei"/>
              </a:rPr>
              <a:t>Further information on TAXUD websit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Times New Roman"/>
                <a:ea typeface="Microsoft YaHei"/>
              </a:rPr>
              <a:t>EU IT sys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en-GB" sz="1000" spc="-1" strike="noStrike" u="sng">
                <a:solidFill>
                  <a:srgbClr val="0033cc"/>
                </a:solidFill>
                <a:uFillTx/>
                <a:latin typeface="Arial"/>
                <a:ea typeface="Microsoft YaHei"/>
                <a:hlinkClick r:id="rId1"/>
              </a:rPr>
              <a:t>http://</a:t>
            </a:r>
            <a:r>
              <a:rPr b="1" i="1" lang="en-GB" sz="1000" spc="-1" strike="noStrike" u="sng">
                <a:solidFill>
                  <a:srgbClr val="0033cc"/>
                </a:solidFill>
                <a:uFillTx/>
                <a:latin typeface="Arial"/>
                <a:ea typeface="Microsoft YaHei"/>
                <a:hlinkClick r:id="rId2"/>
              </a:rPr>
              <a:t>ec.europa.eu/taxation_customs/customs/policy_issues/electronic_customs_initiative/index_en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GB" sz="1000" spc="-1" strike="noStrike">
                <a:solidFill>
                  <a:srgbClr val="ffffcc"/>
                </a:solidFill>
                <a:latin typeface="Arial"/>
                <a:ea typeface="ヒラギノ角ゴ Pro W3"/>
              </a:rPr>
              <a:t>  </a:t>
            </a:r>
            <a:r>
              <a:rPr b="1" i="1" lang="en-GB" sz="2400" spc="-1" strike="noStrike">
                <a:solidFill>
                  <a:srgbClr val="0f5494"/>
                </a:solidFill>
                <a:latin typeface="Times New Roman"/>
                <a:ea typeface="Microsoft YaHei"/>
              </a:rPr>
              <a:t>Trade Facili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en-GB" sz="1000" spc="-1" strike="noStrike" u="sng">
                <a:solidFill>
                  <a:srgbClr val="0033cc"/>
                </a:solidFill>
                <a:uFillTx/>
                <a:latin typeface="Arial"/>
                <a:ea typeface="ヒラギノ角ゴ Pro W3"/>
                <a:hlinkClick r:id="rId3"/>
              </a:rPr>
              <a:t>http://ec.europa.eu/taxation_customs/customs/policy_issues/trade_falicitation/index_en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Times New Roman"/>
                <a:ea typeface="Microsoft YaHei"/>
              </a:rPr>
              <a:t>or by e-ma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en-GB" sz="16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juan.garcia-sanchez@ec.europa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Times New Roman"/>
                <a:ea typeface="Microsoft YaHei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cc"/>
              </a:solidFill>
              <a:latin typeface="Arial"/>
              <a:ea typeface="ヒラギノ角ゴ Pro W3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8229600" y="6400800"/>
            <a:ext cx="400176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  <a:ea typeface="ヒラギノ角ゴ Pro W3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Num" idx="17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5E03-7B2A-461A-AA09-DC5B176EB889}" type="slidenum"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Office Theme">
  <a:themeElements>
    <a:clrScheme name="Office Them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FTA - Common transit as an instrument of trade facilitation - African Union -Continental Free trade aerea">
  <a:themeElements>
    <a:clrScheme name="Office Theme 3">
      <a:dk1>
        <a:srgbClr val="000000"/>
      </a:dk1>
      <a:lt1>
        <a:srgbClr val="ffffcc"/>
      </a:lt1>
      <a:dk2>
        <a:srgbClr val="808000"/>
      </a:dk2>
      <a:lt2>
        <a:srgbClr val="666633"/>
      </a:lt2>
      <a:accent1>
        <a:srgbClr val="339933"/>
      </a:accent1>
      <a:accent2>
        <a:srgbClr val="800000"/>
      </a:accent2>
      <a:accent3>
        <a:srgbClr val="ffffe2"/>
      </a:accent3>
      <a:accent4>
        <a:srgbClr val="000000"/>
      </a:accent4>
      <a:accent5>
        <a:srgbClr val="adcaad"/>
      </a:accent5>
      <a:accent6>
        <a:srgbClr val="730000"/>
      </a:accent6>
      <a:hlink>
        <a:srgbClr val="0033cc"/>
      </a:hlink>
      <a:folHlink>
        <a:srgbClr val="ffcc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FTA - Common transit as an instrument of trade facilitation - African Union -Continental Free trade aerea</Template>
  <TotalTime>71</TotalTime>
  <Application>LibreOffice/7.4.7.2$Linux_X86_64 LibreOffice_project/40$Build-2</Application>
  <AppVersion>15.0000</AppVersion>
  <Words>307</Words>
  <Paragraphs>104</Paragraphs>
  <Company>European Commiss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09:47:48Z</dcterms:created>
  <dc:creator>GARCIA SANCHEZ Juan Jose (TAXUD)</dc:creator>
  <dc:description/>
  <dc:language>en-US</dc:language>
  <cp:lastModifiedBy>GARCIA SANCHEZ Juan Jose (TAXUD)</cp:lastModifiedBy>
  <cp:lastPrinted>2012-11-23T17:23:40Z</cp:lastPrinted>
  <dcterms:modified xsi:type="dcterms:W3CDTF">2012-12-12T15:30:14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8</vt:r8>
  </property>
  <property fmtid="{D5CDD505-2E9C-101B-9397-08002B2CF9AE}" pid="3" name="PresentationFormat">
    <vt:lpwstr>On-screen Show (4:3)</vt:lpwstr>
  </property>
  <property fmtid="{D5CDD505-2E9C-101B-9397-08002B2CF9AE}" pid="4" name="Slides">
    <vt:r8>8</vt:r8>
  </property>
</Properties>
</file>