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09855A-29C5-4BB3-9C71-87AEA6558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Num" idx="16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D2EE2C6B-B45B-41D7-A0DD-0451881F5A61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Num" idx="17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D84242F7-CEFC-4560-BE6A-1050341546E8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851280" y="9431280"/>
            <a:ext cx="2945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5B2B-E13A-498A-8878-84D4734552ED}" type="slidenum"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Num" idx="18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3C0B9C7E-525B-4C43-8E61-CDCBBD17AD95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Num" idx="19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84F9CE8A-A6A8-44ED-B495-7F68197DE7B9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5F50525F-538F-4D61-A5A9-69A579489DAE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Num" idx="21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F6578DB4-CC99-4946-8F52-C7FC7BA9487F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1BB-F867-4301-8404-BEAB9F51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302-B33F-49E9-8FD0-ABB3CC4F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0A1-5EF2-4B45-9DCA-38AE1B73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2CF-08EF-4D69-A48F-A5206E2B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450E-FB72-4E56-A216-E1CB9F8C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66BB-CCE2-4E82-9C06-D872B8F4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1347-AB97-48CE-B468-DD591C38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B480-AC94-432B-BADC-D3CBDC48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B1AA-7B5A-4F3B-AA21-55FB1A51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EB6D-E213-46DA-AA50-0DBF8C3D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EA58-59EE-4958-A255-F563C880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C98-65D4-4236-AB82-8C0F1FEB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0982-87A6-454B-9670-849E3BD8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AC04-CC97-4BE6-8C95-064338BA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CBED-91F2-46CA-B135-2AF14AA5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CD11-B5B7-4916-AA60-C43AABF4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430C-CDF6-444F-868A-3171BAC0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F0B-8FA2-466F-B028-EC76E8D6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925-11B0-4632-9906-07D3E694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3F2-26E6-4533-93ED-3DE53B82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6FB-D97C-43EF-8DBE-25528E29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98D-60D7-4591-9BCD-0B5CFE20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621-1E30-46A3-B798-74620459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C25-B670-44B1-8A5C-95C25297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981000"/>
            <a:ext cx="9180000" cy="587664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algn="ctr"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ff"/>
              </a:solidFill>
              <a:latin typeface="Arial"/>
              <a:ea typeface="ヒラギノ角ゴ Pro W3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3849840" y="258840"/>
            <a:ext cx="1439640" cy="100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3680" cy="947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  <a:def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</a:pPr>
            <a:fld id="{FD9860EA-B4F5-41F0-A742-26F8BC8F0C3A}" type="slidenum"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/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GB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GB" sz="1400" spc="-1" strike="noStrike">
              <a:solidFill>
                <a:srgbClr val="0f5494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9143640" cy="95688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3849840" y="258840"/>
            <a:ext cx="1439640" cy="1001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3680" cy="549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CB41-6DB5-4F4D-B9F0-4C8CC7F605A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GB" sz="1400" spc="-1" strike="noStrike">
              <a:solidFill>
                <a:srgbClr val="0f5494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taxation_customs/customs/customs_duties/declared_goods/index_en.htm" TargetMode="External"/><Relationship Id="rId2" Type="http://schemas.openxmlformats.org/officeDocument/2006/relationships/hyperlink" Target="http://ec.europa.eu/taxation_customs/customs/customs_duties/declared_goods/index_en.htm" TargetMode="External"/><Relationship Id="rId3" Type="http://schemas.openxmlformats.org/officeDocument/2006/relationships/hyperlink" Target="http://ec.europa.eu/taxation_customs/customs/policy_issues/trade_falicitation/index_en.htm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55640" y="1557360"/>
            <a:ext cx="82800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en-GB" sz="2800" spc="-1" strike="noStrike">
                <a:solidFill>
                  <a:srgbClr val="ffd624"/>
                </a:solidFill>
                <a:latin typeface="Verdana"/>
                <a:ea typeface="Microsoft YaHei"/>
              </a:rPr>
              <a:t>Customs valuation</a:t>
            </a:r>
            <a:r>
              <a:rPr b="0" lang="en-GB" sz="2400" spc="-1" strike="noStrike">
                <a:solidFill>
                  <a:srgbClr val="ffd624"/>
                </a:solidFill>
                <a:latin typeface="Verdana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br>
              <a:rPr sz="2000"/>
            </a:br>
            <a:r>
              <a:rPr b="0" lang="en-GB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Brussels</a:t>
            </a:r>
            <a:br>
              <a:rPr sz="1400"/>
            </a:br>
            <a:r>
              <a:rPr b="0" lang="en-GB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 12 Decem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de-DE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John Mal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JOINT CUSTOMS AND TRADE FACILITATION FOR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 CUSTOMS STRATEGY FOR THE CONTINENTAL FREE TRADE AREA (CF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Organised by the African Union and European Union Commissio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with the African Regional Economic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fr-BE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684360" y="3978360"/>
            <a:ext cx="8064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24000" y="6381720"/>
            <a:ext cx="85690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>
              <a:lnSpc>
                <a:spcPct val="100000"/>
              </a:lnSpc>
              <a:spcBef>
                <a:spcPts val="624"/>
              </a:spcBef>
              <a:tabLst>
                <a:tab algn="l" pos="3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Num" idx="10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  <a:def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</a:pPr>
            <a:fld id="{F770CF59-F178-45E0-95D0-520C6F8F1203}" type="slidenum"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804000" y="623736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95280" y="119700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Arial"/>
                <a:ea typeface="Microsoft YaHei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11280" y="1989000"/>
            <a:ext cx="777204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1. Customs 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2. Customs Valuation and the CF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3. 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Num" idx="11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BB48-3AB6-43DD-B7D9-4EBB5110673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a) Customs 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ole and Purpose of Customs Valuation in Customs and Trade Policies. WTO Agreement on Customs Val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stoms Valuation with special attention to FTA'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alue  of goods in external trade and Value of goods between CFTA Members – policy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alue  of goods in external trade and Value of goods between CFTA Members – technical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mportance of uniform and consistent implementation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FECC-B61F-4A5E-BB89-0EDBD5B2E37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b) Customs valuation and the CF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tting Customs valuation right: ensuring efficient revenue collection, while avoiding  burdens to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ow to ensure that the practices, processes and results of the valuation of goods will contribute to the successful operation of the CTFA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rade Facilitation and Customs Valuation:  mutually supportive policy objectives. Bilateral Trade Facilitation, Regional Trade Facilitation, CTFA Trade Facilitation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Num" idx="13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5EFF-9A77-49F5-86CB-32A7FDD6C23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c) Way Forwa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ffective Customs Valuation implementation as part of an efficient Customs Administr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stoms Valuation as part of  the Customs Strategy  at national level,  Regional level and Free Trade Area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mmon Implementation tools (Blueprints, Guides, Manuals)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Num" idx="14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38C5-63E1-4038-AF3A-C0D4D16BB6C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392040" y="135720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f5494"/>
              </a:solidFill>
              <a:latin typeface="Times New Roman"/>
              <a:ea typeface="Microsoft YaHei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1484280"/>
            <a:ext cx="822924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Times New Roman"/>
                <a:ea typeface="Microsoft YaHei"/>
              </a:rPr>
              <a:t>Further information on TAXUD websi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 </a:t>
            </a: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1400" spc="-1" strike="noStrike" u="sng">
                <a:solidFill>
                  <a:srgbClr val="0033cc"/>
                </a:solidFill>
                <a:uFillTx/>
                <a:latin typeface="Times New Roman"/>
                <a:ea typeface="Microsoft YaHei"/>
                <a:hlinkClick r:id="rId1"/>
              </a:rPr>
              <a:t>http://</a:t>
            </a:r>
            <a:r>
              <a:rPr b="1" i="1" lang="en-GB" sz="1400" spc="-1" strike="noStrike" u="sng">
                <a:solidFill>
                  <a:srgbClr val="0033cc"/>
                </a:solidFill>
                <a:uFillTx/>
                <a:latin typeface="Times New Roman"/>
                <a:ea typeface="Microsoft YaHei"/>
                <a:hlinkClick r:id="rId2"/>
              </a:rPr>
              <a:t>ec.europa.eu/taxation_customs/customs/customs_duties/declared_goods/index_en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GB" sz="1000" spc="-1" strike="noStrike">
                <a:solidFill>
                  <a:srgbClr val="ffffcc"/>
                </a:solidFill>
                <a:latin typeface="Arial"/>
                <a:ea typeface="ヒラギノ角ゴ Pro W3"/>
              </a:rPr>
              <a:t>  </a:t>
            </a: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Trade Facil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  <a:ea typeface="ヒラギノ角ゴ Pro W3"/>
                <a:hlinkClick r:id="rId3"/>
              </a:rPr>
              <a:t>http://ec.europa.eu/taxation_customs/customs/policy_issues/trade_falicitation/index_en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or by 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de-DE" sz="16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John.Malone@ec.europa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ヒラギノ角ゴ Pro W3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A90A-F769-4AED-9F87-125133729EB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Theme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FTA - Common transit as an instrument of trade facilitation - African Union -Continental Free trade aerea">
  <a:themeElements>
    <a:clrScheme name="Office Theme 3">
      <a:dk1>
        <a:srgbClr val="000000"/>
      </a:dk1>
      <a:lt1>
        <a:srgbClr val="ffffcc"/>
      </a:lt1>
      <a:dk2>
        <a:srgbClr val="808000"/>
      </a:dk2>
      <a:lt2>
        <a:srgbClr val="666633"/>
      </a:lt2>
      <a:accent1>
        <a:srgbClr val="339933"/>
      </a:accent1>
      <a:accent2>
        <a:srgbClr val="800000"/>
      </a:accent2>
      <a:accent3>
        <a:srgbClr val="ffffe2"/>
      </a:accent3>
      <a:accent4>
        <a:srgbClr val="000000"/>
      </a:accent4>
      <a:accent5>
        <a:srgbClr val="adcaad"/>
      </a:accent5>
      <a:accent6>
        <a:srgbClr val="730000"/>
      </a:accent6>
      <a:hlink>
        <a:srgbClr val="0033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FTA - Common transit as an instrument of trade facilitation - African Union -Continental Free trade aerea</Template>
  <TotalTime>22</TotalTime>
  <Application>LibreOffice/7.4.7.2$Linux_X86_64 LibreOffice_project/40$Build-2</Application>
  <AppVersion>15.0000</AppVersion>
  <Words>103</Words>
  <Paragraphs>76</Paragraphs>
  <Company>European Commiss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9:47:48Z</dcterms:created>
  <dc:creator>GARCIA SANCHEZ Juan Jose (TAXUD)</dc:creator>
  <dc:description/>
  <dc:language>en-US</dc:language>
  <cp:lastModifiedBy>GARCIA SANCHEZ Juan Jose (TAXUD)</cp:lastModifiedBy>
  <cp:lastPrinted>2012-11-23T17:23:40Z</cp:lastPrinted>
  <dcterms:modified xsi:type="dcterms:W3CDTF">2012-12-11T13:13:4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6</vt:r8>
  </property>
</Properties>
</file>