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0D17D-05F6-40D1-B137-BA9D2948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Num" idx="16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7E9B7471-7A20-4712-BDBA-8D8CD0875A97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7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0DBD963B-B15A-41B7-BCF8-0BD34D6D6C4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A64B-DA74-44B4-AC1A-56C8F6B6979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4EA48B30-DF81-4672-BDE2-05E72F896B2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1D1928C1-5302-4EE4-B5C4-EF2CF8F2174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A36F676F-A0DF-4C54-B047-FA945967D00D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2D188400-F88D-4E61-86E7-E3427A5979A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FA0-0047-4205-A7D1-9F673F7B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631-9BBB-45F5-8A4E-D63327D0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A03-437E-47CE-956B-4A54BFDF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7E1-7A18-4E64-9D30-8CA52A62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5FAB-5134-4BDC-8F76-FA42A87C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67F-B7C8-4E05-B613-D29112D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940-1F61-4218-86A1-D7E0781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266E-1EAB-491E-92E1-98059322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38B4-0567-4B42-98C1-F1416E9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243-8155-4631-BF29-F342B99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048-BE13-4F54-807C-690AF59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14C-690E-432C-9F19-5A5EED0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3FB-8449-4211-A1BD-AA4DFA5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716D-9075-4E49-A3F3-B23B430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784-1E84-42F9-AA34-5DC7F58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D19E-B3FB-4EC7-8B06-59D21CA7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2874-C303-4264-951C-3F1A7CF9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5B7-5428-4CF3-BC54-E939B1E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AD7-F4FC-4A8D-B996-E79872F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B03-C5E1-401C-A124-005FB2C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A35-5753-46EB-9BCA-DA8223FA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50E-7559-49C9-9AF5-061FEE5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BBD-E758-4BAC-80CC-11B0EC8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004-5A1E-4F06-88E2-04E26CE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347C50F3-CB5E-4744-9734-D4CDC9EEC98A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57C-8FEE-4ED4-B750-D487CCCC2F4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customs_duties/declared_goods/index_en.htm" TargetMode="External"/><Relationship Id="rId2" Type="http://schemas.openxmlformats.org/officeDocument/2006/relationships/hyperlink" Target="http://ec.europa.eu/taxation_customs/customs/customs_duties/declared_goods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valuation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ohn Ma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7207F0D2-D7AA-43F1-8821-23A8E45B7674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1. Customs 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2. Customs Valuation and the CF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3.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2793-242A-465C-A63E-FAA583EBA42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Customs 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ole and Purpose of Customs Valuation in Customs and Trade Policies. WTO Agreement on Customs 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with special attention to FTA'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  of goods in external trade and Value of goods between CFTA Members – polic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ue  of goods in external trade and Value of goods between CFTA Members – technical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ortance of uniform and consistent implementation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7B5-192C-4D45-B9AF-666E0BF27CB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Customs valuation and the CF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tting Customs valuation right: ensuring efficient revenue collection, while avoiding  burdens to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ow to ensure that the practices, processes and results of the valuation of goods will contribute to the successful operation of the CTFA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de Facilitation and Customs Valuation:  mutually supportive policy objectives. Bilateral Trade Facilitation, Regional Trade Facilitation, CTFA Trade Facilitatio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183-B445-4533-9D5C-963194D491F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Way Forw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ffective Customs Valuation implementation as part of an efficient Customs Administr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stoms Valuation as part of  the Customs Strategy  at national level,  Regional level and Free Trade Area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Implementation tools (Blueprints, Guides, Manuals)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1F1-A7FD-4631-BEC5-87D6E16B14A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1"/>
              </a:rPr>
              <a:t>http://</a:t>
            </a:r>
            <a:r>
              <a:rPr b="1" i="1" lang="en-GB" sz="1400" spc="-1" strike="noStrike" u="sng">
                <a:solidFill>
                  <a:srgbClr val="0033cc"/>
                </a:solidFill>
                <a:uFillTx/>
                <a:latin typeface="Times New Roman"/>
                <a:ea typeface="Microsoft YaHei"/>
                <a:hlinkClick r:id="rId2"/>
              </a:rPr>
              <a:t>ec.europa.eu/taxation_customs/customs/customs_duties/declared_goods/index_en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ohn.Malone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73E-72B9-458F-9914-E8B389D926E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22</TotalTime>
  <Application>LibreOffice/7.4.7.2$Linux_X86_64 LibreOffice_project/40$Build-2</Application>
  <AppVersion>15.0000</AppVersion>
  <Words>103</Words>
  <Paragraphs>76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1T13:13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6</vt:r8>
  </property>
</Properties>
</file>