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797675" cy="9926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GB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FD3CA1-42E6-4097-97F7-A3177A146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Num" idx="16"/>
          </p:nvPr>
        </p:nvSpPr>
        <p:spPr>
          <a:xfrm>
            <a:off x="3851280" y="9431280"/>
            <a:ext cx="2944440" cy="4932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</a:pPr>
            <a:fld id="{D2BA0F8E-60D4-40B5-9DD0-9890A056023C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3680" cy="3722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3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9960" cy="44683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Num" idx="17"/>
          </p:nvPr>
        </p:nvSpPr>
        <p:spPr>
          <a:xfrm>
            <a:off x="3851280" y="9431280"/>
            <a:ext cx="2944440" cy="4932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</a:pPr>
            <a:fld id="{54B6FAA3-09AF-4F2C-AB9C-80E71384702E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3680" cy="37224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9960" cy="44683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3851280" y="9431280"/>
            <a:ext cx="29458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C28D-DE01-4831-A308-27A0CB7617EB}" type="slidenum">
              <a:rPr b="1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Num" idx="18"/>
          </p:nvPr>
        </p:nvSpPr>
        <p:spPr>
          <a:xfrm>
            <a:off x="3851280" y="9431280"/>
            <a:ext cx="2944440" cy="4932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</a:pPr>
            <a:fld id="{9734E2F6-6512-497C-9D35-33AEC41BE318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3680" cy="37224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3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9960" cy="44683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Num" idx="19"/>
          </p:nvPr>
        </p:nvSpPr>
        <p:spPr>
          <a:xfrm>
            <a:off x="3851280" y="9431280"/>
            <a:ext cx="2944440" cy="4932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</a:pPr>
            <a:fld id="{19B60A95-68B1-46D5-9DC4-2BEE40C0E073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3680" cy="37224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3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9960" cy="44683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Num" idx="20"/>
          </p:nvPr>
        </p:nvSpPr>
        <p:spPr>
          <a:xfrm>
            <a:off x="3851280" y="9431280"/>
            <a:ext cx="2944440" cy="4932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</a:pPr>
            <a:fld id="{AC8BD2AC-1E5A-4842-A788-3D0AB2ED8883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3680" cy="37224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3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9960" cy="44683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Num" idx="21"/>
          </p:nvPr>
        </p:nvSpPr>
        <p:spPr>
          <a:xfrm>
            <a:off x="3851280" y="9431280"/>
            <a:ext cx="2944440" cy="4932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</a:pPr>
            <a:fld id="{57B74DD4-FFF1-49E5-B8A7-0928FC15455A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3680" cy="37224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3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9960" cy="44683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D1B1-63CE-4126-8E9F-0D2246B38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9192-7201-423E-9D3B-8928EA86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91A9-3B28-49B6-9EF8-1CEC03D6A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6428-5A94-4AD0-A4CF-3E6FAE40A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1BE9-1B15-480C-BB7D-DC70229FA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5BFF-B19D-4E6F-99A9-3BB23EFD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50FE-4069-45F7-B6EF-78D982FE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54BD4-1EC1-4EFD-BCE7-6842BBC3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999F-0ACB-4F32-BEE4-CBA8975C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9FAA-8F5E-4B4A-A562-8C756869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1F81-1897-4FBE-A1D0-EDF59F6B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FE72-F58C-4F54-A173-CBD78FBB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7D25-2090-4F46-9EC1-ABBD6CF3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0C4F-5152-4254-94D9-EF76B604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12E5-8947-45A5-AC22-108CC09C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136C-4A43-4EBD-B0FB-BFDF26BC4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DEDE-CD92-4289-A9E9-D58E2A824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8AB8-9FC4-45FA-B3B7-22861AAB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D4AB-4435-4748-AD60-89CA50CC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4AED-68AE-4D79-8768-8AD37FB5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F7AF-9766-4F67-8E8B-2F6FB0A3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522A-CB54-4A67-94CD-BD0947F2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A2B1-97E3-4CAB-A2A8-67A28540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57FA-3A7A-473D-AA79-AB7BF892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981000"/>
            <a:ext cx="9180000" cy="587664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algn="ctr" dir="5400000" dist="2304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ffffff"/>
              </a:solidFill>
              <a:latin typeface="Arial"/>
              <a:ea typeface="ヒラギノ角ゴ Pro W3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2"/>
          <a:stretch/>
        </p:blipFill>
        <p:spPr>
          <a:xfrm>
            <a:off x="3849840" y="258840"/>
            <a:ext cx="1439640" cy="1001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3680" cy="947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960"/>
                <a:tab algn="l" pos="1447920"/>
              </a:tabLst>
              <a:defRPr b="1" lang="en-US" sz="1400" spc="-1" strike="noStrike">
                <a:solidFill>
                  <a:srgbClr val="ffffff"/>
                </a:solidFill>
                <a:latin typeface="Verdana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960"/>
                <a:tab algn="l" pos="1447920"/>
              </a:tabLst>
            </a:pPr>
            <a:fld id="{CCE34946-E911-47CE-9B84-B4B901E42799}" type="slidenum">
              <a:rPr b="1" lang="en-US" sz="14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/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GB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GB" sz="1400" spc="-1" strike="noStrike">
              <a:solidFill>
                <a:srgbClr val="0f5494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0"/>
            <a:ext cx="9143640" cy="95688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ffffcc"/>
              </a:solidFill>
              <a:latin typeface="Arial"/>
              <a:ea typeface="ヒラギノ角ゴ Pro W3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3849840" y="258840"/>
            <a:ext cx="1439640" cy="10015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3680" cy="5490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FE57-3D7A-4936-9A25-A041106F778A}" type="slidenum"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/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GB" sz="1400" spc="-1" strike="noStrike">
              <a:solidFill>
                <a:srgbClr val="0f5494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c.europa.eu/taxation_customs/customs/customs_duties/declared_goods/index_en.htm" TargetMode="External"/><Relationship Id="rId2" Type="http://schemas.openxmlformats.org/officeDocument/2006/relationships/hyperlink" Target="http://ec.europa.eu/taxation_customs/customs/customs_duties/declared_goods/index_en.htm" TargetMode="External"/><Relationship Id="rId3" Type="http://schemas.openxmlformats.org/officeDocument/2006/relationships/hyperlink" Target="http://ec.europa.eu/taxation_customs/customs/policy_issues/trade_falicitation/index_en.htm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755640" y="1557360"/>
            <a:ext cx="8280000" cy="25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3240" algn="ctr">
              <a:lnSpc>
                <a:spcPct val="100000"/>
              </a:lnSpc>
              <a:spcAft>
                <a:spcPts val="876"/>
              </a:spcAft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spcAft>
                <a:spcPts val="876"/>
              </a:spcAft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spcAft>
                <a:spcPts val="876"/>
              </a:spcAft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spcAft>
                <a:spcPts val="876"/>
              </a:spcAft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r>
              <a:rPr b="0" lang="en-GB" sz="2800" spc="-1" strike="noStrike">
                <a:solidFill>
                  <a:srgbClr val="ffd624"/>
                </a:solidFill>
                <a:latin typeface="Verdana"/>
                <a:ea typeface="Microsoft YaHei"/>
              </a:rPr>
              <a:t>Customs valuation</a:t>
            </a:r>
            <a:r>
              <a:rPr b="0" lang="en-GB" sz="2400" spc="-1" strike="noStrike">
                <a:solidFill>
                  <a:srgbClr val="ffd624"/>
                </a:solidFill>
                <a:latin typeface="Verdana"/>
                <a:ea typeface="Microsoft YaHe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br>
              <a:rPr sz="2000"/>
            </a:br>
            <a:r>
              <a:rPr b="0" lang="en-GB" sz="1400" spc="-1" strike="noStrike">
                <a:solidFill>
                  <a:srgbClr val="ffd624"/>
                </a:solidFill>
                <a:latin typeface="Verdana"/>
                <a:ea typeface="Microsoft YaHei"/>
              </a:rPr>
              <a:t>Brussels</a:t>
            </a:r>
            <a:br>
              <a:rPr sz="1400"/>
            </a:br>
            <a:r>
              <a:rPr b="0" lang="en-GB" sz="1400" spc="-1" strike="noStrike">
                <a:solidFill>
                  <a:srgbClr val="ffd624"/>
                </a:solidFill>
                <a:latin typeface="Verdana"/>
                <a:ea typeface="Microsoft YaHei"/>
              </a:rPr>
              <a:t> 12 December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r>
              <a:rPr b="0" lang="de-DE" sz="1400" spc="-1" strike="noStrike">
                <a:solidFill>
                  <a:srgbClr val="ffd624"/>
                </a:solidFill>
                <a:latin typeface="Verdana"/>
                <a:ea typeface="Microsoft YaHei"/>
              </a:rPr>
              <a:t>John Mal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JOINT CUSTOMS AND TRADE FACILITATION FORU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A CUSTOMS STRATEGY FOR THE CONTINENTAL FREE TRADE AREA (CF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Organised by the African Union and European Union Commissions</a:t>
            </a: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with the African Regional Economic Commun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spcAft>
                <a:spcPts val="876"/>
              </a:spcAft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r>
              <a:rPr b="0" lang="fr-BE" sz="1400" spc="-1" strike="noStrike">
                <a:solidFill>
                  <a:srgbClr val="ffd624"/>
                </a:solidFill>
                <a:latin typeface="Verdana"/>
                <a:ea typeface="Microsoft YaHei"/>
              </a:rPr>
              <a:t>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684360" y="3978360"/>
            <a:ext cx="80640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2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324000" y="6381720"/>
            <a:ext cx="85690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>
              <a:lnSpc>
                <a:spcPct val="100000"/>
              </a:lnSpc>
              <a:spcBef>
                <a:spcPts val="624"/>
              </a:spcBef>
              <a:tabLst>
                <a:tab algn="l" pos="32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</a:tabLst>
            </a:pPr>
            <a:r>
              <a:rPr b="0" lang="en-GB" sz="1000" spc="-1" strike="noStrike">
                <a:solidFill>
                  <a:srgbClr val="ffd624"/>
                </a:solidFill>
                <a:latin typeface="Verdana"/>
                <a:ea typeface="ヒラギノ角ゴ Pro W3"/>
              </a:rPr>
              <a:t>	</a:t>
            </a:r>
            <a:r>
              <a:rPr b="0" lang="en-GB" sz="1000" spc="-1" strike="noStrike">
                <a:solidFill>
                  <a:srgbClr val="ffd624"/>
                </a:solidFill>
                <a:latin typeface="Verdana"/>
                <a:ea typeface="ヒラギノ角ゴ Pro W3"/>
              </a:rPr>
              <a:t>	</a:t>
            </a:r>
            <a:r>
              <a:rPr b="0" lang="en-GB" sz="1000" spc="-1" strike="noStrike">
                <a:solidFill>
                  <a:srgbClr val="ffd624"/>
                </a:solidFill>
                <a:latin typeface="Verdana"/>
                <a:ea typeface="ヒラギノ角ゴ Pro W3"/>
              </a:rPr>
              <a:t>	</a:t>
            </a:r>
            <a:r>
              <a:rPr b="0" lang="en-GB" sz="1000" spc="-1" strike="noStrike">
                <a:solidFill>
                  <a:srgbClr val="ffd624"/>
                </a:solidFill>
                <a:latin typeface="Verdana"/>
                <a:ea typeface="ヒラギノ角ゴ Pro W3"/>
              </a:rPr>
              <a:t>	</a:t>
            </a:r>
            <a:r>
              <a:rPr b="0" lang="en-GB" sz="1000" spc="-1" strike="noStrike">
                <a:solidFill>
                  <a:srgbClr val="ffd624"/>
                </a:solidFill>
                <a:latin typeface="Verdana"/>
                <a:ea typeface="ヒラギノ角ゴ Pro W3"/>
              </a:rPr>
              <a:t>	</a:t>
            </a:r>
            <a:r>
              <a:rPr b="0" lang="en-GB" sz="1000" spc="-1" strike="noStrike">
                <a:solidFill>
                  <a:srgbClr val="ffd624"/>
                </a:solidFill>
                <a:latin typeface="Verdana"/>
                <a:ea typeface="ヒラギノ角ゴ Pro W3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Num" idx="10"/>
          </p:nvPr>
        </p:nvSpPr>
        <p:spPr>
          <a:xfrm>
            <a:off x="655308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960"/>
                <a:tab algn="l" pos="1447920"/>
              </a:tabLst>
              <a:defRPr b="1" lang="en-US" sz="1400" spc="-1" strike="noStrike">
                <a:solidFill>
                  <a:srgbClr val="ffffff"/>
                </a:solidFill>
                <a:latin typeface="Verdana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960"/>
                <a:tab algn="l" pos="1447920"/>
              </a:tabLst>
            </a:pPr>
            <a:fld id="{29DFD16A-5B73-4161-9882-FDDB876B0358}" type="slidenum">
              <a:rPr b="1" lang="en-US" sz="14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/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6804000" y="623736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ffffcc"/>
              </a:solidFill>
              <a:latin typeface="Arial"/>
              <a:ea typeface="ヒラギノ角ゴ Pro W3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395280" y="1197000"/>
            <a:ext cx="82292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358920" indent="-35712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Arial"/>
                <a:ea typeface="Microsoft YaHei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11280" y="1989000"/>
            <a:ext cx="777204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Microsoft YaHei"/>
              </a:rPr>
              <a:t>1. Customs 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Microsoft YaHei"/>
              </a:rPr>
              <a:t>2. Customs Valuation and the CF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Microsoft YaHei"/>
              </a:rPr>
              <a:t>3. Way For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8229600" y="6400800"/>
            <a:ext cx="400176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Num" idx="11"/>
          </p:nvPr>
        </p:nvSpPr>
        <p:spPr>
          <a:xfrm>
            <a:off x="655308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F5C4-A787-4235-AC87-D978A49CC4D4}" type="slidenum"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/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ffffcc"/>
              </a:solidFill>
              <a:latin typeface="Arial"/>
              <a:ea typeface="ヒラギノ角ゴ Pro W3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358920" indent="-35712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Microsoft YaHei"/>
              </a:rPr>
              <a:t>(a) Customs 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457200" y="2349360"/>
            <a:ext cx="82292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ole and Purpose of Customs Valuation in Customs and Trade Policies. WTO Agreement on Customs Valu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stoms Valuation with special attention to FTA'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alue  of goods in external trade and Value of goods between CFTA Members – policy iss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alue  of goods in external trade and Value of goods between CFTA Members – technical iss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 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mportance of uniform and consistent implementation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8229600" y="6400800"/>
            <a:ext cx="400176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6E75-6E2A-4843-A4D0-EDD04E04ABBC}" type="slidenum"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/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ffffcc"/>
              </a:solidFill>
              <a:latin typeface="Arial"/>
              <a:ea typeface="ヒラギノ角ゴ Pro W3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358920" indent="-35712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Microsoft YaHei"/>
              </a:rPr>
              <a:t>(b) Customs valuation and the CF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457200" y="2349360"/>
            <a:ext cx="82292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etting Customs valuation right: ensuring efficient revenue collection, while avoiding  burdens to tr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How to ensure that the practices, processes and results of the valuation of goods will contribute to the successful operation of the CTFA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rade Facilitation and Customs Valuation:  mutually supportive policy objectives. Bilateral Trade Facilitation, Regional Trade Facilitation, CTFA Trade Facilitation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8229600" y="6400800"/>
            <a:ext cx="400176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Num" idx="13"/>
          </p:nvPr>
        </p:nvSpPr>
        <p:spPr>
          <a:xfrm>
            <a:off x="655308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2F52-40A3-45AE-807F-CD839E43B8AD}" type="slidenum"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/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ffffcc"/>
              </a:solidFill>
              <a:latin typeface="Arial"/>
              <a:ea typeface="ヒラギノ角ゴ Pro W3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358920" indent="-35712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Microsoft YaHei"/>
              </a:rPr>
              <a:t>(c) Way Forwar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2349360"/>
            <a:ext cx="82292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ffective Customs Valuation implementation as part of an efficient Customs Administra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 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stoms Valuation as part of  the Customs Strategy  at national level,  Regional level and Free Trade Area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ommon Implementation tools (Blueprints, Guides, Manuals).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8229600" y="6400800"/>
            <a:ext cx="400176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Num" idx="14"/>
          </p:nvPr>
        </p:nvSpPr>
        <p:spPr>
          <a:xfrm>
            <a:off x="655308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9525-4C79-4125-9B38-B4C6EE050E40}" type="slidenum"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/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392040" y="1357200"/>
            <a:ext cx="82292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358920" indent="-357120"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f5494"/>
              </a:solidFill>
              <a:latin typeface="Times New Roman"/>
              <a:ea typeface="Microsoft YaHei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457200" y="1484280"/>
            <a:ext cx="8229240" cy="45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en-GB" sz="2400" spc="-1" strike="noStrike" u="sng">
                <a:solidFill>
                  <a:srgbClr val="0f5494"/>
                </a:solidFill>
                <a:uFillTx/>
                <a:latin typeface="Times New Roman"/>
                <a:ea typeface="Microsoft YaHei"/>
              </a:rPr>
              <a:t>Further information on TAXUD websit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Times New Roman"/>
                <a:ea typeface="Microsoft YaHei"/>
              </a:rPr>
              <a:t> </a:t>
            </a:r>
            <a:r>
              <a:rPr b="1" i="1" lang="en-GB" sz="2400" spc="-1" strike="noStrike">
                <a:solidFill>
                  <a:srgbClr val="0f5494"/>
                </a:solidFill>
                <a:latin typeface="Times New Roman"/>
                <a:ea typeface="Microsoft YaHei"/>
              </a:rPr>
              <a:t>Val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en-GB" sz="1400" spc="-1" strike="noStrike" u="sng">
                <a:solidFill>
                  <a:srgbClr val="0033cc"/>
                </a:solidFill>
                <a:uFillTx/>
                <a:latin typeface="Times New Roman"/>
                <a:ea typeface="Microsoft YaHei"/>
                <a:hlinkClick r:id="rId1"/>
              </a:rPr>
              <a:t>http://</a:t>
            </a:r>
            <a:r>
              <a:rPr b="1" i="1" lang="en-GB" sz="1400" spc="-1" strike="noStrike" u="sng">
                <a:solidFill>
                  <a:srgbClr val="0033cc"/>
                </a:solidFill>
                <a:uFillTx/>
                <a:latin typeface="Times New Roman"/>
                <a:ea typeface="Microsoft YaHei"/>
                <a:hlinkClick r:id="rId2"/>
              </a:rPr>
              <a:t>ec.europa.eu/taxation_customs/customs/customs_duties/declared_goods/index_en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en-GB" sz="1000" spc="-1" strike="noStrike">
                <a:solidFill>
                  <a:srgbClr val="ffffcc"/>
                </a:solidFill>
                <a:latin typeface="Arial"/>
                <a:ea typeface="ヒラギノ角ゴ Pro W3"/>
              </a:rPr>
              <a:t>  </a:t>
            </a:r>
            <a:r>
              <a:rPr b="1" i="1" lang="en-GB" sz="2400" spc="-1" strike="noStrike">
                <a:solidFill>
                  <a:srgbClr val="0f5494"/>
                </a:solidFill>
                <a:latin typeface="Times New Roman"/>
                <a:ea typeface="Microsoft YaHei"/>
              </a:rPr>
              <a:t>Trade Facili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en-GB" sz="1000" spc="-1" strike="noStrike" u="sng">
                <a:solidFill>
                  <a:srgbClr val="0033cc"/>
                </a:solidFill>
                <a:uFillTx/>
                <a:latin typeface="Arial"/>
                <a:ea typeface="ヒラギノ角ゴ Pro W3"/>
                <a:hlinkClick r:id="rId3"/>
              </a:rPr>
              <a:t>http://ec.europa.eu/taxation_customs/customs/policy_issues/trade_falicitation/index_en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Times New Roman"/>
                <a:ea typeface="Microsoft YaHei"/>
              </a:rPr>
              <a:t>or by e-ma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de-DE" sz="16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John.Malone@ec.europa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Times New Roman"/>
                <a:ea typeface="Microsoft YaHei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ffffcc"/>
              </a:solidFill>
              <a:latin typeface="Arial"/>
              <a:ea typeface="ヒラギノ角ゴ Pro W3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8229600" y="6400800"/>
            <a:ext cx="400176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  <a:ea typeface="ヒラギノ角ゴ Pro W3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Num" idx="15"/>
          </p:nvPr>
        </p:nvSpPr>
        <p:spPr>
          <a:xfrm>
            <a:off x="655308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61B4-73EB-4A38-B5A9-155BDABC5A53}" type="slidenum"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/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Office Theme">
  <a:themeElements>
    <a:clrScheme name="Office Them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FTA - Common transit as an instrument of trade facilitation - African Union -Continental Free trade aerea">
  <a:themeElements>
    <a:clrScheme name="Office Theme 3">
      <a:dk1>
        <a:srgbClr val="000000"/>
      </a:dk1>
      <a:lt1>
        <a:srgbClr val="ffffcc"/>
      </a:lt1>
      <a:dk2>
        <a:srgbClr val="808000"/>
      </a:dk2>
      <a:lt2>
        <a:srgbClr val="666633"/>
      </a:lt2>
      <a:accent1>
        <a:srgbClr val="339933"/>
      </a:accent1>
      <a:accent2>
        <a:srgbClr val="800000"/>
      </a:accent2>
      <a:accent3>
        <a:srgbClr val="ffffe2"/>
      </a:accent3>
      <a:accent4>
        <a:srgbClr val="000000"/>
      </a:accent4>
      <a:accent5>
        <a:srgbClr val="adcaad"/>
      </a:accent5>
      <a:accent6>
        <a:srgbClr val="730000"/>
      </a:accent6>
      <a:hlink>
        <a:srgbClr val="0033cc"/>
      </a:hlink>
      <a:folHlink>
        <a:srgbClr val="ffcc6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FTA - Common transit as an instrument of trade facilitation - African Union -Continental Free trade aerea</Template>
  <TotalTime>22</TotalTime>
  <Application>LibreOffice/7.4.7.2$Linux_X86_64 LibreOffice_project/40$Build-2</Application>
  <AppVersion>15.0000</AppVersion>
  <Words>103</Words>
  <Paragraphs>76</Paragraphs>
  <Company>European Commissio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09:47:48Z</dcterms:created>
  <dc:creator>GARCIA SANCHEZ Juan Jose (TAXUD)</dc:creator>
  <dc:description/>
  <dc:language>en-US</dc:language>
  <cp:lastModifiedBy>GARCIA SANCHEZ Juan Jose (TAXUD)</cp:lastModifiedBy>
  <cp:lastPrinted>2012-11-23T17:23:40Z</cp:lastPrinted>
  <dcterms:modified xsi:type="dcterms:W3CDTF">2012-12-11T13:13:44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6</vt:r8>
  </property>
  <property fmtid="{D5CDD505-2E9C-101B-9397-08002B2CF9AE}" pid="3" name="PresentationFormat">
    <vt:lpwstr>On-screen Show (4:3)</vt:lpwstr>
  </property>
  <property fmtid="{D5CDD505-2E9C-101B-9397-08002B2CF9AE}" pid="4" name="Slides">
    <vt:r8>6</vt:r8>
  </property>
</Properties>
</file>