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5A98-A5E1-45D7-92C9-5975B6649A3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8BCE-CAC9-43A4-B537-A344A0B4657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B08E-EA7F-46F6-AACD-45D0ABE6679A}" type="datetime">
              <a:rPr b="0" lang="en-US" sz="1200" spc="-1" strike="noStrike">
                <a:solidFill>
                  <a:srgbClr val="ffffff"/>
                </a:solidFill>
                <a:latin typeface="Verdana"/>
              </a:rPr>
              <a:t>07/29/26</a:t>
            </a:fld>
            <a:r>
              <a:rPr b="0" lang="en-US" sz="1200" spc="-1" strike="noStrike">
                <a:solidFill>
                  <a:srgbClr val="ffffff"/>
                </a:solidFill>
                <a:latin typeface="Verdana"/>
              </a:rPr>
              <a:t> </a:t>
            </a:r>
            <a:fld id="{D9FCD390-1401-4256-A30A-DE440492344D}"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3DCA-F42B-45A8-943A-1478FAF2F9B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9722-C3B5-4D6C-BEDB-FE83CD2E8F03}" type="datetime">
              <a:rPr b="0" lang="en-US" sz="1200" spc="-1" strike="noStrike">
                <a:solidFill>
                  <a:srgbClr val="ffffff"/>
                </a:solidFill>
                <a:latin typeface="Verdana"/>
              </a:rPr>
              <a:t>07/29/26</a:t>
            </a:fld>
            <a:r>
              <a:rPr b="0" lang="en-US" sz="1200" spc="-1" strike="noStrike">
                <a:solidFill>
                  <a:srgbClr val="ffffff"/>
                </a:solidFill>
                <a:latin typeface="Verdana"/>
              </a:rPr>
              <a:t> </a:t>
            </a:r>
            <a:fld id="{E1F1D584-F4F0-481E-AE08-5D2D12B0C408}"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C914-B9D8-49DA-A325-4A8E75D4056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E394-3EFF-4C0D-9CBE-B1C629B8AE0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06C9-3CF3-4DC0-BD24-34057CBF89B5}" type="datetime">
              <a:rPr b="0" lang="en-US" sz="1200" spc="-1" strike="noStrike">
                <a:solidFill>
                  <a:srgbClr val="ffffff"/>
                </a:solidFill>
                <a:latin typeface="Verdana"/>
              </a:rPr>
              <a:t>07/29/26</a:t>
            </a:fld>
            <a:r>
              <a:rPr b="0" lang="en-US" sz="1200" spc="-1" strike="noStrike">
                <a:solidFill>
                  <a:srgbClr val="ffffff"/>
                </a:solidFill>
                <a:latin typeface="Verdana"/>
              </a:rPr>
              <a:t> </a:t>
            </a:r>
            <a:fld id="{0CB27850-0F58-4DA6-B1DC-5D27DD38B3F0}"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C894-768E-4B30-BB88-56430986F4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B015-3E1C-4BF9-A3C6-4E60A6CD7C1A}" type="datetime">
              <a:rPr b="0" lang="en-US" sz="1200" spc="-1" strike="noStrike">
                <a:solidFill>
                  <a:srgbClr val="ffffff"/>
                </a:solidFill>
                <a:latin typeface="Verdana"/>
              </a:rPr>
              <a:t>07/29/26</a:t>
            </a:fld>
            <a:r>
              <a:rPr b="0" lang="en-US" sz="1200" spc="-1" strike="noStrike">
                <a:solidFill>
                  <a:srgbClr val="ffffff"/>
                </a:solidFill>
                <a:latin typeface="Verdana"/>
              </a:rPr>
              <a:t> </a:t>
            </a:r>
            <a:fld id="{2D0F69D9-9840-4E4B-B251-15B65C6DB362}"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92F0-1362-4776-B019-20C82A52718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8149-E746-420A-95C2-80DF83F8464C}" type="datetime">
              <a:rPr b="0" lang="en-US" sz="1200" spc="-1" strike="noStrike">
                <a:solidFill>
                  <a:srgbClr val="ffffff"/>
                </a:solidFill>
                <a:latin typeface="Verdana"/>
              </a:rPr>
              <a:t>07/29/26</a:t>
            </a:fld>
            <a:r>
              <a:rPr b="0" lang="en-US" sz="1200" spc="-1" strike="noStrike">
                <a:solidFill>
                  <a:srgbClr val="ffffff"/>
                </a:solidFill>
                <a:latin typeface="Verdana"/>
              </a:rPr>
              <a:t> </a:t>
            </a:r>
            <a:fld id="{BDF4F146-A0D1-4546-8BE5-2F2EE366BBEC}"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ABC6-60C3-40FA-8D15-E0D8F768B50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1942-4810-456A-9D17-CB3AC08E49AB}" type="datetime">
              <a:rPr b="0" lang="en-US" sz="1200" spc="-1" strike="noStrike">
                <a:solidFill>
                  <a:srgbClr val="ffffff"/>
                </a:solidFill>
                <a:latin typeface="Verdana"/>
              </a:rPr>
              <a:t>07/29/26</a:t>
            </a:fld>
            <a:r>
              <a:rPr b="0" lang="en-US" sz="1200" spc="-1" strike="noStrike">
                <a:solidFill>
                  <a:srgbClr val="ffffff"/>
                </a:solidFill>
                <a:latin typeface="Verdana"/>
              </a:rPr>
              <a:t> </a:t>
            </a:r>
            <a:fld id="{58498168-49E7-45B7-857A-7264BBC49169}"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D407-4484-4938-B577-F6021619FA5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BB3C-6F93-4462-9026-BD5D2BA461E5}" type="datetime">
              <a:rPr b="0" lang="en-US" sz="1200" spc="-1" strike="noStrike">
                <a:solidFill>
                  <a:srgbClr val="ffffff"/>
                </a:solidFill>
                <a:latin typeface="Verdana"/>
              </a:rPr>
              <a:t>07/29/26</a:t>
            </a:fld>
            <a:r>
              <a:rPr b="0" lang="en-US" sz="1200" spc="-1" strike="noStrike">
                <a:solidFill>
                  <a:srgbClr val="ffffff"/>
                </a:solidFill>
                <a:latin typeface="Verdana"/>
              </a:rPr>
              <a:t> </a:t>
            </a:r>
            <a:fld id="{14BA66B5-7270-4FBA-AAB8-5076336923C8}"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0AC6-E193-418E-A889-7499D0FE6C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B0BF-4977-4D4F-9E46-65571B274A2C}" type="datetime">
              <a:rPr b="0" lang="en-US" sz="1200" spc="-1" strike="noStrike">
                <a:solidFill>
                  <a:srgbClr val="ffffff"/>
                </a:solidFill>
                <a:latin typeface="Verdana"/>
              </a:rPr>
              <a:t>07/29/26</a:t>
            </a:fld>
            <a:r>
              <a:rPr b="0" lang="en-US" sz="1200" spc="-1" strike="noStrike">
                <a:solidFill>
                  <a:srgbClr val="ffffff"/>
                </a:solidFill>
                <a:latin typeface="Verdana"/>
              </a:rPr>
              <a:t> </a:t>
            </a:r>
            <a:fld id="{4BA337C6-DAAA-420C-8808-3CC0FBF154B8}"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80BF-7954-4A89-9BCE-4D76ABA252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5BC2-33A0-425D-A1E0-3A47496BDD6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1A02-95D3-4759-B52C-1C4DFDF7C01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A28F-8173-4F40-8020-3BC80A5827D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28DD-862F-40AA-9596-510BBDCCDFA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D674-C325-4A25-9271-4F446BD22A5B}" type="datetime">
              <a:rPr b="0" lang="en-US" sz="1200" spc="-1" strike="noStrike">
                <a:solidFill>
                  <a:srgbClr val="ffffff"/>
                </a:solidFill>
                <a:latin typeface="Verdana"/>
              </a:rPr>
              <a:t>07/29/26</a:t>
            </a:fld>
            <a:r>
              <a:rPr b="0" lang="en-US" sz="1200" spc="-1" strike="noStrike">
                <a:solidFill>
                  <a:srgbClr val="ffffff"/>
                </a:solidFill>
                <a:latin typeface="Verdana"/>
              </a:rPr>
              <a:t> </a:t>
            </a:r>
            <a:fld id="{B39F8615-12E7-4C1C-B047-205C0CEC37DD}"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14FA-9DDD-477F-8E0D-5B2486D0F49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D215-6ECA-4D95-86BB-13BD407155F9}" type="datetime">
              <a:rPr b="0" lang="en-US" sz="1200" spc="-1" strike="noStrike">
                <a:solidFill>
                  <a:srgbClr val="ffffff"/>
                </a:solidFill>
                <a:latin typeface="Verdana"/>
              </a:rPr>
              <a:t>07/29/26</a:t>
            </a:fld>
            <a:r>
              <a:rPr b="0" lang="en-US" sz="1200" spc="-1" strike="noStrike">
                <a:solidFill>
                  <a:srgbClr val="ffffff"/>
                </a:solidFill>
                <a:latin typeface="Verdana"/>
              </a:rPr>
              <a:t> </a:t>
            </a:r>
            <a:fld id="{9770DCBB-EB3C-48A1-896F-CBF11C9AC532}"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51E8-2B1C-4494-8B0E-9861AADB5FD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0556-0939-4569-B7CC-7D35F21FE1CB}" type="datetime">
              <a:rPr b="0" lang="en-US" sz="1200" spc="-1" strike="noStrike">
                <a:solidFill>
                  <a:srgbClr val="ffffff"/>
                </a:solidFill>
                <a:latin typeface="Verdana"/>
              </a:rPr>
              <a:t>07/29/26</a:t>
            </a:fld>
            <a:r>
              <a:rPr b="0" lang="en-US" sz="1200" spc="-1" strike="noStrike">
                <a:solidFill>
                  <a:srgbClr val="ffffff"/>
                </a:solidFill>
                <a:latin typeface="Verdana"/>
              </a:rPr>
              <a:t> </a:t>
            </a:r>
            <a:fld id="{9A701802-9B75-405C-A3C4-F49B911856EE}"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D656-38CC-4E3B-A012-69E733C7607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90E61-0AA0-4098-A17B-11E5D986B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4BB48-5A6C-44A1-BDCE-F31EC7D47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C6214-4545-4C35-A8B9-0AC4DD668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FF252-AE8B-4187-AAEE-500036C2C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25A72-C772-4A2C-94AB-21CFA2588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FCDAB-85C0-4B1A-8181-10FF19C12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5D05A-8CD3-49DC-A48F-7D738ECDB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083DD-9C39-431A-B518-D69A22161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36B6C-DA64-4DD6-8D69-D1A84D056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C7B2F-1DD9-4376-9F31-777027C35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10025-DB84-46DD-A1FD-F02FDAB7C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0D63B-D10C-4EF8-8FA9-C20737B3E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4DE61-2610-40A2-A2E9-2448B8884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148DA-A8D9-4C0E-ACEA-77400DD15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C93D8-C9A1-4DB9-B509-DF9795BF0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493BE-2D61-4EFC-B519-152ED4D3D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D982D-70D6-4DCF-BB21-D3324EBAB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AE455-AE98-4E43-86BB-E2924FE11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F4D23-C967-4BE2-B64F-A0FC6B265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9A5F5-EB6A-4EA0-89C7-B880B3C6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7F76E-4ED2-4027-A340-1352E2FF0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8F14-4B11-475D-A0A6-EE53C4232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5433A-B7A9-44D4-9B69-4E8D19329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076DD-84FC-4093-8C71-AC0A8A379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DDA8-D886-4274-804D-F7F1052ABA1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9267-C6A6-41B3-B264-4EBE3B4A2AF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1111-6DF9-43FE-95F9-CC2125DFB803}"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