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0E12-8175-4B4F-BC5B-EBDB0A2B4CD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B781-43E8-4AAC-8C8E-419F53C731D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04D37-70DB-4B4E-8EBC-B49CDA4CEC57}" type="datetime">
              <a:rPr b="0" lang="en-US" sz="1200" spc="-1" strike="noStrike">
                <a:solidFill>
                  <a:srgbClr val="ffffff"/>
                </a:solidFill>
                <a:latin typeface="Verdana"/>
              </a:rPr>
              <a:t>07/30/26</a:t>
            </a:fld>
            <a:r>
              <a:rPr b="0" lang="en-US" sz="1200" spc="-1" strike="noStrike">
                <a:solidFill>
                  <a:srgbClr val="ffffff"/>
                </a:solidFill>
                <a:latin typeface="Verdana"/>
              </a:rPr>
              <a:t> </a:t>
            </a:r>
            <a:fld id="{D390E870-94BD-49E0-9BF6-94AA16249598}"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F3B7-D2FA-40CD-9FBA-5D936DAAEEB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B0713-8C72-46A3-AD23-7283AD947A56}" type="datetime">
              <a:rPr b="0" lang="en-US" sz="1200" spc="-1" strike="noStrike">
                <a:solidFill>
                  <a:srgbClr val="ffffff"/>
                </a:solidFill>
                <a:latin typeface="Verdana"/>
              </a:rPr>
              <a:t>07/30/26</a:t>
            </a:fld>
            <a:r>
              <a:rPr b="0" lang="en-US" sz="1200" spc="-1" strike="noStrike">
                <a:solidFill>
                  <a:srgbClr val="ffffff"/>
                </a:solidFill>
                <a:latin typeface="Verdana"/>
              </a:rPr>
              <a:t> </a:t>
            </a:r>
            <a:fld id="{C7915A8E-B650-4075-B8B2-09F5BE9B5010}"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BFC9-44CC-4743-85AB-AB9AC237015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7D5C9-1013-4131-B353-855C54DA5BD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64A4-002B-4193-AEA3-B134BCB3DB36}" type="datetime">
              <a:rPr b="0" lang="en-US" sz="1200" spc="-1" strike="noStrike">
                <a:solidFill>
                  <a:srgbClr val="ffffff"/>
                </a:solidFill>
                <a:latin typeface="Verdana"/>
              </a:rPr>
              <a:t>07/30/26</a:t>
            </a:fld>
            <a:r>
              <a:rPr b="0" lang="en-US" sz="1200" spc="-1" strike="noStrike">
                <a:solidFill>
                  <a:srgbClr val="ffffff"/>
                </a:solidFill>
                <a:latin typeface="Verdana"/>
              </a:rPr>
              <a:t> </a:t>
            </a:r>
            <a:fld id="{F633FA99-2E60-4223-9A68-C548BFCB723D}"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C501-EFFB-4215-82BF-1293EB3F9E6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EFEB-D076-419E-87C0-7841DF870034}" type="datetime">
              <a:rPr b="0" lang="en-US" sz="1200" spc="-1" strike="noStrike">
                <a:solidFill>
                  <a:srgbClr val="ffffff"/>
                </a:solidFill>
                <a:latin typeface="Verdana"/>
              </a:rPr>
              <a:t>07/30/26</a:t>
            </a:fld>
            <a:r>
              <a:rPr b="0" lang="en-US" sz="1200" spc="-1" strike="noStrike">
                <a:solidFill>
                  <a:srgbClr val="ffffff"/>
                </a:solidFill>
                <a:latin typeface="Verdana"/>
              </a:rPr>
              <a:t> </a:t>
            </a:r>
            <a:fld id="{8A1803C3-73F2-4519-B59D-6E19C91AD768}"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F8B7-B20E-46EE-9165-F6E89431036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E3B0-D7F2-48E9-BBA9-CA50CC013346}" type="datetime">
              <a:rPr b="0" lang="en-US" sz="1200" spc="-1" strike="noStrike">
                <a:solidFill>
                  <a:srgbClr val="ffffff"/>
                </a:solidFill>
                <a:latin typeface="Verdana"/>
              </a:rPr>
              <a:t>07/30/26</a:t>
            </a:fld>
            <a:r>
              <a:rPr b="0" lang="en-US" sz="1200" spc="-1" strike="noStrike">
                <a:solidFill>
                  <a:srgbClr val="ffffff"/>
                </a:solidFill>
                <a:latin typeface="Verdana"/>
              </a:rPr>
              <a:t> </a:t>
            </a:r>
            <a:fld id="{5BB691BA-D102-4CC0-BB18-E8BC5992C6BA}"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F862-C86D-4E14-A4C6-084CF7D2221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BEF6-280A-441B-898C-EBFC497BD649}" type="datetime">
              <a:rPr b="0" lang="en-US" sz="1200" spc="-1" strike="noStrike">
                <a:solidFill>
                  <a:srgbClr val="ffffff"/>
                </a:solidFill>
                <a:latin typeface="Verdana"/>
              </a:rPr>
              <a:t>07/30/26</a:t>
            </a:fld>
            <a:r>
              <a:rPr b="0" lang="en-US" sz="1200" spc="-1" strike="noStrike">
                <a:solidFill>
                  <a:srgbClr val="ffffff"/>
                </a:solidFill>
                <a:latin typeface="Verdana"/>
              </a:rPr>
              <a:t> </a:t>
            </a:r>
            <a:fld id="{09390929-5E22-4959-B51E-1C1350DFC9B5}"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504B-3FBF-4221-A77B-FE43FF30CCB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FE2E-6D35-400A-99B9-7DA09E5C951D}" type="datetime">
              <a:rPr b="0" lang="en-US" sz="1200" spc="-1" strike="noStrike">
                <a:solidFill>
                  <a:srgbClr val="ffffff"/>
                </a:solidFill>
                <a:latin typeface="Verdana"/>
              </a:rPr>
              <a:t>07/30/26</a:t>
            </a:fld>
            <a:r>
              <a:rPr b="0" lang="en-US" sz="1200" spc="-1" strike="noStrike">
                <a:solidFill>
                  <a:srgbClr val="ffffff"/>
                </a:solidFill>
                <a:latin typeface="Verdana"/>
              </a:rPr>
              <a:t> </a:t>
            </a:r>
            <a:fld id="{70147BB9-8EDF-4971-BBD1-95094469E5BD}"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A82E-6BFB-4FCE-8A2C-3D95E1C8E0C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4F9F-912A-4FBD-AB1E-B32DF642F355}" type="datetime">
              <a:rPr b="0" lang="en-US" sz="1200" spc="-1" strike="noStrike">
                <a:solidFill>
                  <a:srgbClr val="ffffff"/>
                </a:solidFill>
                <a:latin typeface="Verdana"/>
              </a:rPr>
              <a:t>07/30/26</a:t>
            </a:fld>
            <a:r>
              <a:rPr b="0" lang="en-US" sz="1200" spc="-1" strike="noStrike">
                <a:solidFill>
                  <a:srgbClr val="ffffff"/>
                </a:solidFill>
                <a:latin typeface="Verdana"/>
              </a:rPr>
              <a:t> </a:t>
            </a:r>
            <a:fld id="{409A535C-AF22-42E7-9605-479604858A77}"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C4B6-44B9-4247-A347-1744B8C0744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71B5-5D78-4E1B-9306-1BF073DDC2D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E539-082E-4F1A-A7F5-790C2E6434F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981F-811C-4C6C-9C3B-5C282971E59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7EC42-3766-4D07-9F53-1B4786B804F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7B96-9305-4FF2-ADDB-A40508AC8E45}" type="datetime">
              <a:rPr b="0" lang="en-US" sz="1200" spc="-1" strike="noStrike">
                <a:solidFill>
                  <a:srgbClr val="ffffff"/>
                </a:solidFill>
                <a:latin typeface="Verdana"/>
              </a:rPr>
              <a:t>07/30/26</a:t>
            </a:fld>
            <a:r>
              <a:rPr b="0" lang="en-US" sz="1200" spc="-1" strike="noStrike">
                <a:solidFill>
                  <a:srgbClr val="ffffff"/>
                </a:solidFill>
                <a:latin typeface="Verdana"/>
              </a:rPr>
              <a:t> </a:t>
            </a:r>
            <a:fld id="{1935DE95-ACEB-45B3-8D44-16C9E7243211}"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3E57-979C-46E2-A494-A86255DA74D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F439-AFAA-4188-92C6-E5AC6F00DEE6}" type="datetime">
              <a:rPr b="0" lang="en-US" sz="1200" spc="-1" strike="noStrike">
                <a:solidFill>
                  <a:srgbClr val="ffffff"/>
                </a:solidFill>
                <a:latin typeface="Verdana"/>
              </a:rPr>
              <a:t>07/30/26</a:t>
            </a:fld>
            <a:r>
              <a:rPr b="0" lang="en-US" sz="1200" spc="-1" strike="noStrike">
                <a:solidFill>
                  <a:srgbClr val="ffffff"/>
                </a:solidFill>
                <a:latin typeface="Verdana"/>
              </a:rPr>
              <a:t> </a:t>
            </a:r>
            <a:fld id="{0FC28C49-F5B1-4567-B06C-D16AF1E39BC3}"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AC37-3459-44F2-85B5-99C8C46ED56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82D7A-A890-44E6-9E92-FE0C4AC77416}" type="datetime">
              <a:rPr b="0" lang="en-US" sz="1200" spc="-1" strike="noStrike">
                <a:solidFill>
                  <a:srgbClr val="ffffff"/>
                </a:solidFill>
                <a:latin typeface="Verdana"/>
              </a:rPr>
              <a:t>07/30/26</a:t>
            </a:fld>
            <a:r>
              <a:rPr b="0" lang="en-US" sz="1200" spc="-1" strike="noStrike">
                <a:solidFill>
                  <a:srgbClr val="ffffff"/>
                </a:solidFill>
                <a:latin typeface="Verdana"/>
              </a:rPr>
              <a:t> </a:t>
            </a:r>
            <a:fld id="{1643D6F2-13EB-48A0-9657-84CE3705CFD2}"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B838-86C2-4F36-81CE-5E544CBB2CE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FAF43-E254-42E0-BC46-8F4A84874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A51FE-B283-4CE0-A2E8-68F5A7AF2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F197A-68A0-48D5-954B-DC72F7C60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76C4F-033C-4E28-A117-F00FA3A8E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1356E-C783-432E-9201-FB4B1344B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842FB-F9CB-4FB4-9E44-1AEA69C68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0DA79-C4A2-4E62-9E7D-9AA6A8653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D1C93-F4ED-4D5D-A4AD-2B4E2600E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01F1D-0624-4CF5-9A64-5388F634A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E8A10-A32C-4680-87A5-CCA9274F6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DC833-E91D-43F6-9379-D50DE10A6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4932C-136E-4730-85DB-C44C1DFDB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F49A1-4F4D-4B53-BA4F-CA89BEDE5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E9117-A09D-4AF2-8654-BBC43A067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5612F-C35D-496D-9ADE-E1A495B2B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C9EAC-4F73-4D70-98C4-D30C8814B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F2757-915F-4CDA-816F-E1615DB29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74EC2-8333-4A83-A430-3D3D38EA9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83273-FA78-4FE5-B1A0-E221B395E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8C16B-BF76-4C6A-B964-E47886561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C8420-4268-44DE-8EB3-B89F9E94C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090D3-D112-4580-B64D-85327873C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42B4A-FC8D-48ED-861F-0F2EC87B7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02D22-A421-4439-BF5D-C9EA01B4B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5F50-1BC5-4B23-AFBE-68FA7FE6A1A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E28E-F698-4A6E-8078-B3CE710DF82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F889-ACB1-4E73-9C52-BD4C941950D2}"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