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F108-70F4-4E6D-911B-C851C1CCB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D665-C23A-464A-B398-3F078633C3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01CD-9DE1-451B-9452-236F56B8B0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34A4-4F3D-4965-8D21-2B63001B8B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FF8E-3667-400B-A0F2-7E757F6AD1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ED26-996D-44FF-9AD3-59A5BA9C70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8BF6-1EE5-4D58-B27B-49F447E8BF0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9AC7-5D25-42F3-84B1-2AD7A8C2343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Guli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0F97-8345-4A1D-A3BC-E0B1460689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9628-600A-4FC8-84DE-0453E97E68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0280" cy="3706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7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31B1-A8D4-4D1E-859F-7F6C686B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99FC-E69E-4BD3-BD1D-EACD888C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25ED-E6FF-48A3-A1E0-6B4B2FE4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905-32E2-4660-A766-EF9315B98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1F65-97C8-42B0-8F26-556F5A8F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6F01-65EB-45EC-8DA5-C98E9F8E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9C5C-0D53-4C45-B50A-1438BC3A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3819-AB85-43B2-8097-E993315E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1620-E1CE-4779-80ED-5D0248CA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BD6A-5C25-46D1-855B-1A8F9828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C71F-CA97-45DF-91CE-FC003F1C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43D7-D5BA-42DF-B3F0-370BFEE5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920" y="6453000"/>
            <a:ext cx="25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72360" y="6633720"/>
            <a:ext cx="252072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4A42-01A9-471F-8DE9-F2BD3F7CB4E3}" type="slidenum">
              <a:rPr b="0" lang="en-GB" sz="10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Timo.voipio@formin.f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4284720" y="0"/>
            <a:ext cx="48592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li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2009) 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uture work 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Timo Voi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FA-Fin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cc13"/>
                </a:solidFill>
                <a:uFillTx/>
                <a:latin typeface="Arial"/>
                <a:hlinkClick r:id="rId2"/>
              </a:rPr>
              <a:t>timo.voipio@formin.fi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/EU Part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Social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irobi 10-11 March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566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Millennium Development Goal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 Multi-dimensi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8ED8-2194-4491-9B62-598FD1A1EEAF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40FA-84AD-40D3-B10A-81466F03F42B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7"/>
          <p:cNvSpPr/>
          <p:nvPr/>
        </p:nvSpPr>
        <p:spPr>
          <a:xfrm>
            <a:off x="6084720" y="4941720"/>
            <a:ext cx="19432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067280" y="5516640"/>
            <a:ext cx="40338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10"/>
          <p:cNvSpPr/>
          <p:nvPr/>
        </p:nvSpPr>
        <p:spPr>
          <a:xfrm>
            <a:off x="4140360" y="6093000"/>
            <a:ext cx="2376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traight Connector 12"/>
          <p:cNvSpPr/>
          <p:nvPr/>
        </p:nvSpPr>
        <p:spPr>
          <a:xfrm>
            <a:off x="6659640" y="3141720"/>
            <a:ext cx="144144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traight Connector 13"/>
          <p:cNvSpPr/>
          <p:nvPr/>
        </p:nvSpPr>
        <p:spPr>
          <a:xfrm>
            <a:off x="3780000" y="1125360"/>
            <a:ext cx="216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E357-A754-40E4-87FC-1C25E62EC165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026"/>
          <p:cNvSpPr/>
          <p:nvPr/>
        </p:nvSpPr>
        <p:spPr>
          <a:xfrm>
            <a:off x="4572000" y="2743200"/>
            <a:ext cx="3657600" cy="3429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59284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EVELOPMENT and PovReduction ? 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growth + redistribution, if any...?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redistribution of opportunity...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L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N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All the other s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where poor people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029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030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031"/>
          <p:cNvSpPr/>
          <p:nvPr/>
        </p:nvSpPr>
        <p:spPr>
          <a:xfrm>
            <a:off x="5105520" y="3276720"/>
            <a:ext cx="2590560" cy="2438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032"/>
          <p:cNvSpPr/>
          <p:nvPr/>
        </p:nvSpPr>
        <p:spPr>
          <a:xfrm rot="13623600">
            <a:off x="6561720" y="3030840"/>
            <a:ext cx="1057320" cy="1611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33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034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35"/>
          <p:cNvSpPr/>
          <p:nvPr/>
        </p:nvSpPr>
        <p:spPr>
          <a:xfrm rot="19941000">
            <a:off x="5715000" y="31237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36"/>
          <p:cNvSpPr/>
          <p:nvPr/>
        </p:nvSpPr>
        <p:spPr>
          <a:xfrm rot="16048200">
            <a:off x="4952880" y="403848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037"/>
          <p:cNvSpPr/>
          <p:nvPr/>
        </p:nvSpPr>
        <p:spPr>
          <a:xfrm rot="6979200">
            <a:off x="7390440" y="4571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038"/>
          <p:cNvSpPr/>
          <p:nvPr/>
        </p:nvSpPr>
        <p:spPr>
          <a:xfrm rot="11289600">
            <a:off x="6019920" y="533340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039"/>
          <p:cNvSpPr/>
          <p:nvPr/>
        </p:nvSpPr>
        <p:spPr>
          <a:xfrm rot="2715000">
            <a:off x="6933600" y="342900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040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41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3203640" y="256536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23"/>
          <p:cNvSpPr/>
          <p:nvPr/>
        </p:nvSpPr>
        <p:spPr>
          <a:xfrm flipH="1">
            <a:off x="2916360" y="2997360"/>
            <a:ext cx="576000" cy="7128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25"/>
          <p:cNvSpPr/>
          <p:nvPr/>
        </p:nvSpPr>
        <p:spPr>
          <a:xfrm flipH="1" flipV="1">
            <a:off x="2123640" y="5300280"/>
            <a:ext cx="144360" cy="57636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P-strategies of Africa + POVN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unis, 27-30 June, 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DE97-7D53-487C-9272-F6792019EC96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2"/>
          <p:cNvSpPr/>
          <p:nvPr/>
        </p:nvSpPr>
        <p:spPr>
          <a:xfrm>
            <a:off x="3733920" y="2133720"/>
            <a:ext cx="5257800" cy="4419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6240" y="304920"/>
            <a:ext cx="64864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with trust and social protection, people dare to move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5029200" y="3124080"/>
            <a:ext cx="2590920" cy="2438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 rot="13623600">
            <a:off x="6543000" y="2446920"/>
            <a:ext cx="1595520" cy="2301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 rot="19941000">
            <a:off x="5022720" y="2133360"/>
            <a:ext cx="1432080" cy="1690560"/>
          </a:xfrm>
          <a:prstGeom prst="upArrow">
            <a:avLst>
              <a:gd name="adj1" fmla="val 50000"/>
              <a:gd name="adj2" fmla="val 2951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 rot="16048200">
            <a:off x="3986640" y="3395880"/>
            <a:ext cx="1305000" cy="1675080"/>
          </a:xfrm>
          <a:prstGeom prst="upArrow">
            <a:avLst>
              <a:gd name="adj1" fmla="val 50000"/>
              <a:gd name="adj2" fmla="val 3209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 rot="6979200">
            <a:off x="7299720" y="4137480"/>
            <a:ext cx="1493640" cy="1508400"/>
          </a:xfrm>
          <a:prstGeom prst="upArrow">
            <a:avLst>
              <a:gd name="adj1" fmla="val 50000"/>
              <a:gd name="adj2" fmla="val 25247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 rot="11289600">
            <a:off x="5616360" y="5365440"/>
            <a:ext cx="1617480" cy="1311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 rot="2715000">
            <a:off x="6927120" y="2481840"/>
            <a:ext cx="1339560" cy="1859040"/>
          </a:xfrm>
          <a:prstGeom prst="upArrow">
            <a:avLst>
              <a:gd name="adj1" fmla="val 50000"/>
              <a:gd name="adj2" fmla="val 34695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Straight Arrow Connector 21"/>
          <p:cNvCxnSpPr/>
          <p:nvPr/>
        </p:nvCxnSpPr>
        <p:spPr>
          <a:xfrm flipV="1">
            <a:off x="6515640" y="4005000"/>
            <a:ext cx="648360" cy="172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3" name="Straight Arrow Connector 22"/>
          <p:cNvCxnSpPr/>
          <p:nvPr/>
        </p:nvCxnSpPr>
        <p:spPr>
          <a:xfrm>
            <a:off x="5435640" y="2997360"/>
            <a:ext cx="1729440" cy="57636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4" name="Straight Arrow Connector 23"/>
          <p:cNvCxnSpPr/>
          <p:nvPr/>
        </p:nvCxnSpPr>
        <p:spPr>
          <a:xfrm flipH="1" flipV="1">
            <a:off x="5002920" y="4436280"/>
            <a:ext cx="1513800" cy="136908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5" name="Straight Arrow Connector 24"/>
          <p:cNvCxnSpPr/>
          <p:nvPr/>
        </p:nvCxnSpPr>
        <p:spPr>
          <a:xfrm flipV="1">
            <a:off x="5219280" y="3933360"/>
            <a:ext cx="1801080" cy="504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6" name="Straight Arrow Connector 30"/>
          <p:cNvCxnSpPr/>
          <p:nvPr/>
        </p:nvCxnSpPr>
        <p:spPr>
          <a:xfrm flipH="1" flipV="1">
            <a:off x="5002920" y="4365360"/>
            <a:ext cx="2233080" cy="28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sp>
        <p:nvSpPr>
          <p:cNvPr id="217" name="TextBox 33"/>
          <p:cNvSpPr/>
          <p:nvPr/>
        </p:nvSpPr>
        <p:spPr>
          <a:xfrm>
            <a:off x="6948360" y="189000"/>
            <a:ext cx="22622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African sm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er agric.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 potent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6 x larger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estic mar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an in overseas export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35"/>
          <p:cNvSpPr/>
          <p:nvPr/>
        </p:nvSpPr>
        <p:spPr>
          <a:xfrm>
            <a:off x="324000" y="263700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ny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0" y="5805360"/>
            <a:ext cx="58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namic structural change           from sector to s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traight Connector 38"/>
          <p:cNvSpPr/>
          <p:nvPr/>
        </p:nvSpPr>
        <p:spPr>
          <a:xfrm flipV="1">
            <a:off x="4647600" y="5157360"/>
            <a:ext cx="1003320" cy="862200"/>
          </a:xfrm>
          <a:prstGeom prst="line">
            <a:avLst/>
          </a:prstGeom>
          <a:ln w="38160">
            <a:solidFill>
              <a:srgbClr val="001b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7E0B-AEB3-4896-A959-25C88409FE2E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611280" y="5589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Credible Social Protection needed for poor people to be able to participate in and contribute to grow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>
            <a:off x="826920" y="2421000"/>
            <a:ext cx="180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BD26-9053-430E-9E74-5AF712E1A3F1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380988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403884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8"/>
          <p:cNvSpPr/>
          <p:nvPr/>
        </p:nvSpPr>
        <p:spPr>
          <a:xfrm>
            <a:off x="0" y="1268280"/>
            <a:ext cx="3348000" cy="39344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ECD-POVNE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cial Prote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Good for Pro-Po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BFCC-A5D5-48C4-8E93-398967F27F84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y Social Protection ?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280" y="1071720"/>
            <a:ext cx="4496040" cy="62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o-poor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s avoid shocks that derail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s innovation,    risk taking and entrepreneu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eracts irreversible asset deple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t accumulation + broadening tax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gregate demand in the economy/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572000" y="1071720"/>
            <a:ext cx="4572000" cy="67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Rights-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.22-28 UDH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DGs, basic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man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bal socio-economic ‘floor’ /’compact’ (minimum standard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cratic particip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inable dev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cycle and inter-generational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395280" y="609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+ Fastest way to achieve MD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5010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Universal Declaration of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Human Rights (1948)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341000"/>
            <a:ext cx="861084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Everyone, as a member of society, has the 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ocial security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” (Art 2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rk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 freely chosen...under just conditions and remuneration...and to join unions..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and to a decent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andard of living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7"/>
          <p:cNvSpPr/>
          <p:nvPr/>
        </p:nvSpPr>
        <p:spPr>
          <a:xfrm>
            <a:off x="5651640" y="2924280"/>
            <a:ext cx="33130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traight Connector 8"/>
          <p:cNvSpPr/>
          <p:nvPr/>
        </p:nvSpPr>
        <p:spPr>
          <a:xfrm>
            <a:off x="3564000" y="3645000"/>
            <a:ext cx="46800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2771640" y="0"/>
            <a:ext cx="70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traight Connector 8"/>
          <p:cNvSpPr/>
          <p:nvPr/>
        </p:nvSpPr>
        <p:spPr>
          <a:xfrm>
            <a:off x="4500720" y="476280"/>
            <a:ext cx="0" cy="6381720"/>
          </a:xfrm>
          <a:prstGeom prst="line">
            <a:avLst/>
          </a:prstGeom>
          <a:ln w="93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nor polic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Guidelines on:</a:t>
            </a: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PRO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  Cash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wth-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Inform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ord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-cycle ri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, HIV/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gile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change adap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Disaster Risk Reduc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5580000" y="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47d"/>
                </a:solidFill>
                <a:latin typeface="Bauhaus Hv BT"/>
              </a:rPr>
              <a:t>The ILO Campaign on Social Security and Coverage for 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-468360" y="1052640"/>
            <a:ext cx="10296720" cy="6408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189000"/>
            <a:ext cx="91440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Social Protection </a:t>
            </a:r>
            <a:r>
              <a:rPr b="1" lang="en-US" sz="4400" spc="-1" strike="noStrike" u="sng">
                <a:solidFill>
                  <a:srgbClr val="fae073"/>
                </a:solidFill>
                <a:uFillTx/>
                <a:latin typeface="Calibri"/>
                <a:ea typeface="Gulim"/>
              </a:rPr>
              <a:t>Floor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</a:t>
            </a:r>
            <a:r>
              <a:rPr b="1" lang="en-US" sz="4400" spc="-1" strike="noStrike">
                <a:solidFill>
                  <a:srgbClr val="fae073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towards higher level services and protection…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ey: Our Concept of Development and Progre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920" y="1341360"/>
            <a:ext cx="8642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uld we measure progress in terms of GDP  grow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in terms of numbers of women and men, young, old and disabled who have gain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decent jobs, sustainable livelihoods or reliable social prote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who are therefore able to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articipate as active citizens and economic actor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’transformative’ process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0920" y="155736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spcAft>
                <a:spcPts val="700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idelines on EMPOWERMENT and Pro-Poor Growth soon…(2009-20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 Making Green Growth Pro-Poor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Food Security/Access to Food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4) Social Protection Flo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Task Team 2011-1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oordinate with EU/AU + UN-SPF-I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olicy / social protection analytic capacity + staff training 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rotection statistics (DAC-cod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0" descr="pov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2916360" y="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</a:rPr>
              <a:t>POVNET WORK 2009-20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0" y="1557360"/>
            <a:ext cx="9144000" cy="58226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VING TOWARDS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t now to show DEMAND and require BUDGETS and ACTION by EUC/AUC + M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+ Network of EU and African Experts (+ POVNET + UN SocProtFloor Initiativ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ICSW Global Conference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Brasilia 16-19 July, 2006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Entry points for ICSW to promot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ocial Justice in PRS-proce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5E0B-E49A-49D2-887C-D861B8A47B5B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2578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NOM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876312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O-1992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IO-2012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stainable dev’t =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alanc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dev’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505320" y="990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419720" y="1523880"/>
            <a:ext cx="304560" cy="4114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 rot="5397000">
            <a:off x="4419360" y="-761760"/>
            <a:ext cx="304920" cy="4876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133720" y="182880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858000" y="175248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57200" y="556272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LOG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0" y="0"/>
            <a:ext cx="144360" cy="6858000"/>
          </a:xfrm>
          <a:prstGeom prst="rect">
            <a:avLst/>
          </a:prstGeom>
          <a:solidFill>
            <a:srgbClr val="88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450540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332000" y="544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-D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094800" y="530064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RI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6200" y="836640"/>
            <a:ext cx="84265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0"/>
            <a:ext cx="846144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ich Country Club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61 - 2011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C = ’Donor brainstorming forum’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 0,7% GDP, aid untying, ’ownership’, ’aid coordination’, ’aid harmonization’, (Paris/Acc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00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VNET = Poverty Network 1998 – 20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DERNET + ENVIRONET +  GOV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cid:image001.gif@01CB536A.B5658840"/>
          <p:cNvPicPr/>
          <p:nvPr/>
        </p:nvPicPr>
        <p:blipFill>
          <a:blip r:embed="rId1"/>
          <a:stretch/>
        </p:blipFill>
        <p:spPr>
          <a:xfrm>
            <a:off x="0" y="0"/>
            <a:ext cx="3203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3564000" y="1484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403280" y="6237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Poverty is context-specific, 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fae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…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Poverty is </a:t>
            </a:r>
            <a:r>
              <a:rPr b="1" lang="en-US" sz="3600" spc="-1" strike="noStrike" u="sng">
                <a:solidFill>
                  <a:srgbClr val="00247d"/>
                </a:solidFill>
                <a:uFillTx/>
                <a:latin typeface="Arial"/>
                <a:ea typeface="Arial Unicode MS"/>
              </a:rPr>
              <a:t>multi-dimensional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 (OEC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352680" y="838080"/>
            <a:ext cx="259092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ROTECTIVE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sk, vulnerability             social protection / social risk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238880" y="2208240"/>
            <a:ext cx="1905120" cy="1738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OLITIC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ghts        freedoms        voice &amp;     infl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791320" y="5049720"/>
            <a:ext cx="182880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SOCIO-CULTUR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status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espect, dig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2208240"/>
            <a:ext cx="198144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CONOMIC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consump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income            as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600200" y="5035680"/>
            <a:ext cx="1695600" cy="1592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ealth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duca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unger, th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733920" y="2743200"/>
            <a:ext cx="167616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GENDER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NVIRON-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1371600" y="1219320"/>
            <a:ext cx="182880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5943600" y="1219320"/>
            <a:ext cx="1905120" cy="91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3444840" y="572616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1219320" y="3429000"/>
            <a:ext cx="1044360" cy="14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2286000" y="24382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6773760" y="3771720"/>
            <a:ext cx="1046160" cy="1143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257800" y="2362320"/>
            <a:ext cx="1022400" cy="2562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V="1">
            <a:off x="2849400" y="2286000"/>
            <a:ext cx="1036800" cy="2689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V="1">
            <a:off x="3352680" y="3349440"/>
            <a:ext cx="3587760" cy="1795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 flipV="1">
            <a:off x="2133720" y="3192120"/>
            <a:ext cx="3527280" cy="1839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ähän maapallo ja  laps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ctr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beleni - Future - Tulevaisu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http://www.unbotswana.org.bw/img/photo/system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Oval 4"/>
          <p:cNvSpPr/>
          <p:nvPr/>
        </p:nvSpPr>
        <p:spPr>
          <a:xfrm>
            <a:off x="3857760" y="4000680"/>
            <a:ext cx="642960" cy="264312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2000 – Millennium Declarati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and MD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429080" y="607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s. Tarja  Halonen, President of Fin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hair of the Millennium Sum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859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1:51:28Z</dcterms:created>
  <dc:creator>kilpiha</dc:creator>
  <dc:description/>
  <dc:language>en-US</dc:language>
  <cp:lastModifiedBy>Timo Voipio</cp:lastModifiedBy>
  <dcterms:modified xsi:type="dcterms:W3CDTF">2011-03-10T09:29:51Z</dcterms:modified>
  <cp:revision>499</cp:revision>
  <dc:subject/>
  <dc:title>COMMUNCATION Ministry for Foreign Affairs Fin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dditional information">
    <vt:lpwstr/>
  </property>
  <property fmtid="{D5CDD505-2E9C-101B-9397-08002B2CF9AE}" pid="3" name="Creator">
    <vt:lpwstr/>
  </property>
  <property fmtid="{D5CDD505-2E9C-101B-9397-08002B2CF9AE}" pid="4" name="Date">
    <vt:lpwstr>2009-02-17T00:00:00Z</vt:lpwstr>
  </property>
  <property fmtid="{D5CDD505-2E9C-101B-9397-08002B2CF9AE}" pid="5" name="Unit">
    <vt:lpwstr/>
  </property>
</Properties>
</file>