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6FD6-9598-431C-B1B8-28853700245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6CC0-1BCA-4D5C-A657-8C986A09D7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5B4E-0434-40D7-B06D-6CA4AA0F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5084-5129-4787-A585-C8DCDCFF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50B9-3FDE-4BEF-AB18-BD061DBC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7D52-3886-467D-82EA-05E18E18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6592-D58B-4B77-A267-7831E6B6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876-10E7-4F79-94EB-C0F9C7D9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167B-8029-4088-A529-7189123C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7475-0608-437E-A73A-4F974E9C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9E60-E717-4649-9AD2-BBA4D6EC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5A72-C166-492B-8FF8-542A3046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4859-B3EA-4D97-85B9-812E39CC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E42-BDC8-4279-B3A0-CC0D6C23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EA20-62F7-424E-94BC-15213BEC32E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CSOs’ Experiences in Social 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AUC/AU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Pan Afric Hotel, Nairo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10-11  March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Tavengwa M Nh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Africa Platform for Social 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757224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AP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Africa Platform for Social Protection (APSP) was established by a group of national and regional organisations from across the African continent as a response to the growing demand for “voice” and more active engagement of African civil society in the shaping of Social Protection policies, programmes, and practices in Africa. It is a network of individuals and organizations operating at national and regional levels, with a commitment to promoting and strengthening the social contract between states and citize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xperiences of CSO’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ing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grassroots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organised groups and registered locally or na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big national/regional organis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large international NGO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ation looks at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made huge contributions to raising awareness on Social Prot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efforts to generate evidence through pilots, reviews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training/capacity building of those in government and the NGO’s (e.g. EPRI cour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funded and supported programmes on 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Franchophone West Africa has not had the same level of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O’s – national level and grassroots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remained out of the wider action on Social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not managed to push the demand for SP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not engaged with the policy  dialogue at the local and national governm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ue the contributions of the CSO’s and involve them (donors, govts, UN, AU, REC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and along governments since their ownership of programmes will ensure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collaborate -not compete/duplicat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smaller organisations as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grassroots organisations to increase demand of SP from the bot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 Franchophone Africa i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ernment action and buy in                     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7286760" y="20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Up Arrow 6"/>
          <p:cNvSpPr/>
          <p:nvPr/>
        </p:nvSpPr>
        <p:spPr>
          <a:xfrm>
            <a:off x="7358040" y="428616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650088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44:29Z</dcterms:created>
  <dc:creator>user</dc:creator>
  <dc:description/>
  <dc:language>en-US</dc:language>
  <cp:lastModifiedBy>tnhongo</cp:lastModifiedBy>
  <dcterms:modified xsi:type="dcterms:W3CDTF">2011-03-09T18:16:16Z</dcterms:modified>
  <cp:revision>51</cp:revision>
  <dc:subject/>
  <dc:title>KENYA PLATFORM ON SOCIAL PROTECTION  STRATEGIC PLAN WORKSHOP 25TH -26TH JANUARY 2011  PANAFRIC HOTEL, NAIROBI.</dc:title>
</cp:coreProperties>
</file>