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CB89-1615-4088-8F68-9D32C391289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46C2-3FCD-4C20-8C8E-C719D9B6298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EF11-2DC3-4779-9362-00C76CC5A2C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1765-46A9-4C0C-A3DB-CA3A53B52E2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BD21-5A78-469B-9902-85AC548601E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CA50-F43E-4D17-B250-283AB903C5C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B47C-19DA-49E7-9C85-13FD9A671D3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FE17-1FF5-435A-9C96-564DD3B6A16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C007-F06D-47B2-97CE-253DE2E61D1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AD99-DC09-44C9-A8CF-EE0C6E01C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B85D-8221-4253-B270-5AFDD44D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EDE9-3F36-4109-9D4C-A300628F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D22E-C329-4028-92EC-DD5C66AA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D70E-4459-407F-932F-1304E6F5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2492-1E30-46F8-B50D-6E93BB5D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7A1B-262D-4E5F-B157-1AA81245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76BB-24AF-4A51-BB0D-E878C8E4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66E2-2C58-4AC7-A552-39697D72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E970-945B-415E-B498-8A2CA969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2CC5-0518-46E9-90B9-5FD00F16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604C-0035-4AD2-85C7-00F7B12F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6B56-8C1D-4C6D-9DE0-79F9E08E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F0C0-C5DA-4F7A-BE57-4299020F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EA5C-7270-4FA2-A037-414ADC4C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DC72-CD2F-430A-AE7B-D69EB442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8343-5B09-4E93-A1B1-E584E0C1F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B883-DAE9-4669-86AB-00813FC5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3531-9AC7-45B3-9062-CC0F0B40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F66D-D083-4338-8A44-0EA558DD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2AEF-A49A-458C-A024-AD4C82FF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5625-2ED7-4737-8B54-5E2DDD83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2939-87EF-4919-AD99-ED61F784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79B3-E53E-4E4F-99AB-E83886FE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7116-4488-4AA5-B8D4-3866C2110B62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7DE2-2C63-4EEC-B9A9-68C9583C51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4044-03AC-4F1E-8BBB-B763C139DF3F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B017-3722-419D-8ADE-AE0C65E096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frica-eu-partnership.org/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BD41-3361-4252-9E71-9EFBFACE13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EMPLOYMENT, SOCIAL PROTECTION AND DECENT WORK </a:t>
            </a:r>
            <a:br>
              <a:rPr sz="1800"/>
            </a:br>
            <a:r>
              <a:rPr b="0" i="1" lang="en-IE" sz="1800" spc="-1" strike="noStrike">
                <a:solidFill>
                  <a:srgbClr val="ffff00"/>
                </a:solidFill>
                <a:latin typeface="Tahoma"/>
              </a:rPr>
              <a:t>Outcomes from Workshop in Dakar</a:t>
            </a: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1800"/>
            </a:b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30 June-2 July 2011</a:t>
            </a:r>
            <a:br>
              <a:rPr sz="1800"/>
            </a:br>
            <a:br>
              <a:rPr sz="2400"/>
            </a:br>
            <a:r>
              <a:rPr b="0" lang="en-IE" sz="2400" spc="-1" strike="noStrike">
                <a:solidFill>
                  <a:srgbClr val="b2b2b2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62160" y="3124080"/>
            <a:ext cx="4800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D’Agostino Ogend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European Commiss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DG EuropeAid</a:t>
            </a: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Brussel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These recommendations/conclusions  were used as important inputs for the 3 activities identified in 2nd action plan of the joint Africa-EU Strategy - adopted in 3rd Africa-EU Summit in November 2010.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411D-13B9-4417-9CD8-F6086D281E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AA0D-7DBE-4AC4-BFA7-AAAC818577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 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gy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 i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www.africa-eu-partnership.or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B9F5-5CF3-456F-99C4-662C4A549C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Purpose of the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Sharing experience and knowledge in the field of employment, social protection and decent work in African and European countries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Stimulate debate and discussion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and creation of networks/working groups in areas of common interest between interested EU and African countries and stakeholders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DEE5-342D-4E59-A5D1-25AB09CBCD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Overall conclusions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The fundamental role of employment, social protection and social dialogue in achieving sustainable and balanced economic growth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ortance and potential of the informal economy in the development of African countrie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cessary involvement of governments, non-state actors and, in particular, of social partners, as well as of international organisation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4040-9995-48D6-9837-F1DA4D3110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Overall conclusions </a:t>
            </a: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continue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7760" y="220932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oted the existence of a satisfactory framework both political as well as sectoral policies which will serve as the framework for action (EU-Africa Strategy, AU SPF etc...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ed to improve the strategic framework for  mobilizing  resources for sustainable reforms at  local, public and private level, as well as predictable and long-term external resource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F105-5CF6-4B1B-9CCF-985ADF7B5B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Specific conclusions from working group on social protec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took note of the AU Social Policy Framework and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supported its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“comprehensive social policy vision”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 and the need of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lementing it at regional, sub-regional and national level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The working group (on SP) will support the development of national Social Protection </a:t>
            </a:r>
            <a:r>
              <a:rPr b="0" lang="fi-FI" sz="2000" spc="-1" strike="noStrike" u="sng">
                <a:solidFill>
                  <a:srgbClr val="ffff00"/>
                </a:solidFill>
                <a:uFillTx/>
                <a:latin typeface="Tahoma"/>
              </a:rPr>
              <a:t>systems</a:t>
            </a: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 as one of the important elements of AU-SPF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EF4A-1801-49C1-8FC0-7971F367C3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The strengthening of national social protection systems should start by analyzing and improving existing social protection arrangements, and complementing them with new ones to reach those not covered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CDE0-1713-4D54-95BE-A8474DC693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Knowledge management and analytic capacity within the government on SP are key in building national SP-systems, and should therefore be supported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07AD-351C-4233-A751-8E2D897276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7760" y="1676520"/>
            <a:ext cx="5715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The  need to support capacity building of relevant ministries, authorities such a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Ministries of Finance, National Planning Commissions, Social Affairs, Labour, and other ministries and local authorities involved in the implementation of social protection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and other relevant stakeholders, including social partners and civil society.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E107-B2EF-4CC1-A570-DB539A2C4C8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V 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the (informal) working group on social protection should continue as part of the Informal Joint Expert Group within MME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social protection should be prioritized within the Africa-EU cooperation, in particular within the framework of the Joint Africa-EU Strate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07:59:50Z</dcterms:modified>
  <cp:revision>46</cp:revision>
  <dc:subject/>
  <dc:title>PowerPoint Presentation</dc:title>
</cp:coreProperties>
</file>