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embeddings/oleObject1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63546-1170-4E2E-AF6E-1E25BC826EC2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Dia számának hely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54299-6B82-4A10-93C5-7CC7E23D0122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Dia számának hely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FABE8-7DD2-4C06-B0EF-5673C5092D67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Dia számának hely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5933D-3C97-4738-AF41-03879620DE64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Dia számának hely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0375B-F018-4703-BBD4-4A6B851BC543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Dia számának hely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B6572-DBEE-4C45-9323-6B2281B8F189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Dia számának hely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080BC-5558-462E-892B-87FA8E950793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Dia számának hely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EF627-8DA5-4C76-AFC5-4DD73BC0A2D8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Dia számának hely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ECC64-AB09-4C41-9B72-CF2352AEADD2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38635-8833-40C3-A5A5-A74457F9C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57150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047760" y="3921120"/>
            <a:ext cx="57150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D2AFD-ADC2-4EE1-B335-49B14D831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04776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97600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BDCE9-DF44-46FD-A536-CC276D443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980240" y="220968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912360" y="220968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047760" y="392112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980240" y="392112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912360" y="392112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B98EF-0987-49B4-A0C3-7AC856958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FA4FC-6DFC-4E7F-BC1B-F6C33E13D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409A3-4614-4312-8BE4-2DC335272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0AA59-A02E-402F-B048-B1D3697DC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3C38D-9BA9-4C59-A4F8-00BAAC457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E3326-BCC2-4DB2-9358-B210C15A8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440" y="837720"/>
            <a:ext cx="807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A09F2-AF3E-4D72-89A5-D46F66F0D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04776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E667D-3203-46E3-8362-9DF09DD47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50122-C25A-4885-842A-BAF44F73B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97600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3F109-BBF0-4817-98FE-9E38337B1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47760" y="3921120"/>
            <a:ext cx="57150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69234-8147-4116-A2D2-FFC8536B9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57150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47760" y="3921120"/>
            <a:ext cx="57150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A2126-D5F6-4F13-BDBB-2CEE24CBD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04776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97600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C9AFA-11B2-4A68-BD04-E082DEE23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80240" y="220968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912360" y="220968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047760" y="392112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4980240" y="392112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912360" y="392112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7D441-D701-4A61-AB01-EAED36235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41B61-5306-4042-AE70-9D70067C2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CE6C3-ECB9-44F9-8817-77A414572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4C917-4C32-41F9-849D-B11697487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440" y="837720"/>
            <a:ext cx="807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C5DC0-00E5-45FC-AA9B-E76478502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04776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4685A-EB3C-4765-9F9F-5935DCC3B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97600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4018D-1923-44FF-969B-5B64BA055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047760" y="3921120"/>
            <a:ext cx="57150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67E7D-0A8C-497B-946A-FB4EC47C0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1" marL="660960" indent="-254160">
              <a:spcBef>
                <a:spcPts val="700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2" marL="1017000" indent="-20340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3" marL="1424160" indent="-203400">
              <a:spcBef>
                <a:spcPts val="700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4" marL="1830960" indent="-203400">
              <a:spcBef>
                <a:spcPts val="700"/>
              </a:spcBef>
              <a:buClr>
                <a:srgbClr val="ffff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5" marL="1830960" indent="-2034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6" marL="1830960" indent="-2034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E39C6-55BB-445B-9A74-044D183259C3}" type="datetime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A3507-B2AD-4938-B836-60EA6931FE1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" name="Picture 19" descr="banner_en"/>
          <p:cNvPicPr/>
          <p:nvPr/>
        </p:nvPicPr>
        <p:blipFill>
          <a:blip r:embed="rId2"/>
          <a:stretch/>
        </p:blipFill>
        <p:spPr>
          <a:xfrm>
            <a:off x="3048120" y="5578560"/>
            <a:ext cx="5715000" cy="593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" name="Object 24"/>
          <p:cNvGraphicFramePr/>
          <p:nvPr/>
        </p:nvGraphicFramePr>
        <p:xfrm>
          <a:off x="662040" y="4562640"/>
          <a:ext cx="2157480" cy="1609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" name="Object 2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62040" y="4562640"/>
                    <a:ext cx="2157480" cy="160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7" descr="banner_en"/>
          <p:cNvPicPr/>
          <p:nvPr/>
        </p:nvPicPr>
        <p:blipFill>
          <a:blip r:embed="rId2"/>
          <a:stretch/>
        </p:blipFill>
        <p:spPr>
          <a:xfrm>
            <a:off x="685800" y="457200"/>
            <a:ext cx="5715000" cy="593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8"/>
          <p:cNvGraphicFramePr/>
          <p:nvPr/>
        </p:nvGraphicFramePr>
        <p:xfrm>
          <a:off x="662040" y="3733920"/>
          <a:ext cx="2919240" cy="217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6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62040" y="3733920"/>
                    <a:ext cx="2919240" cy="217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1" marL="660960" indent="-254160">
              <a:spcBef>
                <a:spcPts val="700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2" marL="1017000" indent="-20340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3" marL="1424160" indent="-203400">
              <a:spcBef>
                <a:spcPts val="700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4" marL="1830960" indent="-203400">
              <a:spcBef>
                <a:spcPts val="700"/>
              </a:spcBef>
              <a:buClr>
                <a:srgbClr val="ffff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5" marL="1830960" indent="-2034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6" marL="1830960" indent="-2034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7335D-E8BF-4F5D-A290-9C4464039C02}" type="datetime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78406-7C85-4C44-A3D7-E8A9AC3127F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africa-eu-partnership.org/" TargetMode="External"/><Relationship Id="rId2" Type="http://schemas.openxmlformats.org/officeDocument/2006/relationships/hyperlink" Target="http://www.africa-eu-partnership.org/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C14CB-60DD-49E0-80D4-602626888BA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2133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ffff00"/>
                </a:solidFill>
                <a:latin typeface="Tahoma"/>
              </a:rPr>
              <a:t>EMPLOYMENT, SOCIAL PROTECTION AND DECENT WORK </a:t>
            </a:r>
            <a:br>
              <a:rPr sz="1800"/>
            </a:br>
            <a:r>
              <a:rPr b="0" i="1" lang="en-IE" sz="1800" spc="-1" strike="noStrike">
                <a:solidFill>
                  <a:srgbClr val="ffff00"/>
                </a:solidFill>
                <a:latin typeface="Tahoma"/>
              </a:rPr>
              <a:t>Outcomes from Workshop in Dakar</a:t>
            </a:r>
            <a:r>
              <a:rPr b="0" lang="en-IE" sz="1800" spc="-1" strike="noStrike">
                <a:solidFill>
                  <a:srgbClr val="ffff00"/>
                </a:solidFill>
                <a:latin typeface="Tahoma"/>
              </a:rPr>
              <a:t> </a:t>
            </a:r>
            <a:br>
              <a:rPr sz="1800"/>
            </a:br>
            <a:r>
              <a:rPr b="0" lang="en-IE" sz="1800" spc="-1" strike="noStrike">
                <a:solidFill>
                  <a:srgbClr val="ffff00"/>
                </a:solidFill>
                <a:latin typeface="Tahoma"/>
              </a:rPr>
              <a:t>30 June-2 July 2011</a:t>
            </a:r>
            <a:br>
              <a:rPr sz="1800"/>
            </a:br>
            <a:br>
              <a:rPr sz="2400"/>
            </a:br>
            <a:r>
              <a:rPr b="0" lang="en-IE" sz="2400" spc="-1" strike="noStrike">
                <a:solidFill>
                  <a:srgbClr val="b2b2b2"/>
                </a:solidFill>
                <a:latin typeface="Tahoma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3962160" y="3124080"/>
            <a:ext cx="480060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00"/>
                </a:solidFill>
                <a:latin typeface="Tahoma"/>
              </a:rPr>
              <a:t>Hjördis D’Agostino Ogendo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800" spc="-1" strike="noStrike">
                <a:solidFill>
                  <a:srgbClr val="ffff00"/>
                </a:solidFill>
                <a:latin typeface="Tahoma"/>
              </a:rPr>
              <a:t>European Commission 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800" spc="-1" strike="noStrike">
                <a:solidFill>
                  <a:srgbClr val="ffff00"/>
                </a:solidFill>
                <a:latin typeface="Tahoma"/>
              </a:rPr>
              <a:t>DG EuropeAid</a:t>
            </a:r>
            <a:r>
              <a:rPr b="0" i="1" lang="en-GB" sz="28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00"/>
                </a:solidFill>
                <a:latin typeface="Tahoma"/>
              </a:rPr>
              <a:t>Brussels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43000" y="762120"/>
            <a:ext cx="7391520" cy="304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r>
              <a:rPr b="0" lang="sv-SE" sz="2400" spc="-1" strike="noStrike">
                <a:solidFill>
                  <a:srgbClr val="ffff00"/>
                </a:solidFill>
                <a:latin typeface="Tahoma"/>
              </a:rPr>
              <a:t>These recommendations/conclusions  were used as important inputs for the 3 activities identified in 2nd action plan of the joint Africa-EU Strategy - adopted in 3rd Africa-EU Summit in November 2010.</a:t>
            </a:r>
            <a:r>
              <a:rPr b="0" lang="sv-SE" sz="2800" spc="-1" strike="noStrike">
                <a:solidFill>
                  <a:srgbClr val="ffff00"/>
                </a:solidFill>
                <a:latin typeface="Tahoma"/>
              </a:rPr>
              <a:t> 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A6A86-78B6-40FB-8640-7D055A231FD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EC804-8820-4B0F-B34D-A97493B4A92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ff00"/>
                </a:solidFill>
                <a:latin typeface="Tahoma"/>
              </a:rPr>
              <a:t>More information</a:t>
            </a: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 on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7760" y="2209320"/>
            <a:ext cx="57150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00"/>
                </a:solidFill>
                <a:latin typeface="Tahoma"/>
              </a:rPr>
              <a:t>Joint </a:t>
            </a:r>
            <a:r>
              <a:rPr b="0" lang="hu-HU" sz="3200" spc="-1" strike="noStrike">
                <a:solidFill>
                  <a:srgbClr val="ffff00"/>
                </a:solidFill>
                <a:latin typeface="Tahoma"/>
              </a:rPr>
              <a:t>Africa-EU Stra</a:t>
            </a:r>
            <a:r>
              <a:rPr b="0" lang="sv-SE" sz="3200" spc="-1" strike="noStrike">
                <a:solidFill>
                  <a:srgbClr val="ffff00"/>
                </a:solidFill>
                <a:latin typeface="Tahoma"/>
              </a:rPr>
              <a:t>t</a:t>
            </a:r>
            <a:r>
              <a:rPr b="0" lang="hu-HU" sz="3200" spc="-1" strike="noStrike">
                <a:solidFill>
                  <a:srgbClr val="ffff00"/>
                </a:solidFill>
                <a:latin typeface="Tahoma"/>
              </a:rPr>
              <a:t>egy</a:t>
            </a:r>
            <a:r>
              <a:rPr b="0" lang="sv-SE" sz="3200" spc="-1" strike="noStrike">
                <a:solidFill>
                  <a:srgbClr val="ffff00"/>
                </a:solidFill>
                <a:latin typeface="Tahoma"/>
              </a:rPr>
              <a:t> in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 u="sng">
                <a:solidFill>
                  <a:srgbClr val="ccccff"/>
                </a:solidFill>
                <a:uFillTx/>
                <a:latin typeface="Tahoma"/>
                <a:hlinkClick r:id="rId1"/>
              </a:rPr>
              <a:t>http://</a:t>
            </a:r>
            <a:r>
              <a:rPr b="0" lang="hu-HU" sz="2400" spc="-1" strike="noStrike" u="sng">
                <a:solidFill>
                  <a:srgbClr val="ccccff"/>
                </a:solidFill>
                <a:uFillTx/>
                <a:latin typeface="Tahoma"/>
                <a:hlinkClick r:id="rId2"/>
              </a:rPr>
              <a:t>www.africa-eu-partnership.org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D24E6-7FBF-4B7C-BD4B-E1CA8B867BC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Purpose of the Dakar workshop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7760" y="2209320"/>
            <a:ext cx="5715000" cy="31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Tahoma"/>
              </a:rPr>
              <a:t>Sharing experience and knowledge in the field of employment, social protection and decent work in African and European countries</a:t>
            </a:r>
            <a:endParaRPr b="0" lang="en-US" sz="18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ffff00"/>
                </a:solidFill>
                <a:latin typeface="Tahoma"/>
              </a:rPr>
              <a:t>Stimulate debate and discussion </a:t>
            </a:r>
            <a:endParaRPr b="0" lang="en-US" sz="18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ffff00"/>
                </a:solidFill>
                <a:latin typeface="Tahoma"/>
              </a:rPr>
              <a:t>and creation of networks/working groups in areas of common interest between interested EU and African countries and stakeholders </a:t>
            </a:r>
            <a:endParaRPr b="0" lang="en-US" sz="18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573EB-DCD7-4417-A022-5982B253826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Overall conclusions:</a:t>
            </a:r>
            <a:br>
              <a:rPr sz="3600"/>
            </a:b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3047760" y="1980720"/>
            <a:ext cx="57150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ahoma"/>
              </a:rPr>
              <a:t>The fundamental role of employment, social protection and social dialogue in achieving sustainable and balanced economic growth;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ahoma"/>
              </a:rPr>
              <a:t>Importance and potential of the informal economy in the development of African countries;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ahoma"/>
              </a:rPr>
              <a:t>Necessary involvement of governments, non-state actors and, in particular, of social partners, as well as of international organisations;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B6B4C-DEC0-4CF2-AD11-E12D5D4251D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62120" y="7617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800" spc="-1" strike="noStrike">
                <a:solidFill>
                  <a:srgbClr val="ffff00"/>
                </a:solidFill>
                <a:latin typeface="Tahoma"/>
              </a:rPr>
              <a:t>Overall conclusions </a:t>
            </a:r>
            <a:r>
              <a:rPr b="0" i="1" lang="sv-SE" sz="2000" spc="-1" strike="noStrike">
                <a:solidFill>
                  <a:srgbClr val="ffff00"/>
                </a:solidFill>
                <a:latin typeface="Tahoma"/>
              </a:rPr>
              <a:t>continue</a:t>
            </a: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:</a:t>
            </a:r>
            <a:br>
              <a:rPr sz="3600"/>
            </a:b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7760" y="2209320"/>
            <a:ext cx="57150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ahoma"/>
              </a:rPr>
              <a:t>Noted the existence of a satisfactory framework both political as well as sectoral policies which will serve as the framework for action (EU-Africa Strategy, AU SPF etc...)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ahoma"/>
              </a:rPr>
              <a:t>Need to improve the strategic framework for  mobilizing  resources for sustainable reforms at  local, public and private level, as well as predictable and long-term external resources.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5A56E-748D-4A80-A8DB-0E3A34787AD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Specific conclusions from working group on social protection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7760" y="2209680"/>
            <a:ext cx="57150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ahoma"/>
              </a:rPr>
              <a:t>We took note of the AU Social Policy Framework and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ahoma"/>
              </a:rPr>
              <a:t>We supported its </a:t>
            </a:r>
            <a:r>
              <a:rPr b="0" i="1" lang="en-GB" sz="2000" spc="-1" strike="noStrike">
                <a:solidFill>
                  <a:srgbClr val="ffff00"/>
                </a:solidFill>
                <a:latin typeface="Tahoma"/>
              </a:rPr>
              <a:t>“comprehensive social policy vision”</a:t>
            </a:r>
            <a:r>
              <a:rPr b="0" lang="en-GB" sz="2000" spc="-1" strike="noStrike">
                <a:solidFill>
                  <a:srgbClr val="ffff00"/>
                </a:solidFill>
                <a:latin typeface="Tahoma"/>
              </a:rPr>
              <a:t> and the need of 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ahoma"/>
              </a:rPr>
              <a:t>Implementing it at regional, sub-regional and national levels.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ffff00"/>
                </a:solidFill>
                <a:latin typeface="Tahoma"/>
              </a:rPr>
              <a:t>The working group (on SP) will support the development of national Social Protection </a:t>
            </a:r>
            <a:r>
              <a:rPr b="0" lang="fi-FI" sz="2000" spc="-1" strike="noStrike" u="sng">
                <a:solidFill>
                  <a:srgbClr val="ffff00"/>
                </a:solidFill>
                <a:uFillTx/>
                <a:latin typeface="Tahoma"/>
              </a:rPr>
              <a:t>systems</a:t>
            </a:r>
            <a:r>
              <a:rPr b="0" lang="fi-FI" sz="2000" spc="-1" strike="noStrike">
                <a:solidFill>
                  <a:srgbClr val="ffff00"/>
                </a:solidFill>
                <a:latin typeface="Tahoma"/>
              </a:rPr>
              <a:t> as one of the important elements of AU-SPF.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72984-EFC2-4C71-B3BA-893828865CC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Recommendations I</a:t>
            </a:r>
            <a:br>
              <a:rPr sz="3600"/>
            </a:b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from Dakar Workshop 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000" spc="-1" strike="noStrike">
                <a:solidFill>
                  <a:srgbClr val="ffff00"/>
                </a:solidFill>
                <a:latin typeface="Tahoma"/>
              </a:rPr>
              <a:t>We agreed that: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2000" spc="-1" strike="noStrike">
                <a:solidFill>
                  <a:srgbClr val="ffff00"/>
                </a:solidFill>
                <a:latin typeface="Tahoma"/>
              </a:rPr>
              <a:t>The strengthening of national social protection systems should start by analyzing and improving existing social protection arrangements, and complementing them with new ones to reach those not covered.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77CC6-2876-4930-B1D7-D866F0B6227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Recommendations II</a:t>
            </a:r>
            <a:br>
              <a:rPr sz="3600"/>
            </a:b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from Dakar Workshop 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000" spc="-1" strike="noStrike">
                <a:solidFill>
                  <a:srgbClr val="ffff00"/>
                </a:solidFill>
                <a:latin typeface="Tahoma"/>
              </a:rPr>
              <a:t>We agreed that: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Knowledge management and analytic capacity within the government on SP are key in building national SP-systems, and should therefore be supported;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7807F-5627-491C-B623-8AC5C7240FB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773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Recommendations III</a:t>
            </a:r>
            <a:br>
              <a:rPr sz="3600"/>
            </a:b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from Dakar Workshop 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7760" y="1676520"/>
            <a:ext cx="57150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The  need to support capacity building of relevant ministries, authorities such as 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Ministries of Finance, National Planning Commissions, Social Affairs, Labour, and other ministries and local authorities involved in the implementation of social protection 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and other relevant stakeholders, including social partners and civil society. 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AABDF-EF52-49FA-B154-023455AB99B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80773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Recommendations IV </a:t>
            </a:r>
            <a:br>
              <a:rPr sz="3600"/>
            </a:b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from Dakar Workshop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7760" y="1980720"/>
            <a:ext cx="57150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000" spc="-1" strike="noStrike">
                <a:solidFill>
                  <a:srgbClr val="ffff00"/>
                </a:solidFill>
                <a:latin typeface="Tahoma"/>
              </a:rPr>
              <a:t>We agreed that: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000" spc="-1" strike="noStrike">
                <a:solidFill>
                  <a:srgbClr val="ffff00"/>
                </a:solidFill>
                <a:latin typeface="Tahoma"/>
              </a:rPr>
              <a:t>the (informal) working group on social protection should continue as part of the Informal Joint Expert Group within MME;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2000" spc="-1" strike="noStrike">
                <a:solidFill>
                  <a:srgbClr val="ffff00"/>
                </a:solidFill>
                <a:latin typeface="Tahoma"/>
              </a:rPr>
              <a:t>social protection should be prioritized within the Africa-EU cooperation, in particular within the framework of the Joint Africa-EU Strategy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1T02:57:42Z</dcterms:created>
  <dc:creator>Christoph Raudonat</dc:creator>
  <dc:description/>
  <dc:language>en-US</dc:language>
  <cp:lastModifiedBy>aidco-sd-tech2</cp:lastModifiedBy>
  <dcterms:modified xsi:type="dcterms:W3CDTF">2011-03-31T07:59:50Z</dcterms:modified>
  <cp:revision>46</cp:revision>
  <dc:subject/>
  <dc:title>PowerPoint Presentation</dc:title>
</cp:coreProperties>
</file>