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33120" y="738360"/>
            <a:ext cx="4930920" cy="369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FDA3-056E-4504-9E29-D64E6DF1FBD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958B-A742-4166-B457-969A9D7DB6D1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65BF-795E-4C7C-B358-85DB89A5399E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Despite the lack of a coherent policy framework there are widespread actions: support to home grown reforms of SP systems, through Food Security program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8302-A797-4A5E-A448-77D3209E60D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11B8-AD67-4770-8A70-331D03ACA07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P: main interest around mig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Empl+SP only from 2010 and in 2nd 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akar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45D8-D6A8-4BF7-81DD-F77AC22326C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3959-A1C0-4B25-859D-3843D94ABF6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25AF-F125-4795-BEED-788C4DD1329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A2F8-0221-4950-9D11-5479A5238EE0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U has a long history of SP within Europe – there is a European Social Model even if there are major differences among national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EV POL: EU Consensus – empl+social cohesion as one of 9 priority areas of EU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009 OECD policy statement on the role of employment and social protection in making economic growth more pro-p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CE59-C68D-4F36-81CF-030AA0607811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Food Facility (2008 – social transf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MDG initiative (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97F8-03C8-42D9-B489-CEE9FA465AD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MDG Action Plan: support to wide-range coverage SP systems which are key element of social cohesion and st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59D7-8473-4B9C-9526-EE2BFB2F4E38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96A3-D8F3-4702-9CB6-A9070CE14B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DEFA-9FB2-46F2-BAC4-EBB6E80973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37B9-0DE4-4F32-ACFE-0383319117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D730-8B5B-406D-BD32-3B20C74A2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F6C1-CB07-4551-861B-9FF3C101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9DD0-CFA8-4F8E-BC0F-080952156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D7FB-2500-4722-9C81-0261CF424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DBA89-FCA7-4D85-BDC2-1066C1C3F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AF68-020B-4BFF-9881-6F8BC9F1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3EED-B3D5-4AE0-BE21-7CEE5536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D160-5901-4420-AFFA-0BDEBAC3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AD41-A404-4BAC-994D-D772337B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66418-2F11-4690-B7E6-5B6EE79E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D05E-1CD0-43DF-AE7D-369218A6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6E01-B99E-4AF4-8327-AC052F01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F23D-1588-4A4C-B281-A8514425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AC74-619D-4119-B746-CABF96C8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1366-82C1-46EC-A87F-D501CF9F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41729-2440-48DD-99F9-1E6823E50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610F-279E-4CDA-AD2E-BAEB2C5F6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78C7-B1A8-4295-BD73-05F39BBF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35E9-C355-4382-A3FA-34BCB965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B330-09D6-40F9-8D01-E9A92035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E942-9743-4FF8-AC69-331F7821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B880-2ED0-4EFB-B582-3F75441E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9E4B-D9F2-4E4A-99B7-8B3F788A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FBDD-5713-4782-900C-27D515EB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F796-7004-4996-AA61-95D0441AE5C0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FEB5-9336-416B-923F-7E6DD804CFC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5949-784C-4E5A-84A4-16BB464B5AAB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2DB9-F027-4DD9-9BC1-655363733ED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c.europa.eu/europeaid/what/social-protection/index_en.htm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hyperlink" Target="http://www.africa-eu-partnership.org/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8221-B006-4FE6-9791-C8AD63DB58F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EU-AU Workshop on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- in the 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informal economy</a:t>
            </a:r>
            <a:br>
              <a:rPr sz="3200"/>
            </a:br>
            <a:br>
              <a:rPr sz="3200"/>
            </a:b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Nairobi 10-11 March 2011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5E30-A158-47C4-9D53-BD9948E931D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EC is present in all regions – levels and means of cooperation / a demand driven and differentiated approach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Latin America: 40% of cooperation to social sector/social protec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4826-9EE2-4F6A-AD92-29D2C01AD4E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sia: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increasingly political dialogue but important bilateral cooperation support to social protection reform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Sector budget support to Kyrgyzstan, Tajikistan.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ghanistan, China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78C8-884E-4B16-9173-1549A707533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in Africa (country programmes)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Ethiopia: Productive Safety Net Programme (WB Trust Fund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Rwanda: comprehensive social protection programme through sector budget support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Lesotho, Zimbabwe: support to OVC (cash transfers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A022-A202-4E76-AF7D-CC06D3C0226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</a:t>
            </a: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frica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Joint Africa-EU Strategy  -  8 partnership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Peace &amp; Securit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Democratic Governance &amp; Human Right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Regional Economic Integration, Trade &amp; Infrastructur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DG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Climate Change &amp; Environ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Ener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igration, Mobility &amp; Employ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Science, Information Society &amp; Spac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7CE7-0D74-4594-B732-D5CE0E5F9B2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Partnership on </a:t>
            </a:r>
            <a:br>
              <a:rPr sz="3200"/>
            </a:b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Migration, Mobility and Employmen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7760" y="17521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12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5 migrat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employment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related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1 social protection initiative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(part of decent work initiative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higher education / student mobility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AE6C-682D-4166-A4A7-E4872A7544A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438280" y="1752480"/>
            <a:ext cx="64771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Decent work initiative –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AUC and EC will launch a project on extending SP in the informal economy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ing AU programme on upgrading the informal economy  and the Productiviy Agenda for Afric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05D1-EE13-429C-9DD5-1A706AC1403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7.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Labour market governance and capacity buildin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Strengthening institutional capacity of labour market institutions i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Target public employment services and labour adminstration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00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70B6-FC7F-4FBE-8435-F5ABBFA5C69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971800" y="1752480"/>
            <a:ext cx="5943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8. Regional ans sub-regional fora on employment, labour, social protection and labour migra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 harmonisation processes of labour market and social protection frameworks at regional levels, in cooperation with the REC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4BBF-88B3-4203-B4D1-481982DC274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Social Protection in EU coopera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ec.europa.eu/europeaid/what/social-protection/index_en.ht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gy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http://</a:t>
            </a:r>
            <a:r>
              <a:rPr b="0" lang="hu-HU" sz="20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www.africa-eu-partnership.or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9989-55C0-4FD6-87CB-2DC29B63B5A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600200" y="2514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00"/>
                </a:solidFill>
                <a:latin typeface="Tahoma"/>
              </a:rPr>
              <a:t>Thank you for your atten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86F8-1280-46AD-AB56-311CEA144C4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 in EU development cooperation and in EU-A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U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relation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E019-4D93-4F2C-8E13-C1918672C64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1. EU Political Context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2. Social protection from an EC perspectiv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343400" y="3962520"/>
            <a:ext cx="4114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3. EC support to social protection 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4. EU- Africa Strategy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3830-118C-4ED9-B893-C1D9A802AD4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U political contex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European Consensus for Development (2005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mmunication and Council Conclusions on ‘Promoting Decent Work for all (2006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Staff working paper on “Promoting Employment through EU Development Cooperation” (2007) and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uncil conclusions including on social protection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88CF-0D79-4425-AC36-9D91EFA07AF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2009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C</a:t>
            </a: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ommunication on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Supporting developing countries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in coping with the crisi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EU committed to support developing countries in their efforts in setting up or strengthening social protection systems and program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2009 and 2010 Ad hoc Vulnerable Flex mechanis</a:t>
            </a: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m</a:t>
            </a: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 / safeguard social spending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2010 Communication 12 point EU Action plan in support of the MD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AF45-83A7-4459-8FE2-A3DB2EB2E11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</a:t>
            </a: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U initiative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971440" y="19810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European Report on Development 2010 focuses on poverty, inequality, social protection in (primarily) sub-Sahara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EC Reference Document on Social Transfers in the fight against hunger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Social protection is a social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…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581280" y="2437920"/>
            <a:ext cx="55627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Promote social cohesion and stability – redistribution system as reducing inequaliti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Endorse a human rights approach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6AB3-4F47-4F6C-8FF0-095576B26094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581280" y="2286000"/>
            <a:ext cx="5562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b3b3b3"/>
                </a:solidFill>
                <a:latin typeface="Tahoma"/>
              </a:rPr>
              <a:t>chock absorber of crisis;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reduces poverty and supports pro-poor economic growth (impact on human development, access to education and health etc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social protection as a productive factor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490D-392A-407B-8AE5-5A47DE95CFED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ahoma"/>
              </a:rPr>
              <a:t>and an economic necessity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00"/>
                </a:solidFill>
                <a:latin typeface="Tahoma"/>
              </a:rPr>
              <a:t>Challenges for social protec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809520" y="2361960"/>
            <a:ext cx="5334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Raise awareness/evidence on the positive impacts of social protection</a:t>
            </a: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fordability – how to find fiscal space for social protection/home-grown, long term financially sustainably;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How to extend social protection for people in the informal economy/rural area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69EC-3617-49B3-9F46-991D26626A6C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14:56:36Z</dcterms:modified>
  <cp:revision>53</cp:revision>
  <dc:subject/>
  <dc:title>PowerPoint Presentation</dc:title>
</cp:coreProperties>
</file>