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89D8-4B41-4356-BA9E-C562E6427CC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0DD2-B5A1-4D5E-A199-6D5176A6A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6520-9B01-489D-A16D-2460B59F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97DC-3C44-4179-89E2-E15A1BBC1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7BBE-4F15-4AEF-B453-07F6CFD87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B963-F1EA-4D57-9ADB-7CAA4671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1C78-31AD-4DB1-A476-BD364AD4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F4D1-34A3-4A39-874E-C1A6E72B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3FFF-EEF6-45DB-B25E-1F026128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B03C-0103-4677-95EE-875C919F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6CF4-3C4E-441E-B070-E0529991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74D3-2DEF-4388-890F-AC61B592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739F-5061-4F1E-B83E-CCA74F1D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F9A6-6500-4F49-A2D1-61B5CCE0F2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Delegation of the European Union to Al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Economic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ing Sector Budget Support on Sanitation in Algeri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ey challe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PI REGIONAL WATER SEMINAR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MMAN 21-24 M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7821720" y="0"/>
            <a:ext cx="1328760" cy="933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891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Temporary resul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Better ownership and involvment through the national syste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stablishing a common platform for a policy dialogue between the line minis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better understanding of the financing modality (SB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trategic discussion from operational to policy level (Cabine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Understanding the rationale behind a logical framewor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sitive side effects on PFM wit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Succesful PEFA with participative approach and acceptation by the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oF of the weakn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A new EC programme (€ 5 mln) on a strategic reform of budget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ystem (minister level), crucial because public expenditure is the main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ource of growth in Al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..those results before disbursing the first tranch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Lessons lear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17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BS plays the role of cat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imulates policy dialogue: EC/Algerian partner and between line minis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pens new opportunities on PFM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etter ownership and effectiveness using national system (State budg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ot to be dogmatic but sector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oney is not the issue… but the strategic vision, level of dialogue and quality of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24000" y="40464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Arial"/>
              </a:rPr>
              <a:t>Context in Alg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95280" y="1258920"/>
            <a:ext cx="8209080" cy="62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 macroeconomic stability, huge reserve funds, repayment of external deb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conomy based on hydrocarb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dependant of external sh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losed economy (large state sector, including financial sector), limited impact of the financial crisis, move towards protectionist policies (Complementary financial law 2009-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has massive investment plan: USD 286 bn for the next 5 year Pl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ublic expenditures as the main source of growth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with marginal role for the private sector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, no incentive for re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Unusual context to promote budgetary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Problems with EU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not part of EC Neighbourhood Policy, but using Neighbourhood instru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Key policy context is the Association Agreement (signed in 2005), very controversial, institutional set-up exists (sub-committe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Development cooperation with EU covering all sectors, smaller amount than with Morocco and Tunisia (about 54 mio per year), instruments limited to technical assistance (twinning started in 200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imited absorption capacity leading to recoveries of old programmes, important cuts decided in the 2008 and 2009 programming (about 50 mio euro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litical stability: no real revolution expected until d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Challenges to implement the first S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budget support in a wealthy count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limited financial leverage on Algeria (20 mio for 286 b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critcism of some Member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mission is the only donor pushing for budget support, others not present or without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plexity of involving different ministries (Foreign Affairs, Finance,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Foreign Affairs is favorable but for the wrong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ack of understanding by Water ministry of the full contents and implications of sector budget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</a:rPr>
              <a:t>Not an easy start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in Algeri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imited absorption capacity for TA and important de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oblem of coordination: need for a common platform between line ministries (MRE, National Office on Sanitation, MoF, MAE, et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hy Algeria is the lone partner not benefitting from this financial modality (Marocco, Tunisia, Egypt, etc.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mprove ownership and deliver aid through national system (Aid effective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pgrade policy dialogue at a higher decisio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ligible criteria are met in this particular sect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ut is not systematic/dogmatic (Cf Transport II: sector not mature for S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Money is not the problem …but the strategic vision and quality of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Challenges in the WS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links between the ministries (Water and Fin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economic (cost/benefit analysis) approach in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ifficulties to evaluate and perform state programme on costly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ustainability of budget resources to cover the sanitation office (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management of Human Resources and level of training for the executive and middle management on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imited management and planning tools to organize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participation of users, or consu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on water and sani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key priority in the 5 years state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ntinuity in the EC programming (EAU I = 20 mln Eur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ly good institutional capacity in the Ministry and in the National Sanitation Off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olid legal framework (Water law 200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strategy exists although scattered, incomplete and not well formalised (Plan National de l’Eau, Schema Directeur de l’Ea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few donors in th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 but not on services and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water resources pilot for sector MT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Priorities of the SBS EAU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renghten a strategic integrated approach on sanitation in the water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cus on management and services (regulatory function) instead of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 management skills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lement mid term budget planning based on performance and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rove quality of water and impact on public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Hybrid SBS with TA (€30 ml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Budget sector support: €2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Validation of the national strategy and budget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With indicators focused on qualitative changes in the sanitation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Improved sanitation investments, including mainte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Key public finance management issues in the water sector (cost recovery for the Sanitation Office, performance audit, MTEF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Technical assistance: €1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Preparation of a strategic Sanitation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Technical training center for sanitation (national training cen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Specialised equipment for laboratories (Quality of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8:48:46Z</dcterms:created>
  <dc:creator>elstane</dc:creator>
  <dc:description/>
  <dc:language>en-US</dc:language>
  <cp:lastModifiedBy>philippe</cp:lastModifiedBy>
  <dcterms:modified xsi:type="dcterms:W3CDTF">2011-03-21T12:01:02Z</dcterms:modified>
  <cp:revision>268</cp:revision>
  <dc:subject/>
  <dc:title>Diapositive 1</dc:title>
</cp:coreProperties>
</file>