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D846F-9142-4AE6-B278-69A1C5286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C9917-14A7-4FB8-AD6B-0E8EA46E6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4EE0E-07E8-439C-AF89-61D6A8AD2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30D2B-DDF2-43F4-8BB8-FAFE3651B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463FF2-3570-4D77-8BB9-A643E802642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69BB0-D6D6-473F-81AB-59E4BDB2E2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B888DB-A371-4496-A276-87C5C9DB3B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A3DCD8-B21A-4068-8D95-E506885A50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B9E837-0E52-4ABD-9CF5-E04F693592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7CE9D6-44DF-4FD8-ACD1-01F6AB2FE0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BC613-FF6A-419B-9510-588F7F9421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3D6FC-3242-4A86-A335-407E24A48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50F693-B3F9-4464-9799-DFD6788F62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803DF-F6B5-4F22-AE04-092240576E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04C251-2619-41B9-99C3-3857D3E4D3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4F6295-D571-4B25-8F0C-9E938D980C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1B8681-5576-4A41-9BB9-C17EFC5280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83BF7-AAD7-43AD-A236-F16A52BB0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3C26-33A8-45D5-8250-C20A93DB6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EC0EB-9161-484D-BF53-9B864B5FD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ADBE2-1FA7-43DD-B5E6-0EEC16284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1838F-EBB5-4DC1-A218-9C36903DC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4016-E9CB-4D4C-9A1A-7BEB3C0D4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A184B-ABE8-47B6-8B5C-1D0E75379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DB1DFEF4-DBA3-4B4A-8B8F-A0D647E4841D}" type="datetime11">
              <a:rPr b="0" lang="en-US" sz="1400" spc="-1" strike="noStrike">
                <a:solidFill>
                  <a:srgbClr val="ffffff"/>
                </a:solidFill>
                <a:latin typeface="Times New Roman"/>
              </a:rPr>
              <a:t>17:51:3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141F-68E2-4930-8AFF-9CC5DF2CE8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2F44-17FF-4063-90CB-FD961B53D2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7381704A-8B3C-4D58-8D9D-7D2ADB5D3E86}" type="datetime11">
              <a:rPr b="0" lang="en-US" sz="1400" spc="-1" strike="noStrike">
                <a:solidFill>
                  <a:srgbClr val="ffffff"/>
                </a:solidFill>
                <a:latin typeface="Times New Roman"/>
              </a:rPr>
              <a:t>17:51:31</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8F17ADB-29DC-42AD-B7B9-E545EC2D86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AFAD2FA-8AD9-4AA0-B9DC-DA0340D0E8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F7C9D18-2E0C-49A1-B2DD-FA55137183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4E8FC52-04A8-4996-94E2-1641A88024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E0910D66-BEBE-4F6F-AB2D-25D8D7DF87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9C3855F-98F1-40D3-8D5B-C446B247B5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3CFF566-F9A4-4399-AD32-5BEEB29465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ED673DD-A2F8-4711-A8C7-29F8101D60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FE577BF8-D72C-4C1B-8166-A8D51FBA9C48}"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28035F4-E9A7-4795-82DB-B85B1C7EEB9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C447275-2202-43C7-9D0D-E157A09826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2B5BFFE-E5FF-488D-92B4-7EAE646049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1EC8426-DC8F-400F-8BA4-FF92115CE9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12A97BE-83B5-499F-ACED-92F1866574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59809D2-ABD2-4643-A298-01455649A9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183B96E-9EFC-4AE5-A72C-6360C929FA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7E8BDA2-4F4F-4417-82AE-5DE857032A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