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4E602-9B1C-4B5E-B8E5-68B4D16BD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117D6-04FD-4978-B68A-E9DCF16E3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3E892-DFDC-4192-810A-20FAFC78F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99E5F-5D78-4E65-8259-85630B7EE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E6A7CC-D6AD-4E57-9334-2AE927FDA54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A0A3D9-1CB6-4DE8-80E4-3ED62A911F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2195E-AC69-4EA7-ADD4-16E05515DF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20B22-38F5-4BE7-A1A1-EF80C9FDEF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0371D6-4705-478F-A66F-ECEF2DB040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E64F49-690D-42F1-BD3C-C4922D40C3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5E358-6726-46CD-BA89-14453CB472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09DD2-A812-4A9C-AA9D-6BEC3026C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D636A5-4BFB-4669-A6CA-3F3991BCCB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D9468-E97E-4C0E-A5BD-E3819AE699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8052F-39C4-4966-A406-56250BDBCF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AB302A-4FBD-4873-BCEF-DBCDD3A3F0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E3A979-7890-45E0-947C-955BE144E23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00921-D1F2-4290-BEF2-421CE78A6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5FFB1-5123-42B5-9268-5FFB7EF1B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51D9-A18C-42D3-8945-7FD12286D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09C34-5954-40AD-8627-60E504628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F0619-90F0-4893-8E12-B3ED4FA22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C90A-4600-4E6F-919C-9959DD1C0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3F98-51E9-454D-A682-BD58F36E9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AF0D4F04-4617-4319-84C6-38D2B11F295C}" type="datetime11">
              <a:rPr b="0" lang="en-US" sz="1400" spc="-1" strike="noStrike">
                <a:solidFill>
                  <a:srgbClr val="ffffff"/>
                </a:solidFill>
                <a:latin typeface="Times New Roman"/>
              </a:rPr>
              <a:t>17:52:1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7474-9013-4EC9-95AE-27BC54A80F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25A1-EBE3-47B5-8009-3CA6464B70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961C0A77-8309-4EBE-9065-724EC99265BC}" type="datetime11">
              <a:rPr b="0" lang="en-US" sz="1400" spc="-1" strike="noStrike">
                <a:solidFill>
                  <a:srgbClr val="ffffff"/>
                </a:solidFill>
                <a:latin typeface="Times New Roman"/>
              </a:rPr>
              <a:t>17:52:13</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5BF2911-EB34-4F86-AF5D-34EAC9A5E6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D48CA4B-5D85-4E29-8AB4-E4BB5F4C1D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E60A56D-4597-4304-A6D6-435D0D571E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7805429-C52A-4692-BEEB-BA872EFDE1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B0DBF5A8-F6E0-4D70-B5AA-08156ACC8B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E5E50B7-A312-4351-BA43-9A3CC1C244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024AC23-7CAB-426A-89AF-4662BAE2DB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DDA9973-FCBD-4953-A546-47114F4BCB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F11FB403-CF81-4ED9-8B9D-408216CAC55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96EFC8A-81E4-4ED1-BDBE-C0AECD793A3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4CE375E-C707-4680-8F6B-7296184225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A0E1DA3-90B2-4B73-9E1B-AC053E598D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10C731E-9339-4CCC-B4CE-309B94E4D2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6FE6815-1919-436B-92AE-78AD664335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3B41372-DF86-4F0C-A732-5D3B513421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B766C05-F321-4959-8C75-51E6547C6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DCD77D1-F281-44CE-A391-8DFD76D22E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