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3D7E-616D-4D85-B8E4-19F216586C34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29F7-2F89-4371-A3DF-325E26343D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EF90-DEA6-47C7-95D5-15327C2079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A540-AF96-4125-A8A5-0BD4FE9916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36DD-F085-4FF0-8CF2-AC43194568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6582-9144-43A4-AE1C-D18E4859D9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EBDE-D99B-4431-862D-4EA46AA9B2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D332-EE88-4066-A285-3C9E4F9073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BD22-8905-4DA8-9667-7165274407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1A1F-D903-4DA6-A6CC-2206C53BD3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5E24-4F20-4FBC-9F16-1AD85455EB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0833-CA8D-4984-A430-6F99142EFB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ica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a unit of measurement, used to describe a situation, monitor the evolution of a situation or measure achievements against an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measurement may be based on quantitative or qualitativ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ar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performance standard to be reached; the concrete translation of an objective, expressed by means of an indicator (possibly expressed against a baseline) associated with a point in time (by which the target is expected to be reach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key step in the process of developing or implementing a policy, programme o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adoption of a policy, law or regulation, establishment of a coordination structure, restructuring of an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lisation/completion of a milestone is a way of measuring progress towards an objective but it is not a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2B8A-17B5-47EA-BFCE-7C770901E1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9B09-4236-4147-9386-99710966B4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BAD7-F2AA-44F8-A8C4-8D94351B2D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1065-A350-4839-92B8-57DD5641D3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75DC-A30F-42A0-9EA0-8B0EE7E858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FC8B-7C0F-4B0E-92F8-D9BA964DCF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3930-CB4D-4356-9EF7-D44687BF43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AB23-638B-46BD-A873-35B8E640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6EFD-1C4E-45D3-92B2-99239B1F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AC5-0E07-44EB-A6FB-EF113727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3934-E7EF-4E2D-9194-5DE45CBD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0876-1CB4-4B3A-9741-A5D634AE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40DE-A32F-4EF8-869D-AFDC44EE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977D-B858-46A4-AE30-332E309F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D678-BA75-49BE-A833-67513B5F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DAAE-16F3-4D28-97EF-67FF2A26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71E1-6E30-4600-8094-AD3641F0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655D-446B-4457-A34F-36F5AD7E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57D-8EAD-45D2-8235-5A1D8BBB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57B2-4904-4E82-A654-B59C052C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3D3C-986C-4D42-BB2E-4C421E78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434C-40D0-4728-8188-57C9B317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72A1-089A-4561-A4A3-7A26A527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5D03-7712-43BA-A0EE-CEABE9D8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0E4-3496-422D-9109-7E2F6FA5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ED4-AFC6-442B-B111-56ABC128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A55-D375-43CB-A50D-158C5FB8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B65-CF0B-4E4D-85ED-EE7264E7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DC3E-797E-4692-A016-6159B932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45E-3C47-492A-9B1E-04CE1EE6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A4C4-A68F-4F45-AC51-353DA7A1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AA1A-757D-44D2-AF65-AA507C5A74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076D-70D1-4F82-833A-CB3CFFFB452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856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8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country 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nitoring system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3039-9DC0-4705-BE98-CF40A5F05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419640" y="3141720"/>
            <a:ext cx="2232000" cy="33732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Rounded Rectangular Callout 5"/>
          <p:cNvSpPr/>
          <p:nvPr/>
        </p:nvSpPr>
        <p:spPr>
          <a:xfrm>
            <a:off x="755640" y="1700280"/>
            <a:ext cx="1981080" cy="83988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cy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Rounded Rectangular Callout 6"/>
          <p:cNvSpPr/>
          <p:nvPr/>
        </p:nvSpPr>
        <p:spPr>
          <a:xfrm>
            <a:off x="6300720" y="170028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itutional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le 11"/>
          <p:cNvSpPr/>
          <p:nvPr/>
        </p:nvSpPr>
        <p:spPr>
          <a:xfrm>
            <a:off x="152280" y="2708280"/>
            <a:ext cx="3081600" cy="3692520"/>
          </a:xfrm>
          <a:custGeom>
            <a:avLst/>
            <a:gdLst>
              <a:gd name="textAreaLeft" fmla="*/ 150120 w 3081600"/>
              <a:gd name="textAreaRight" fmla="*/ 2931480 w 3081600"/>
              <a:gd name="textAreaTop" fmla="*/ 150120 h 3692520"/>
              <a:gd name="textAreaBottom" fmla="*/ 3542400 h 3692520"/>
            </a:gdLst>
            <a:ahLst/>
            <a:rect l="textAreaLeft" t="textAreaTop" r="textAreaRight" b="textAreaBottom"/>
            <a:pathLst>
              <a:path w="21600" h="25882">
                <a:moveTo>
                  <a:pt x="3600" y="0"/>
                </a:moveTo>
                <a:arcTo wR="3600" hR="3600" stAng="16200000" swAng="-5400000"/>
                <a:lnTo>
                  <a:pt x="0" y="22282"/>
                </a:lnTo>
                <a:arcTo wR="3600" hR="3600" stAng="10800000" swAng="-5400000"/>
                <a:lnTo>
                  <a:pt x="18000" y="258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tegration of environment/climate change considerations in national &amp; sector policies/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adaptation- &amp; mitigation-oriented policies &amp; plans (e.g. DRR, REDD </a:t>
            </a: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ateg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environment-specific policies &amp; plans (e.g. IWRM, biodiversit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le 12"/>
          <p:cNvSpPr/>
          <p:nvPr/>
        </p:nvSpPr>
        <p:spPr>
          <a:xfrm>
            <a:off x="5867280" y="2781360"/>
            <a:ext cx="2971800" cy="367344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673440"/>
              <a:gd name="textAreaBottom" fmla="*/ 3528360 h 3673440"/>
            </a:gdLst>
            <a:ahLst/>
            <a:rect l="textAreaLeft" t="textAreaTop" r="textAreaRight" b="textAreaBottom"/>
            <a:pathLst>
              <a:path w="21600" h="26699">
                <a:moveTo>
                  <a:pt x="3600" y="0"/>
                </a:moveTo>
                <a:arcTo wR="3600" hR="3600" stAng="16200000" swAng="-5400000"/>
                <a:lnTo>
                  <a:pt x="0" y="23099"/>
                </a:lnTo>
                <a:arcTo wR="3600" hR="3600" stAng="10800000" swAng="-5400000"/>
                <a:lnTo>
                  <a:pt x="18000" y="26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olitical leadership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stitutional commit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oordination &amp; participatory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ced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apacity building program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Cloud Callout 8"/>
          <p:cNvSpPr/>
          <p:nvPr/>
        </p:nvSpPr>
        <p:spPr>
          <a:xfrm>
            <a:off x="2705040" y="5257800"/>
            <a:ext cx="3733920" cy="1511280"/>
          </a:xfrm>
          <a:prstGeom prst="cloudCallout">
            <a:avLst>
              <a:gd name="adj1" fmla="val 3097"/>
              <a:gd name="adj2" fmla="val -124351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mainstreaming getting institutionalised at all levels?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EB96-1C26-4B53-AE9B-FEF1AF49D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492360" y="3860640"/>
            <a:ext cx="230364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5"/>
          <p:cNvSpPr/>
          <p:nvPr/>
        </p:nvSpPr>
        <p:spPr>
          <a:xfrm>
            <a:off x="539640" y="2205000"/>
            <a:ext cx="2133720" cy="838080"/>
          </a:xfrm>
          <a:prstGeom prst="wedgeRoundRectCallout">
            <a:avLst>
              <a:gd name="adj1" fmla="val 116305"/>
              <a:gd name="adj2" fmla="val 126027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mplementation (inputs, outputs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6"/>
          <p:cNvSpPr/>
          <p:nvPr/>
        </p:nvSpPr>
        <p:spPr>
          <a:xfrm>
            <a:off x="5940360" y="1916280"/>
            <a:ext cx="1979640" cy="838080"/>
          </a:xfrm>
          <a:prstGeom prst="wedgeRoundRectCallout">
            <a:avLst>
              <a:gd name="adj1" fmla="val -75393"/>
              <a:gd name="adj2" fmla="val 15375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utcomes, impa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le 11"/>
          <p:cNvSpPr/>
          <p:nvPr/>
        </p:nvSpPr>
        <p:spPr>
          <a:xfrm>
            <a:off x="533520" y="3213000"/>
            <a:ext cx="2700360" cy="334008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3340080"/>
              <a:gd name="textAreaBottom" fmla="*/ 3208320 h 3340080"/>
            </a:gdLst>
            <a:ahLst/>
            <a:rect l="textAreaLeft" t="textAreaTop" r="textAreaRight" b="textAreaBottom"/>
            <a:pathLst>
              <a:path w="21600" h="26716">
                <a:moveTo>
                  <a:pt x="3600" y="0"/>
                </a:moveTo>
                <a:arcTo wR="3600" hR="3600" stAng="16200000" swAng="-5400000"/>
                <a:lnTo>
                  <a:pt x="0" y="23116"/>
                </a:lnTo>
                <a:arcTo wR="3600" hR="3600" stAng="10800000" swAng="-5400000"/>
                <a:lnTo>
                  <a:pt x="18000" y="26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allocation of resour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(Inclusion of) environment/climate change (measures in) programmes/proje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mplementation &amp; enforcement of environment/climate change measures &amp; regula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le 12"/>
          <p:cNvSpPr/>
          <p:nvPr/>
        </p:nvSpPr>
        <p:spPr>
          <a:xfrm>
            <a:off x="5943600" y="2852640"/>
            <a:ext cx="3124080" cy="370044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3700440"/>
              <a:gd name="textAreaBottom" fmla="*/ 3548160 h 3700440"/>
            </a:gdLst>
            <a:ahLst/>
            <a:rect l="textAreaLeft" t="textAreaTop" r="textAreaRight" b="textAreaBottom"/>
            <a:pathLst>
              <a:path w="21600" h="25585">
                <a:moveTo>
                  <a:pt x="3600" y="0"/>
                </a:moveTo>
                <a:arcTo wR="3600" hR="3600" stAng="16200000" swAng="-5400000"/>
                <a:lnTo>
                  <a:pt x="0" y="21985"/>
                </a:lnTo>
                <a:arcTo wR="3600" hR="3600" stAng="10800000" swAng="-5400000"/>
                <a:lnTo>
                  <a:pt x="18000" y="25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Reduced environmental degradation and its incidence on poverty/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vulnerable groups (women, children, farmers, coastal communities, ...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key secto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growth, </a:t>
            </a:r>
            <a:br>
              <a:rPr sz="1400"/>
            </a:b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job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Environmentally sustainable, climate-resilient, low-emission 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Cloud Callout 8"/>
          <p:cNvSpPr/>
          <p:nvPr/>
        </p:nvSpPr>
        <p:spPr>
          <a:xfrm>
            <a:off x="2666880" y="5162400"/>
            <a:ext cx="3810240" cy="1619280"/>
          </a:xfrm>
          <a:prstGeom prst="cloudCallout">
            <a:avLst>
              <a:gd name="adj1" fmla="val 4458"/>
              <a:gd name="adj2" fmla="val -7815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Does the mainstreaming process produce results and impacts?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4000" y="256500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assessment frameworks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d budget suppor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6B5A-489A-4B41-B60D-C31766633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f5494"/>
                </a:solidFill>
                <a:latin typeface="Verdana"/>
              </a:rPr>
              <a:t>Role of PAFs in relation to budget support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4920" y="2349000"/>
            <a:ext cx="83818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gress measured against the PAF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 criteria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 targets provides opportunities for policy dialogue in the context of budget supp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reasingly, the PAF associated with development and poverty reduction strategies is likely to include indicators and targets associated with environmental sustainability, climate change adaptation, disaster risk reduction, energy efficiency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the case of EC budget support, performance against a chosen sub-set of criteria and targets also determines the final amount of disburs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9AB9-9C55-4482-B1B7-BA486B152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4920" y="2491920"/>
            <a:ext cx="8534520" cy="2057400"/>
          </a:xfrm>
          <a:prstGeom prst="rect">
            <a:avLst/>
          </a:prstGeom>
          <a:solidFill>
            <a:srgbClr val="f8fbfc"/>
          </a:solidFill>
          <a:ln w="25560">
            <a:solidFill>
              <a:srgbClr val="0f5494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Discussion and action plan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3F53-6E4B-4C67-B4F8-0F1C1D128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429A-A483-43E5-B878-06B846F72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ed Rectangle 4"/>
          <p:cNvSpPr/>
          <p:nvPr/>
        </p:nvSpPr>
        <p:spPr>
          <a:xfrm>
            <a:off x="1908000" y="4292640"/>
            <a:ext cx="5410440" cy="194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hat can be done and what are the institutional and capacity needs in your country/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1844280"/>
            <a:ext cx="8713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monitoring, and monitoring of responses for environmental sustainability and climate change, should be integrated into existing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is is a key aspect of the mainstreaming proces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ultiple aspects can be subject to monitor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state of environmental variables closely linked to poverty and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limate variability and change and their impa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hanges in policies and institu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mplementation and outcomes of adaptation and mitigation measur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2C7B-D362-4B99-B922-FE51EEDB6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World Bank report 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ainstreaming Adaptation to Climate Change in Agriculture and Natural Resources Management Projec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climatechange.worldbank.org/content/mainstreaming-adaptation-climate-change-agriculture-and-natural-resources-management-projec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opean Commission Guidance on the Integration of Environment and Climate Change in Development Cooper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europeaid/infopoint/publications/europeaid/172a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BFDC-723F-49F2-9C7A-9E4D48575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133360"/>
            <a:ext cx="7924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4) Project Cycle Management Guidelines. Aid Delivery Methods series, Volume 1. European Commission, Brussel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ec.europa.eu/europeaid/infopoint/publications/europeaid/documents/49a_adm_pcm_guidelines_2004_en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9) Guidance on Integration of the Environment and Climate Change in Development Cooperation. EuropeAid Tools and Methods Series Guidelines No. 4, Brussels. Available from: http://ec.europa.eu/europeaid/infopoint/publications/europeaid/172a_en.htm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ECD (2002) Glossary of Key Terms in Evaluation and Results Based Management. OECD Publishing, Pari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www.oecd.org/dataoecd/29/21/2754804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1748-1C2A-4B85-BB61-18C9657DE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measurement and monitoring: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Key concept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BD89-B138-4058-86E8-79EA411E0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bjectives and related indicators/mileston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58920" y="1773360"/>
            <a:ext cx="297180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Hierarchy of objectiv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292720" y="1773360"/>
            <a:ext cx="2971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Progress measur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295280" y="257976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all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95280" y="349416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Specific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295280" y="4405320"/>
            <a:ext cx="2971800" cy="39888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termediate resul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295280" y="5319720"/>
            <a:ext cx="2971800" cy="39888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257800" y="257652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ac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257800" y="349092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come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257800" y="4253040"/>
            <a:ext cx="2971800" cy="70380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257800" y="5167440"/>
            <a:ext cx="2971800" cy="70380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3"/>
          <p:cNvCxnSpPr>
            <a:stCxn id="105" idx="0"/>
            <a:endCxn id="104" idx="2"/>
          </p:cNvCxnSpPr>
          <p:nvPr/>
        </p:nvCxnSpPr>
        <p:spPr>
          <a:xfrm flipV="1">
            <a:off x="2778480" y="480456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1" name="Straight Arrow Connector 17"/>
          <p:cNvCxnSpPr>
            <a:stCxn id="104" idx="0"/>
            <a:endCxn id="103" idx="2"/>
          </p:cNvCxnSpPr>
          <p:nvPr/>
        </p:nvCxnSpPr>
        <p:spPr>
          <a:xfrm flipV="1">
            <a:off x="2778480" y="3893760"/>
            <a:ext cx="3960" cy="5119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2" name="Straight Arrow Connector 19"/>
          <p:cNvCxnSpPr>
            <a:stCxn id="103" idx="0"/>
            <a:endCxn id="102" idx="2"/>
          </p:cNvCxnSpPr>
          <p:nvPr/>
        </p:nvCxnSpPr>
        <p:spPr>
          <a:xfrm flipV="1">
            <a:off x="2778480" y="297900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3" name="Straight Arrow Connector 21"/>
          <p:cNvCxnSpPr>
            <a:stCxn id="109" idx="1"/>
            <a:endCxn id="105" idx="3"/>
          </p:cNvCxnSpPr>
          <p:nvPr/>
        </p:nvCxnSpPr>
        <p:spPr>
          <a:xfrm flipH="1" flipV="1">
            <a:off x="4266720" y="55195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4" name="Straight Arrow Connector 25"/>
          <p:cNvCxnSpPr>
            <a:stCxn id="108" idx="1"/>
            <a:endCxn id="104" idx="3"/>
          </p:cNvCxnSpPr>
          <p:nvPr/>
        </p:nvCxnSpPr>
        <p:spPr>
          <a:xfrm flipH="1" flipV="1">
            <a:off x="4266720" y="46051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5" name="Straight Arrow Connector 27"/>
          <p:cNvCxnSpPr>
            <a:stCxn id="107" idx="1"/>
            <a:endCxn id="103" idx="3"/>
          </p:cNvCxnSpPr>
          <p:nvPr/>
        </p:nvCxnSpPr>
        <p:spPr>
          <a:xfrm flipH="1">
            <a:off x="4266720" y="36910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6" name="Straight Arrow Connector 29"/>
          <p:cNvCxnSpPr>
            <a:stCxn id="106" idx="1"/>
            <a:endCxn id="102" idx="3"/>
          </p:cNvCxnSpPr>
          <p:nvPr/>
        </p:nvCxnSpPr>
        <p:spPr>
          <a:xfrm flipH="1">
            <a:off x="4266720" y="27766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17" name="Left Brace 30"/>
          <p:cNvSpPr/>
          <p:nvPr/>
        </p:nvSpPr>
        <p:spPr>
          <a:xfrm>
            <a:off x="884160" y="4275000"/>
            <a:ext cx="335160" cy="1600200"/>
          </a:xfrm>
          <a:custGeom>
            <a:avLst/>
            <a:gdLst>
              <a:gd name="textAreaLeft" fmla="*/ 214200 w 335160"/>
              <a:gd name="textAreaRight" fmla="*/ 335520 w 335160"/>
              <a:gd name="textAreaTop" fmla="*/ 8640 h 1600200"/>
              <a:gd name="textAreaBottom" fmla="*/ 15915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"/>
                  <a:pt x="10800" y="377"/>
                </a:cubicBezTo>
                <a:lnTo>
                  <a:pt x="10800" y="10423"/>
                </a:lnTo>
                <a:cubicBezTo>
                  <a:pt x="10800" y="10612"/>
                  <a:pt x="5400" y="10800"/>
                  <a:pt x="0" y="10800"/>
                </a:cubicBezTo>
                <a:cubicBezTo>
                  <a:pt x="5400" y="10800"/>
                  <a:pt x="10800" y="10989"/>
                  <a:pt x="10800" y="11177"/>
                </a:cubicBezTo>
                <a:lnTo>
                  <a:pt x="10800" y="21223"/>
                </a:lnTo>
                <a:cubicBezTo>
                  <a:pt x="10800" y="2141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Left Brace 31"/>
          <p:cNvSpPr/>
          <p:nvPr/>
        </p:nvSpPr>
        <p:spPr>
          <a:xfrm>
            <a:off x="914400" y="2425680"/>
            <a:ext cx="287280" cy="16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620720"/>
              <a:gd name="textAreaBottom" fmla="*/ 1613520 h 16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0"/>
                  <a:pt x="10800" y="319"/>
                </a:cubicBezTo>
                <a:lnTo>
                  <a:pt x="10800" y="10481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60"/>
                  <a:pt x="10800" y="11119"/>
                </a:cubicBezTo>
                <a:lnTo>
                  <a:pt x="10800" y="21281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457200" y="1989000"/>
            <a:ext cx="304920" cy="2040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Outco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457200" y="4273560"/>
            <a:ext cx="304920" cy="17974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0" y="6550200"/>
            <a:ext cx="42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EC (2004), OECD (2002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858000" y="654516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DC35-41B2-4A52-9156-9DDE4E4AD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MART indicators and targe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2CAB-8644-4939-956D-3CC0EAE1B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304920" y="2060640"/>
            <a:ext cx="86868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ors and targets should be: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S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pecific to the related objectiv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surable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vailable at a reasonable cos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evant to information needs of decision maker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T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ime-bound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495680" y="647712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EC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2492280"/>
            <a:ext cx="8534160" cy="1981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 environment and climate change in monitoring systems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6561-993A-4909-89A8-8C9FCBFA2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What should be monitored, and why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D3C1-92BB-475C-B497-68657CD77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989000"/>
          <a:ext cx="8686800" cy="4638960"/>
        </p:xfrm>
        <a:graphic>
          <a:graphicData uri="http://schemas.openxmlformats.org/drawingml/2006/table">
            <a:tbl>
              <a:tblPr/>
              <a:tblGrid>
                <a:gridCol w="4038480"/>
                <a:gridCol w="4648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pect to monit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tionale for monitor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s in environmental parameters that influence poverty/development in a significant mann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-informed as possible to take opportunities to enhance effects on poverty reduction and revert adverse trend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mate variability and change, impacts and vulnera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 informed as poss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adaptive manage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and institutional chan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e the institutionalisation of environmental and climate change mainstream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 transparency and accountability of the mainstreaming proces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/Strategy implementation and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ngthen commitment to the objectives set in policies and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mulate the achievement of tangible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nvironment and climate change in the national development monitoring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708280"/>
            <a:ext cx="85341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change monitoring should be integrated into wider national and specific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Verdana"/>
              </a:rPr>
              <a:t>=&gt;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Strengthen and adapt existing monitoring systems (incl. statistical systems) to integrate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uild on existing institutions and sources of information..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... but adapt statistical systems and data 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3DE1-4CB5-47C5-9FE6-A88C45EB9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Levels at which to measure environment- and climate-related performanc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2349360"/>
            <a:ext cx="845028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dicators and milestones related to environment/climate change and the associated response can be included in the PAFs </a:t>
            </a:r>
            <a:r>
              <a:rPr b="0" lang="en-GB" sz="2400" spc="-1" strike="noStrike" baseline="30000">
                <a:solidFill>
                  <a:srgbClr val="0f5494"/>
                </a:solidFill>
                <a:latin typeface="Verdana"/>
              </a:rPr>
              <a:t>(*)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of environmental and climate change strategies and actions plans, but also those of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ational and sectoral development strategies and programm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b-national (e.g. regional, local) development pla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dividual projects (logical framewor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*) Performance assessment framework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Right Brace 3"/>
          <p:cNvSpPr/>
          <p:nvPr/>
        </p:nvSpPr>
        <p:spPr>
          <a:xfrm>
            <a:off x="8153280" y="4025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600200"/>
              <a:gd name="textAreaBottom" fmla="*/ 1592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ounded Rectangular Callout 4"/>
          <p:cNvSpPr/>
          <p:nvPr/>
        </p:nvSpPr>
        <p:spPr>
          <a:xfrm>
            <a:off x="5364000" y="5867280"/>
            <a:ext cx="3065760" cy="990720"/>
          </a:xfrm>
          <a:prstGeom prst="wedgeRoundRectCallout">
            <a:avLst>
              <a:gd name="adj1" fmla="val 41916"/>
              <a:gd name="adj2" fmla="val -129430"/>
              <a:gd name="adj3" fmla="val 16667"/>
            </a:avLst>
          </a:prstGeom>
          <a:solidFill>
            <a:srgbClr val="0f549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ltimate objective of mainstreaming!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686F-0500-4FB1-B821-2D7AF1E82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environment &amp;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0273-CFA5-4E51-9A4F-8DD8550F6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492360" y="3573360"/>
            <a:ext cx="223200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Rounded Rectangular Callout 5"/>
          <p:cNvSpPr/>
          <p:nvPr/>
        </p:nvSpPr>
        <p:spPr>
          <a:xfrm>
            <a:off x="395280" y="1916280"/>
            <a:ext cx="2438280" cy="114444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teorology, climate variability, environmental parameter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Rounded Rectangular Callout 6"/>
          <p:cNvSpPr/>
          <p:nvPr/>
        </p:nvSpPr>
        <p:spPr>
          <a:xfrm>
            <a:off x="6372360" y="220500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ounded Rectangle 11"/>
          <p:cNvSpPr/>
          <p:nvPr/>
        </p:nvSpPr>
        <p:spPr>
          <a:xfrm>
            <a:off x="324000" y="3284640"/>
            <a:ext cx="27003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ata collection, management and dissemin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engthening of meteorological information &amp; 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Rounded Rectangle 12"/>
          <p:cNvSpPr/>
          <p:nvPr/>
        </p:nvSpPr>
        <p:spPr>
          <a:xfrm>
            <a:off x="6012000" y="3284640"/>
            <a:ext cx="29289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New patter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Emerging trend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jections, scenari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 for assessing impacts, vulnerabilities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&amp; risk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Cloud Callout 8"/>
          <p:cNvSpPr/>
          <p:nvPr/>
        </p:nvSpPr>
        <p:spPr>
          <a:xfrm>
            <a:off x="2681280" y="4876920"/>
            <a:ext cx="3781440" cy="1523880"/>
          </a:xfrm>
          <a:prstGeom prst="cloudCallout">
            <a:avLst>
              <a:gd name="adj1" fmla="val 620"/>
              <a:gd name="adj2" fmla="val -10196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the mainstreaming process based on reliable information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8T15:03:59Z</dcterms:modified>
  <cp:revision>119</cp:revision>
  <dc:subject/>
  <dc:title>Slide 1</dc:title>
</cp:coreProperties>
</file>