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8673-9CA7-445F-8F10-30D1787DD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A4B1-3838-4D48-8534-54762702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356D-DC9B-4CE3-A89B-1784543D6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A3EB-4FA2-4AAE-94E9-5638871F7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59A0-004D-4975-B6B0-81878F86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B668-4CC8-4CC2-9D4F-0C106DE8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0AF2-1E71-41F8-8ED4-E2E9780B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5C10-8002-4B6E-BD54-82EAF115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C282-0B65-4144-9ACB-40C49C64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7977-336C-4489-B8A9-CE52E2C2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F649-3DA9-46E2-9813-2C2128D4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C479-EFB8-4F1D-8434-B30C6011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7BB9-88C1-4846-87C3-4F2E17E47840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971640" y="1844640"/>
            <a:ext cx="72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ий їздовий цикл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Європейському Союз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704360" cy="5766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1792800" y="333360"/>
            <a:ext cx="606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їздов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496280" cy="5301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1657440" y="549360"/>
            <a:ext cx="60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ростий міськ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652040" y="549360"/>
            <a:ext cx="53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аміськ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971640" y="1106640"/>
            <a:ext cx="762300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684360" y="1773360"/>
            <a:ext cx="755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і їздові цикли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Сполучених штатах Амер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50280" cy="482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3214080" y="40464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міськ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3215880" y="40464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заміськ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4898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971640" y="1844640"/>
            <a:ext cx="72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ий їздовий цикл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Японі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rcRect l="0" t="57850" r="0" b="0"/>
          <a:stretch/>
        </p:blipFill>
        <p:spPr>
          <a:xfrm>
            <a:off x="684360" y="1557360"/>
            <a:ext cx="7851600" cy="3672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3354840" y="3333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їздов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1T11:01:02Z</dcterms:created>
  <dc:creator>Користувач</dc:creator>
  <dc:description/>
  <dc:language>en-US</dc:language>
  <cp:lastModifiedBy>Користувач</cp:lastModifiedBy>
  <dcterms:modified xsi:type="dcterms:W3CDTF">2012-07-11T12:36:13Z</dcterms:modified>
  <cp:revision>10</cp:revision>
  <dc:subject/>
  <dc:title>Слайд 1</dc:title>
</cp:coreProperties>
</file>