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42AF-CC7F-4B52-A00B-9ED1D94AD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9AAF-AB07-4515-8618-28910C655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6 National PEFAs done in 20 of 26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DB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ount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BH, BL, BO, BR, CO, CR, DR, ES, GU, HA, HO, JA, PY, PE, TT, NI, GY, EC, BA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ational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one yet in: Mexico, Venezuela, Argentina and Chi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 Countries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n process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aning the fieldwork completed but report not final (PN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rst national PEFA in Panama, Urugu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Led 7 PEFAs in 6 Countries (CR, GU, GY, NI, PN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Co-Led 18 PEFAs in 14 Countries (BA, BL, BO, CO, DR, EC, ES, GU, HO, JA, NI, PE, PR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30D8-0485-40C5-8F94-F2580C9ED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5 countries with 13 Sub-national PEFAs done in PE, BR, CO, AR, H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1 Local PEFA in Tegucigalpa, Hondu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2 Sub-national PEFAs planned for 2013 in 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4AE6-53D3-400B-BA6F-9D006A308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F4C5-4DEF-442E-A23C-C147A9703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1878-C1DF-46BB-B37D-74723EB69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EFA framework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something more adaptable to unique situations (UR 5-year budget, sub-national, decentralized gov’ts like PN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diagnostic to go into greater depth and provide recommendations or next steps toward developing an action plan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move procurement indicator ID-19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vide more timely, complete an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etter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translations of PEFA guidance into Spanish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re training workshops in Spanish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n the Regio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(not in DC) and addresses more detailed, specific topic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8DA5-75A6-42F6-B431-444FAE1DC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ength of process/sharing results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ommend that gov’ts establish someone with political power to help facilitate providing PEFA team with comments and documents in a timely mann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hare results with all donors (not just those involved in the PEFA) confidentially when work substantially completed and review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st interim evaluations of subsystems and indicators on PEFA website or manner to share with all donors confidentiall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onsultan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- an agreed-upon (among donors) database of good quality consultants to perform PEFAs, some automatically do more than described in PEFA while others just do the minimum – especially, since don’t have the experti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5FC2-F160-45AE-9E10-847C13DEA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D6B0-1A02-4706-B0C9-563B7719C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D485-776F-4989-B7A2-59EF5132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B632-9183-4A94-9357-531F6396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A15-4AC8-4730-AEE4-CECE501D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961D-ADD8-41CB-B423-53C5C7D8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6312-02AD-42F4-9A96-55FBDDDE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D866-5EEE-4AFE-9251-9CEF7148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D13-8DA7-43B5-A2E3-CF1382FA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5A6-7019-4647-B33A-A9E5D2AB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6F83-BB34-4C2E-BCC6-259D0AF2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3013-DD7E-45FE-83EF-6ABCBFF5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C8B0-EE85-47FF-93B3-C9215D08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7903-F188-41D8-A365-8B5D44B2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A313-7E80-4C14-8F43-9E6D4B517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hyperlink" Target="http://www.pefa.org/" TargetMode="External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4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19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hyperlink" Target="http://www.pefa.org/" TargetMode="External"/><Relationship Id="rId8" Type="http://schemas.openxmlformats.org/officeDocument/2006/relationships/image" Target="../media/image17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46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ounded Rectangle 10"/>
          <p:cNvGrpSpPr/>
          <p:nvPr/>
        </p:nvGrpSpPr>
        <p:grpSpPr>
          <a:xfrm>
            <a:off x="811080" y="2408400"/>
            <a:ext cx="7704360" cy="1944360"/>
            <a:chOff x="811080" y="2408400"/>
            <a:chExt cx="7704360" cy="1944360"/>
          </a:xfrm>
        </p:grpSpPr>
        <p:pic>
          <p:nvPicPr>
            <p:cNvPr id="49" name="Rounded Rectangle 10" descr=""/>
            <p:cNvPicPr/>
            <p:nvPr/>
          </p:nvPicPr>
          <p:blipFill>
            <a:blip r:embed="rId1"/>
            <a:stretch/>
          </p:blipFill>
          <p:spPr>
            <a:xfrm>
              <a:off x="811080" y="2408400"/>
              <a:ext cx="770436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98640" y="2527200"/>
              <a:ext cx="736596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alibri"/>
                </a:rPr>
                <a:t>PEFA in Latin America, Seven Years of Implementation 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The Inter-American Development Bank’s Experienc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Rounded Rectangle 14"/>
          <p:cNvGrpSpPr/>
          <p:nvPr/>
        </p:nvGrpSpPr>
        <p:grpSpPr>
          <a:xfrm>
            <a:off x="817560" y="835200"/>
            <a:ext cx="2028960" cy="957240"/>
            <a:chOff x="817560" y="835200"/>
            <a:chExt cx="2028960" cy="957240"/>
          </a:xfrm>
        </p:grpSpPr>
        <p:pic>
          <p:nvPicPr>
            <p:cNvPr id="52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817560" y="835200"/>
              <a:ext cx="20289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19080" y="906480"/>
              <a:ext cx="18241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5"/>
          <p:cNvSpPr/>
          <p:nvPr/>
        </p:nvSpPr>
        <p:spPr>
          <a:xfrm>
            <a:off x="879480" y="4800600"/>
            <a:ext cx="7574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tharina Falkner-Olme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vision Chief of the Operations Financial Management and Procurement Services Off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 Presidency for Countries (VP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109520" y="1006560"/>
            <a:ext cx="148752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57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58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59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oup 42" descr=""/>
          <p:cNvPicPr/>
          <p:nvPr/>
        </p:nvPicPr>
        <p:blipFill>
          <a:blip r:embed="rId2"/>
          <a:stretch/>
        </p:blipFill>
        <p:spPr>
          <a:xfrm>
            <a:off x="573120" y="372420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87" name="Group 83" descr=""/>
          <p:cNvPicPr/>
          <p:nvPr/>
        </p:nvPicPr>
        <p:blipFill>
          <a:blip r:embed="rId3"/>
          <a:stretch/>
        </p:blipFill>
        <p:spPr>
          <a:xfrm>
            <a:off x="6108840" y="317016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88" name="Group 140" descr=""/>
          <p:cNvPicPr/>
          <p:nvPr/>
        </p:nvPicPr>
        <p:blipFill>
          <a:blip r:embed="rId4"/>
          <a:stretch/>
        </p:blipFill>
        <p:spPr>
          <a:xfrm>
            <a:off x="4821120" y="248760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89" name="Group 143" descr=""/>
          <p:cNvPicPr/>
          <p:nvPr/>
        </p:nvPicPr>
        <p:blipFill>
          <a:blip r:embed="rId5"/>
          <a:stretch/>
        </p:blipFill>
        <p:spPr>
          <a:xfrm>
            <a:off x="4145040" y="19620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0" name="Group 146" descr=""/>
          <p:cNvPicPr/>
          <p:nvPr/>
        </p:nvPicPr>
        <p:blipFill>
          <a:blip r:embed="rId6"/>
          <a:stretch/>
        </p:blipFill>
        <p:spPr>
          <a:xfrm>
            <a:off x="4968720" y="156672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1" name="Group 149" descr=""/>
          <p:cNvPicPr/>
          <p:nvPr/>
        </p:nvPicPr>
        <p:blipFill>
          <a:blip r:embed="rId7"/>
          <a:stretch/>
        </p:blipFill>
        <p:spPr>
          <a:xfrm>
            <a:off x="3870360" y="195732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92" name="Group 152" descr=""/>
          <p:cNvPicPr/>
          <p:nvPr/>
        </p:nvPicPr>
        <p:blipFill>
          <a:blip r:embed="rId8"/>
          <a:stretch/>
        </p:blipFill>
        <p:spPr>
          <a:xfrm>
            <a:off x="3736800" y="1809720"/>
            <a:ext cx="219240" cy="214200"/>
          </a:xfrm>
          <a:prstGeom prst="rect">
            <a:avLst/>
          </a:prstGeom>
          <a:ln w="0">
            <a:noFill/>
          </a:ln>
        </p:spPr>
      </p:pic>
      <p:pic>
        <p:nvPicPr>
          <p:cNvPr id="93" name="Group 155" descr=""/>
          <p:cNvPicPr/>
          <p:nvPr/>
        </p:nvPicPr>
        <p:blipFill>
          <a:blip r:embed="rId9"/>
          <a:stretch/>
        </p:blipFill>
        <p:spPr>
          <a:xfrm>
            <a:off x="4468680" y="172548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4" name="Group 158" descr=""/>
          <p:cNvPicPr/>
          <p:nvPr/>
        </p:nvPicPr>
        <p:blipFill>
          <a:blip r:embed="rId10"/>
          <a:stretch/>
        </p:blipFill>
        <p:spPr>
          <a:xfrm>
            <a:off x="3932280" y="17064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5" name="Group 161" descr=""/>
          <p:cNvPicPr/>
          <p:nvPr/>
        </p:nvPicPr>
        <p:blipFill>
          <a:blip r:embed="rId11"/>
          <a:stretch/>
        </p:blipFill>
        <p:spPr>
          <a:xfrm>
            <a:off x="4791240" y="157320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6" name="Group 164" descr=""/>
          <p:cNvPicPr/>
          <p:nvPr/>
        </p:nvPicPr>
        <p:blipFill>
          <a:blip r:embed="rId12"/>
          <a:stretch/>
        </p:blipFill>
        <p:spPr>
          <a:xfrm>
            <a:off x="5632560" y="4091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7" name="Group 173" descr=""/>
          <p:cNvPicPr/>
          <p:nvPr/>
        </p:nvPicPr>
        <p:blipFill>
          <a:blip r:embed="rId13"/>
          <a:stretch/>
        </p:blipFill>
        <p:spPr>
          <a:xfrm>
            <a:off x="5425920" y="2103480"/>
            <a:ext cx="219240" cy="212760"/>
          </a:xfrm>
          <a:prstGeom prst="rect">
            <a:avLst/>
          </a:prstGeom>
          <a:ln w="0">
            <a:noFill/>
          </a:ln>
        </p:spPr>
      </p:pic>
      <p:sp>
        <p:nvSpPr>
          <p:cNvPr id="98" name="TextBox 226"/>
          <p:cNvSpPr/>
          <p:nvPr/>
        </p:nvSpPr>
        <p:spPr>
          <a:xfrm>
            <a:off x="828720" y="364824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 Countries – Completed*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89"/>
          <p:cNvSpPr/>
          <p:nvPr/>
        </p:nvSpPr>
        <p:spPr>
          <a:xfrm>
            <a:off x="160200" y="644220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01" name="Rectangle 182" descr=""/>
            <p:cNvPicPr/>
            <p:nvPr/>
          </p:nvPicPr>
          <p:blipFill>
            <a:blip r:embed="rId15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Group 183" descr=""/>
          <p:cNvPicPr/>
          <p:nvPr/>
        </p:nvPicPr>
        <p:blipFill>
          <a:blip r:embed="rId16"/>
          <a:stretch/>
        </p:blipFill>
        <p:spPr>
          <a:xfrm>
            <a:off x="4029120" y="1805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4" name="Group 186" descr=""/>
          <p:cNvPicPr/>
          <p:nvPr/>
        </p:nvPicPr>
        <p:blipFill>
          <a:blip r:embed="rId17"/>
          <a:stretch/>
        </p:blipFill>
        <p:spPr>
          <a:xfrm>
            <a:off x="4254480" y="21034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5" name="Group 196" descr=""/>
          <p:cNvPicPr/>
          <p:nvPr/>
        </p:nvPicPr>
        <p:blipFill>
          <a:blip r:embed="rId18"/>
          <a:stretch/>
        </p:blipFill>
        <p:spPr>
          <a:xfrm>
            <a:off x="5248440" y="370692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6" name="Group 230" descr=""/>
          <p:cNvPicPr/>
          <p:nvPr/>
        </p:nvPicPr>
        <p:blipFill>
          <a:blip r:embed="rId19"/>
          <a:stretch/>
        </p:blipFill>
        <p:spPr>
          <a:xfrm>
            <a:off x="4438800" y="28036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07" name="Group 233" descr=""/>
          <p:cNvPicPr/>
          <p:nvPr/>
        </p:nvPicPr>
        <p:blipFill>
          <a:blip r:embed="rId20"/>
          <a:stretch/>
        </p:blipFill>
        <p:spPr>
          <a:xfrm>
            <a:off x="5645160" y="180504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108" name="Group 236" descr=""/>
          <p:cNvPicPr/>
          <p:nvPr/>
        </p:nvPicPr>
        <p:blipFill>
          <a:blip r:embed="rId21"/>
          <a:stretch/>
        </p:blipFill>
        <p:spPr>
          <a:xfrm>
            <a:off x="4711680" y="11890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9" name="Group 239" descr=""/>
          <p:cNvPicPr/>
          <p:nvPr/>
        </p:nvPicPr>
        <p:blipFill>
          <a:blip r:embed="rId22"/>
          <a:stretch/>
        </p:blipFill>
        <p:spPr>
          <a:xfrm>
            <a:off x="5572080" y="2335320"/>
            <a:ext cx="219240" cy="212760"/>
          </a:xfrm>
          <a:prstGeom prst="rect">
            <a:avLst/>
          </a:prstGeom>
          <a:ln w="0">
            <a:noFill/>
          </a:ln>
        </p:spPr>
      </p:pic>
      <p:grpSp>
        <p:nvGrpSpPr>
          <p:cNvPr id="110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11" name="Rounded Rectangle 124" descr=""/>
            <p:cNvPicPr/>
            <p:nvPr/>
          </p:nvPicPr>
          <p:blipFill>
            <a:blip r:embed="rId23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14" name="TextBox 125" descr=""/>
            <p:cNvPicPr/>
            <p:nvPr/>
          </p:nvPicPr>
          <p:blipFill>
            <a:blip r:embed="rId24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126"/>
          <p:cNvSpPr/>
          <p:nvPr/>
        </p:nvSpPr>
        <p:spPr>
          <a:xfrm>
            <a:off x="804960" y="4203720"/>
            <a:ext cx="21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+2 Countries – In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Group 36" descr=""/>
          <p:cNvPicPr/>
          <p:nvPr/>
        </p:nvPicPr>
        <p:blipFill>
          <a:blip r:embed="rId25"/>
          <a:stretch/>
        </p:blipFill>
        <p:spPr>
          <a:xfrm>
            <a:off x="523800" y="424800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8" name="Group 36" descr=""/>
          <p:cNvPicPr/>
          <p:nvPr/>
        </p:nvPicPr>
        <p:blipFill>
          <a:blip r:embed="rId26"/>
          <a:stretch/>
        </p:blipFill>
        <p:spPr>
          <a:xfrm>
            <a:off x="4425840" y="21574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9" name="Group 36" descr=""/>
          <p:cNvPicPr/>
          <p:nvPr/>
        </p:nvPicPr>
        <p:blipFill>
          <a:blip r:embed="rId27"/>
          <a:stretch/>
        </p:blipFill>
        <p:spPr>
          <a:xfrm>
            <a:off x="5840280" y="4675320"/>
            <a:ext cx="219240" cy="214200"/>
          </a:xfrm>
          <a:prstGeom prst="rect">
            <a:avLst/>
          </a:prstGeom>
          <a:ln w="0">
            <a:noFill/>
          </a:ln>
        </p:spPr>
      </p:pic>
      <p:grpSp>
        <p:nvGrpSpPr>
          <p:cNvPr id="120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121" name="Rounded Rectangle 161" descr=""/>
            <p:cNvPicPr/>
            <p:nvPr/>
          </p:nvPicPr>
          <p:blipFill>
            <a:blip r:embed="rId28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Box 131"/>
          <p:cNvSpPr/>
          <p:nvPr/>
        </p:nvSpPr>
        <p:spPr>
          <a:xfrm>
            <a:off x="608040" y="2471760"/>
            <a:ext cx="221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85% of IDB countries have completed a PEFA assess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30" descr=""/>
          <p:cNvPicPr/>
          <p:nvPr/>
        </p:nvPicPr>
        <p:blipFill>
          <a:blip r:embed="rId29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pic>
        <p:nvPicPr>
          <p:cNvPr id="125" name="Group 173" descr=""/>
          <p:cNvPicPr/>
          <p:nvPr/>
        </p:nvPicPr>
        <p:blipFill>
          <a:blip r:embed="rId30"/>
          <a:stretch/>
        </p:blipFill>
        <p:spPr>
          <a:xfrm>
            <a:off x="5735520" y="2457360"/>
            <a:ext cx="220680" cy="2127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89"/>
          <p:cNvSpPr/>
          <p:nvPr/>
        </p:nvSpPr>
        <p:spPr>
          <a:xfrm>
            <a:off x="168120" y="6058080"/>
            <a:ext cx="354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* 10 countries have had repeat PEFA assess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Group 140" descr=""/>
          <p:cNvPicPr/>
          <p:nvPr/>
        </p:nvPicPr>
        <p:blipFill>
          <a:blip r:embed="rId31"/>
          <a:stretch/>
        </p:blipFill>
        <p:spPr>
          <a:xfrm>
            <a:off x="4522680" y="3164040"/>
            <a:ext cx="220680" cy="2124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21"/>
          <p:cNvSpPr/>
          <p:nvPr/>
        </p:nvSpPr>
        <p:spPr>
          <a:xfrm>
            <a:off x="6451560" y="5261040"/>
            <a:ext cx="254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-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Nation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 and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Group 36" descr=""/>
          <p:cNvPicPr/>
          <p:nvPr/>
        </p:nvPicPr>
        <p:blipFill>
          <a:blip r:embed="rId32"/>
          <a:stretch/>
        </p:blipFill>
        <p:spPr>
          <a:xfrm>
            <a:off x="6211800" y="541980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0" name="Group 36" descr=""/>
          <p:cNvPicPr/>
          <p:nvPr/>
        </p:nvPicPr>
        <p:blipFill>
          <a:blip r:embed="rId33"/>
          <a:stretch/>
        </p:blipFill>
        <p:spPr>
          <a:xfrm>
            <a:off x="4243320" y="1951200"/>
            <a:ext cx="225360" cy="218880"/>
          </a:xfrm>
          <a:prstGeom prst="rect">
            <a:avLst/>
          </a:prstGeom>
          <a:ln w="0">
            <a:noFill/>
          </a:ln>
        </p:spPr>
      </p:pic>
      <p:pic>
        <p:nvPicPr>
          <p:cNvPr id="131" name="Group 36" descr=""/>
          <p:cNvPicPr/>
          <p:nvPr/>
        </p:nvPicPr>
        <p:blipFill>
          <a:blip r:embed="rId34"/>
          <a:stretch/>
        </p:blipFill>
        <p:spPr>
          <a:xfrm>
            <a:off x="4548240" y="278604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132" name="Group 36" descr=""/>
          <p:cNvPicPr/>
          <p:nvPr/>
        </p:nvPicPr>
        <p:blipFill>
          <a:blip r:embed="rId35"/>
          <a:stretch/>
        </p:blipFill>
        <p:spPr>
          <a:xfrm>
            <a:off x="3975120" y="194472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133" name="Group 36" descr=""/>
          <p:cNvPicPr/>
          <p:nvPr/>
        </p:nvPicPr>
        <p:blipFill>
          <a:blip r:embed="rId36"/>
          <a:stretch/>
        </p:blipFill>
        <p:spPr>
          <a:xfrm>
            <a:off x="5851440" y="245736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4" name="Group 36" descr=""/>
          <p:cNvPicPr/>
          <p:nvPr/>
        </p:nvPicPr>
        <p:blipFill>
          <a:blip r:embed="rId37"/>
          <a:stretch/>
        </p:blipFill>
        <p:spPr>
          <a:xfrm>
            <a:off x="4638600" y="3157560"/>
            <a:ext cx="225360" cy="21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136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137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138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6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2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36"/>
          <p:cNvGrpSpPr/>
          <p:nvPr/>
        </p:nvGrpSpPr>
        <p:grpSpPr>
          <a:xfrm>
            <a:off x="304920" y="3629160"/>
            <a:ext cx="152280" cy="152280"/>
            <a:chOff x="304920" y="3629160"/>
            <a:chExt cx="152280" cy="152280"/>
          </a:xfrm>
        </p:grpSpPr>
        <p:grpSp>
          <p:nvGrpSpPr>
            <p:cNvPr id="166" name="Oval 37"/>
            <p:cNvGrpSpPr/>
            <p:nvPr/>
          </p:nvGrpSpPr>
          <p:grpSpPr>
            <a:xfrm>
              <a:off x="304920" y="3629160"/>
              <a:ext cx="152280" cy="152280"/>
              <a:chOff x="304920" y="3629160"/>
              <a:chExt cx="152280" cy="152280"/>
            </a:xfrm>
          </p:grpSpPr>
          <p:pic>
            <p:nvPicPr>
              <p:cNvPr id="167" name="Oval 37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3629160"/>
                <a:ext cx="15228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357480" y="3661920"/>
                <a:ext cx="48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Straight Connector 38"/>
            <p:cNvSpPr/>
            <p:nvPr/>
          </p:nvSpPr>
          <p:spPr>
            <a:xfrm flipH="1">
              <a:off x="312480" y="3711960"/>
              <a:ext cx="44280" cy="45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59"/>
          <p:cNvGrpSpPr/>
          <p:nvPr/>
        </p:nvGrpSpPr>
        <p:grpSpPr>
          <a:xfrm>
            <a:off x="5257800" y="4876920"/>
            <a:ext cx="147600" cy="145800"/>
            <a:chOff x="5257800" y="4876920"/>
            <a:chExt cx="147600" cy="145800"/>
          </a:xfrm>
        </p:grpSpPr>
        <p:grpSp>
          <p:nvGrpSpPr>
            <p:cNvPr id="171" name="Oval 60"/>
            <p:cNvGrpSpPr/>
            <p:nvPr/>
          </p:nvGrpSpPr>
          <p:grpSpPr>
            <a:xfrm>
              <a:off x="5257800" y="4876920"/>
              <a:ext cx="147600" cy="145800"/>
              <a:chOff x="5257800" y="4876920"/>
              <a:chExt cx="147600" cy="145800"/>
            </a:xfrm>
          </p:grpSpPr>
          <p:pic>
            <p:nvPicPr>
              <p:cNvPr id="172" name="Oval 60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7800" y="487692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5306760" y="49075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4" name="Straight Connector 61"/>
            <p:cNvSpPr/>
            <p:nvPr/>
          </p:nvSpPr>
          <p:spPr>
            <a:xfrm flipH="1">
              <a:off x="5263560" y="49546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62"/>
          <p:cNvGrpSpPr/>
          <p:nvPr/>
        </p:nvGrpSpPr>
        <p:grpSpPr>
          <a:xfrm>
            <a:off x="6005520" y="3200400"/>
            <a:ext cx="147600" cy="146160"/>
            <a:chOff x="6005520" y="3200400"/>
            <a:chExt cx="147600" cy="146160"/>
          </a:xfrm>
        </p:grpSpPr>
        <p:grpSp>
          <p:nvGrpSpPr>
            <p:cNvPr id="176" name="Oval 63"/>
            <p:cNvGrpSpPr/>
            <p:nvPr/>
          </p:nvGrpSpPr>
          <p:grpSpPr>
            <a:xfrm>
              <a:off x="6005520" y="3200400"/>
              <a:ext cx="147600" cy="146160"/>
              <a:chOff x="6005520" y="3200400"/>
              <a:chExt cx="147600" cy="146160"/>
            </a:xfrm>
          </p:grpSpPr>
          <p:pic>
            <p:nvPicPr>
              <p:cNvPr id="177" name="Oval 63" descr=""/>
              <p:cNvPicPr/>
              <p:nvPr/>
            </p:nvPicPr>
            <p:blipFill>
              <a:blip r:embed="rId4"/>
              <a:stretch/>
            </p:blipFill>
            <p:spPr>
              <a:xfrm>
                <a:off x="6005520" y="3200400"/>
                <a:ext cx="14760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6057000" y="32310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9" name="Straight Connector 64"/>
            <p:cNvSpPr/>
            <p:nvPr/>
          </p:nvSpPr>
          <p:spPr>
            <a:xfrm flipH="1">
              <a:off x="6013800" y="32781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65"/>
          <p:cNvGrpSpPr/>
          <p:nvPr/>
        </p:nvGrpSpPr>
        <p:grpSpPr>
          <a:xfrm>
            <a:off x="4724280" y="2486160"/>
            <a:ext cx="147600" cy="145800"/>
            <a:chOff x="4724280" y="2486160"/>
            <a:chExt cx="147600" cy="145800"/>
          </a:xfrm>
        </p:grpSpPr>
        <p:grpSp>
          <p:nvGrpSpPr>
            <p:cNvPr id="181" name="Oval 66"/>
            <p:cNvGrpSpPr/>
            <p:nvPr/>
          </p:nvGrpSpPr>
          <p:grpSpPr>
            <a:xfrm>
              <a:off x="4724280" y="2486160"/>
              <a:ext cx="147600" cy="145800"/>
              <a:chOff x="4724280" y="2486160"/>
              <a:chExt cx="147600" cy="145800"/>
            </a:xfrm>
          </p:grpSpPr>
          <p:pic>
            <p:nvPicPr>
              <p:cNvPr id="182" name="Oval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4724280" y="248616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4775040" y="251568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Straight Connector 67"/>
            <p:cNvSpPr/>
            <p:nvPr/>
          </p:nvSpPr>
          <p:spPr>
            <a:xfrm flipH="1">
              <a:off x="4731840" y="256284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68"/>
          <p:cNvGrpSpPr/>
          <p:nvPr/>
        </p:nvGrpSpPr>
        <p:grpSpPr>
          <a:xfrm>
            <a:off x="4538520" y="3218040"/>
            <a:ext cx="147960" cy="145800"/>
            <a:chOff x="4538520" y="3218040"/>
            <a:chExt cx="147960" cy="145800"/>
          </a:xfrm>
        </p:grpSpPr>
        <p:grpSp>
          <p:nvGrpSpPr>
            <p:cNvPr id="186" name="Oval 69"/>
            <p:cNvGrpSpPr/>
            <p:nvPr/>
          </p:nvGrpSpPr>
          <p:grpSpPr>
            <a:xfrm>
              <a:off x="4538520" y="3218040"/>
              <a:ext cx="147960" cy="145800"/>
              <a:chOff x="4538520" y="3218040"/>
              <a:chExt cx="147960" cy="145800"/>
            </a:xfrm>
          </p:grpSpPr>
          <p:pic>
            <p:nvPicPr>
              <p:cNvPr id="187" name="Oval 69" descr=""/>
              <p:cNvPicPr/>
              <p:nvPr/>
            </p:nvPicPr>
            <p:blipFill>
              <a:blip r:embed="rId6"/>
              <a:stretch/>
            </p:blipFill>
            <p:spPr>
              <a:xfrm>
                <a:off x="4538520" y="3218040"/>
                <a:ext cx="14796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587480" y="32479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Straight Connector 70"/>
            <p:cNvSpPr/>
            <p:nvPr/>
          </p:nvSpPr>
          <p:spPr>
            <a:xfrm flipH="1">
              <a:off x="4544280" y="32950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TextBox 221"/>
          <p:cNvSpPr/>
          <p:nvPr/>
        </p:nvSpPr>
        <p:spPr>
          <a:xfrm>
            <a:off x="571680" y="3429000"/>
            <a:ext cx="33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–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complet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at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Sub-nation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leve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89"/>
          <p:cNvSpPr/>
          <p:nvPr/>
        </p:nvSpPr>
        <p:spPr>
          <a:xfrm>
            <a:off x="31680" y="639288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93" name="Rectangle 182" descr=""/>
            <p:cNvPicPr/>
            <p:nvPr/>
          </p:nvPicPr>
          <p:blipFill>
            <a:blip r:embed="rId8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96" name="Rounded Rectangle 124" descr=""/>
            <p:cNvPicPr/>
            <p:nvPr/>
          </p:nvPicPr>
          <p:blipFill>
            <a:blip r:embed="rId9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Sub-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99" name="TextBox 125" descr=""/>
            <p:cNvPicPr/>
            <p:nvPr/>
          </p:nvPicPr>
          <p:blipFill>
            <a:blip r:embed="rId10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02" name="Rounded Rectangle 161" descr=""/>
            <p:cNvPicPr/>
            <p:nvPr/>
          </p:nvPicPr>
          <p:blipFill>
            <a:blip r:embed="rId11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4" name="Picture 130" descr=""/>
          <p:cNvPicPr/>
          <p:nvPr/>
        </p:nvPicPr>
        <p:blipFill>
          <a:blip r:embed="rId12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68"/>
          <p:cNvGrpSpPr/>
          <p:nvPr/>
        </p:nvGrpSpPr>
        <p:grpSpPr>
          <a:xfrm>
            <a:off x="4248000" y="1828800"/>
            <a:ext cx="147960" cy="146160"/>
            <a:chOff x="4248000" y="1828800"/>
            <a:chExt cx="147960" cy="146160"/>
          </a:xfrm>
        </p:grpSpPr>
        <p:grpSp>
          <p:nvGrpSpPr>
            <p:cNvPr id="206" name="Oval 178"/>
            <p:cNvGrpSpPr/>
            <p:nvPr/>
          </p:nvGrpSpPr>
          <p:grpSpPr>
            <a:xfrm>
              <a:off x="4248000" y="1828800"/>
              <a:ext cx="147960" cy="146160"/>
              <a:chOff x="4248000" y="1828800"/>
              <a:chExt cx="147960" cy="146160"/>
            </a:xfrm>
          </p:grpSpPr>
          <p:pic>
            <p:nvPicPr>
              <p:cNvPr id="207" name="Oval 17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48000" y="1828800"/>
                <a:ext cx="14796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4298400" y="18594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Straight Connector 70"/>
            <p:cNvSpPr/>
            <p:nvPr/>
          </p:nvSpPr>
          <p:spPr>
            <a:xfrm flipH="1">
              <a:off x="4255200" y="19065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Group 36" descr=""/>
          <p:cNvPicPr/>
          <p:nvPr/>
        </p:nvPicPr>
        <p:blipFill>
          <a:blip r:embed="rId14"/>
          <a:stretch/>
        </p:blipFill>
        <p:spPr>
          <a:xfrm>
            <a:off x="324000" y="4340160"/>
            <a:ext cx="218880" cy="2127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"/>
          <p:cNvSpPr/>
          <p:nvPr/>
        </p:nvSpPr>
        <p:spPr>
          <a:xfrm>
            <a:off x="587520" y="4303800"/>
            <a:ext cx="39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Country – 2 Sub-national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Group 36" descr=""/>
          <p:cNvPicPr/>
          <p:nvPr/>
        </p:nvPicPr>
        <p:blipFill>
          <a:blip r:embed="rId15"/>
          <a:stretch/>
        </p:blipFill>
        <p:spPr>
          <a:xfrm>
            <a:off x="4645080" y="3181320"/>
            <a:ext cx="225360" cy="2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14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17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2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Rounded Rectangle 7"/>
          <p:cNvGrpSpPr/>
          <p:nvPr/>
        </p:nvGrpSpPr>
        <p:grpSpPr>
          <a:xfrm>
            <a:off x="1219320" y="1695600"/>
            <a:ext cx="6370560" cy="3314520"/>
            <a:chOff x="1219320" y="1695600"/>
            <a:chExt cx="6370560" cy="3314520"/>
          </a:xfrm>
        </p:grpSpPr>
        <p:pic>
          <p:nvPicPr>
            <p:cNvPr id="223" name="Rounded Rectangle 7" descr=""/>
            <p:cNvPicPr/>
            <p:nvPr/>
          </p:nvPicPr>
          <p:blipFill>
            <a:blip r:embed="rId4"/>
            <a:stretch/>
          </p:blipFill>
          <p:spPr>
            <a:xfrm>
              <a:off x="1219320" y="1695600"/>
              <a:ext cx="6370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rot="5400000">
              <a:off x="3057840" y="452880"/>
              <a:ext cx="2751120" cy="57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457200" y="10666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s a Donor, PEFAs help the IDB i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12" descr=""/>
          <p:cNvPicPr/>
          <p:nvPr/>
        </p:nvPicPr>
        <p:blipFill>
          <a:blip r:embed="rId5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1600200" y="2075040"/>
            <a:ext cx="5894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ing a basis fo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dialogu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the country (one of several inputs to country strategie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a quick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overview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 a country’s Public Financial Management System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ing the progress of Bank-financed reforms through the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monitoring of selected indicato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moting bette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coordination/harmoniz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other dono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ounded Rectangle 1"/>
          <p:cNvSpPr/>
          <p:nvPr/>
        </p:nvSpPr>
        <p:spPr>
          <a:xfrm>
            <a:off x="843120" y="5334120"/>
            <a:ext cx="73659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EFA has gained importance to the IDB and the Region as a starting point for discussions related to the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use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d reliance on)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 country PFM systems for IDB-financed projects and PFM refor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2"/>
          <p:cNvSpPr/>
          <p:nvPr/>
        </p:nvSpPr>
        <p:spPr>
          <a:xfrm flipH="1">
            <a:off x="1990800" y="1352520"/>
            <a:ext cx="5153040" cy="5200560"/>
          </a:xfrm>
          <a:prstGeom prst="ellips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2"/>
          <p:cNvSpPr/>
          <p:nvPr/>
        </p:nvSpPr>
        <p:spPr>
          <a:xfrm flipH="1">
            <a:off x="2444760" y="1808280"/>
            <a:ext cx="4238640" cy="4273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Rectangle 9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32" name="Rectangle 9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Rounded Rectangle 10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3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-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Rounded Rectangle 1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38" name="Rounded Rectangle 11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Group 1"/>
          <p:cNvGrpSpPr/>
          <p:nvPr/>
        </p:nvGrpSpPr>
        <p:grpSpPr>
          <a:xfrm>
            <a:off x="2819520" y="2248560"/>
            <a:ext cx="3677760" cy="3524760"/>
            <a:chOff x="2819520" y="2248560"/>
            <a:chExt cx="3677760" cy="3524760"/>
          </a:xfrm>
        </p:grpSpPr>
        <p:sp>
          <p:nvSpPr>
            <p:cNvPr id="241" name="Oval 12"/>
            <p:cNvSpPr/>
            <p:nvPr/>
          </p:nvSpPr>
          <p:spPr>
            <a:xfrm flipH="1">
              <a:off x="2930400" y="2360520"/>
              <a:ext cx="3246480" cy="31528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Oval 13"/>
            <p:cNvSpPr/>
            <p:nvPr/>
          </p:nvSpPr>
          <p:spPr>
            <a:xfrm flipH="1">
              <a:off x="3610800" y="3040200"/>
              <a:ext cx="1870200" cy="18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6"/>
            <p:cNvSpPr/>
            <p:nvPr/>
          </p:nvSpPr>
          <p:spPr>
            <a:xfrm rot="10249800">
              <a:off x="4533840" y="4674600"/>
              <a:ext cx="504720" cy="10652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7"/>
            <p:cNvSpPr/>
            <p:nvPr/>
          </p:nvSpPr>
          <p:spPr>
            <a:xfrm flipH="1" rot="12465600">
              <a:off x="4708800" y="2296800"/>
              <a:ext cx="487080" cy="1128600"/>
            </a:xfrm>
            <a:custGeom>
              <a:avLst/>
              <a:gdLst>
                <a:gd name="textAreaLeft" fmla="*/ -360 w 487080"/>
                <a:gd name="textAreaRight" fmla="*/ 487080 w 4870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8"/>
            <p:cNvSpPr/>
            <p:nvPr/>
          </p:nvSpPr>
          <p:spPr>
            <a:xfrm flipH="1" rot="3199800">
              <a:off x="3232080" y="4047480"/>
              <a:ext cx="488880" cy="1176120"/>
            </a:xfrm>
            <a:custGeom>
              <a:avLst/>
              <a:gdLst>
                <a:gd name="textAreaLeft" fmla="*/ 360 w 488880"/>
                <a:gd name="textAreaRight" fmla="*/ 489600 w 48888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9"/>
            <p:cNvSpPr/>
            <p:nvPr/>
          </p:nvSpPr>
          <p:spPr>
            <a:xfrm rot="18475200">
              <a:off x="3288960" y="2774880"/>
              <a:ext cx="490320" cy="103968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1039680"/>
                <a:gd name="textAreaBottom" fmla="*/ 1040040 h 10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7"/>
            <p:cNvSpPr/>
            <p:nvPr/>
          </p:nvSpPr>
          <p:spPr>
            <a:xfrm flipH="1" rot="16668600">
              <a:off x="5630040" y="3523320"/>
              <a:ext cx="492120" cy="1186200"/>
            </a:xfrm>
            <a:custGeom>
              <a:avLst/>
              <a:gdLst>
                <a:gd name="textAreaLeft" fmla="*/ -360 w 492120"/>
                <a:gd name="textAreaRight" fmla="*/ 492120 w 4921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TextBox 24"/>
            <p:cNvSpPr/>
            <p:nvPr/>
          </p:nvSpPr>
          <p:spPr>
            <a:xfrm>
              <a:off x="3538440" y="2511360"/>
              <a:ext cx="111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comple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Box 25"/>
            <p:cNvSpPr/>
            <p:nvPr/>
          </p:nvSpPr>
          <p:spPr>
            <a:xfrm>
              <a:off x="3718080" y="4820040"/>
              <a:ext cx="7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desig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26"/>
            <p:cNvSpPr/>
            <p:nvPr/>
          </p:nvSpPr>
          <p:spPr>
            <a:xfrm>
              <a:off x="4972320" y="46087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gramming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27"/>
            <p:cNvSpPr/>
            <p:nvPr/>
          </p:nvSpPr>
          <p:spPr>
            <a:xfrm>
              <a:off x="5322960" y="3106800"/>
              <a:ext cx="90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strateg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Box 28"/>
            <p:cNvSpPr/>
            <p:nvPr/>
          </p:nvSpPr>
          <p:spPr>
            <a:xfrm>
              <a:off x="2819520" y="3819600"/>
              <a:ext cx="963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execu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3" name="Picture 30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5"/>
          <p:cNvSpPr/>
          <p:nvPr/>
        </p:nvSpPr>
        <p:spPr>
          <a:xfrm>
            <a:off x="5943600" y="4191120"/>
            <a:ext cx="22860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 Dialog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685800" y="2819520"/>
            <a:ext cx="253224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ing progress and adva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3873600" y="1598760"/>
            <a:ext cx="136512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ing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244440" y="1136520"/>
            <a:ext cx="273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IDB use in country strategy, programming and project cy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TextBox 5" descr=""/>
          <p:cNvPicPr/>
          <p:nvPr/>
        </p:nvPicPr>
        <p:blipFill>
          <a:blip r:embed="rId5"/>
          <a:stretch/>
        </p:blipFill>
        <p:spPr>
          <a:xfrm>
            <a:off x="5522760" y="1189080"/>
            <a:ext cx="2914920" cy="10778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"/>
          <p:cNvSpPr/>
          <p:nvPr/>
        </p:nvSpPr>
        <p:spPr>
          <a:xfrm>
            <a:off x="152280" y="5773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ing and use of Country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TextBox 33" descr=""/>
          <p:cNvPicPr/>
          <p:nvPr/>
        </p:nvPicPr>
        <p:blipFill>
          <a:blip r:embed="rId6"/>
          <a:stretch/>
        </p:blipFill>
        <p:spPr>
          <a:xfrm>
            <a:off x="6381720" y="5529240"/>
            <a:ext cx="230508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55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6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62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6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68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71" name="TextBox 17"/>
          <p:cNvGrpSpPr/>
          <p:nvPr/>
        </p:nvGrpSpPr>
        <p:grpSpPr>
          <a:xfrm>
            <a:off x="195120" y="1573200"/>
            <a:ext cx="8547120" cy="4572000"/>
            <a:chOff x="195120" y="1573200"/>
            <a:chExt cx="8547120" cy="4572000"/>
          </a:xfrm>
        </p:grpSpPr>
        <p:pic>
          <p:nvPicPr>
            <p:cNvPr id="272" name="TextBox 17" descr=""/>
            <p:cNvPicPr/>
            <p:nvPr/>
          </p:nvPicPr>
          <p:blipFill>
            <a:blip r:embed="rId5"/>
            <a:stretch/>
          </p:blipFill>
          <p:spPr>
            <a:xfrm>
              <a:off x="195120" y="1573200"/>
              <a:ext cx="85471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71600" y="1817640"/>
              <a:ext cx="7993080" cy="39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Expectations management and current PEFA framework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neducated readers sometime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isinterpret PEFA scope and resul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hinking that it is a diagnostic reflecting country performance rather than a measurement against indicators and international standards and best practices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onors often requir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ditional, more in-depth information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(from a fiduciary perspective) than what the PEFA provides, to determine th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u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f country system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, resulting in additional work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diagnostic fatigu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fforts to make the PEFA consistent, straightforward and quantitative, have resulted in: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ativ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spects not always being considered or the methodology not a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aptable to “non-traditional” situation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(also relates to point below regarding consultants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clusion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ID-19 related to Procuremen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continues to present challenges for the technical team in coordination, receiving timely data, overlap with MAPS, etc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Translation of implementing guidanc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into Spanish could be more timely and comple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75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78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 (cont.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8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3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84" name="TextBox 13"/>
          <p:cNvGrpSpPr/>
          <p:nvPr/>
        </p:nvGrpSpPr>
        <p:grpSpPr>
          <a:xfrm>
            <a:off x="347760" y="3859200"/>
            <a:ext cx="8551800" cy="1236600"/>
            <a:chOff x="347760" y="3859200"/>
            <a:chExt cx="8551800" cy="1236600"/>
          </a:xfrm>
        </p:grpSpPr>
        <p:pic>
          <p:nvPicPr>
            <p:cNvPr id="285" name="TextBox 13" descr=""/>
            <p:cNvPicPr/>
            <p:nvPr/>
          </p:nvPicPr>
          <p:blipFill>
            <a:blip r:embed="rId5"/>
            <a:stretch/>
          </p:blipFill>
          <p:spPr>
            <a:xfrm>
              <a:off x="347760" y="3859200"/>
              <a:ext cx="8551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65120" y="3941640"/>
              <a:ext cx="83185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Consultants and quality of the proces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election of consultants is critical, in terms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pplicable technical experti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the ability to produce a timely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y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report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TextBox 16"/>
          <p:cNvGrpSpPr/>
          <p:nvPr/>
        </p:nvGrpSpPr>
        <p:grpSpPr>
          <a:xfrm>
            <a:off x="378000" y="1573200"/>
            <a:ext cx="8553240" cy="1951200"/>
            <a:chOff x="378000" y="1573200"/>
            <a:chExt cx="8553240" cy="1951200"/>
          </a:xfrm>
        </p:grpSpPr>
        <p:pic>
          <p:nvPicPr>
            <p:cNvPr id="288" name="TextBox 16" descr=""/>
            <p:cNvPicPr/>
            <p:nvPr/>
          </p:nvPicPr>
          <p:blipFill>
            <a:blip r:embed="rId6"/>
            <a:stretch/>
          </p:blipFill>
          <p:spPr>
            <a:xfrm>
              <a:off x="378000" y="1573200"/>
              <a:ext cx="855324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30280" y="1690560"/>
              <a:ext cx="825012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Length of the process and sharing preliminary resul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cess can be too long, resulting in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greater cos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o the government and donors and a report that becomes quickly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utdated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f donor not part of PEFA exercise and report not published, donor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ay never see the result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need to perform additional work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18" descr="logofinal power point"/>
          <p:cNvPicPr/>
          <p:nvPr/>
        </p:nvPicPr>
        <p:blipFill>
          <a:blip r:embed="rId1"/>
          <a:stretch/>
        </p:blipFill>
        <p:spPr>
          <a:xfrm>
            <a:off x="2876400" y="2819520"/>
            <a:ext cx="3276720" cy="1830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0" descr="fontfinal"/>
          <p:cNvPicPr/>
          <p:nvPr/>
        </p:nvPicPr>
        <p:blipFill>
          <a:blip r:embed="rId2"/>
          <a:stretch/>
        </p:blipFill>
        <p:spPr>
          <a:xfrm>
            <a:off x="1951200" y="4352760"/>
            <a:ext cx="53575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6:01:05Z</dcterms:created>
  <dc:creator>PilarLocano</dc:creator>
  <dc:description/>
  <dc:language>en-US</dc:language>
  <cp:lastModifiedBy>Inter-American Development Bank</cp:lastModifiedBy>
  <cp:lastPrinted>2012-11-30T22:18:06Z</cp:lastPrinted>
  <dcterms:modified xsi:type="dcterms:W3CDTF">2012-11-30T22:36:38Z</dcterms:modified>
  <cp:revision>294</cp:revision>
  <dc:subject/>
  <dc:title>Slide 1</dc:title>
</cp:coreProperties>
</file>