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77676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C1B7D-5FA6-42DD-A430-C3C8D933F513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811CB-6D9E-4DBD-A6BE-C274960A11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4A291-42B9-4552-9B86-A96BBAA632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5B5F3-78CD-448E-8C99-B39A6EF267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CCFF9-281D-4E35-A2CE-2AC05351F0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88434-FD80-4F21-93CD-697488B660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EEC8-27C5-4403-AE00-60962CDD09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E20E-7F84-4B9C-9B5E-4CBC5F97A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859E-E3B6-42E2-AFF4-F568E3BAE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8495-1C74-42B8-B9DF-76AB6D37C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79EF-61AE-478F-8C1C-D72F882C7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1B33C-98E0-4968-9E18-C0A3AC480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2F706-A652-4CBC-8D99-F588CDD66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13C0D-6BA9-418C-813B-463272498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1D757-134F-4F9D-9ED3-A90BB18A1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E061E-3FC4-4650-90EE-2986464C1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ABF9D-00EA-4970-9B06-6A8DEAE68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A88FF-3799-4EA0-A53B-FB8F3DDB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C8E6-02F0-4EE9-A8BB-DF371E26D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E343C-D970-4BB4-A495-312C3145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4F635-C8F1-4173-BFEB-A855F536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73D31-4980-48C6-8B7D-5A3B4F75E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E6597-B37F-458B-8222-AAC0D67E9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E571E-5CA0-4424-A104-41468FF58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E171-F331-4A53-923B-4F4924531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FF61-A0D5-4DDD-974D-B77EEFBDA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9522-B69B-44FB-B73D-64E119198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3886-4DC9-4E38-85AE-30FA07830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F947-EA67-4FD5-AA90-3962293D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B119-ECB4-46F8-8F03-B43C0412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2062-ED8C-422A-AA9F-998910AD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C4296-651B-4068-9E83-65C789AFD34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Line 19"/>
          <p:cNvSpPr/>
          <p:nvPr/>
        </p:nvSpPr>
        <p:spPr>
          <a:xfrm>
            <a:off x="4253040" y="1236600"/>
            <a:ext cx="62208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22" descr="Picture2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pic>
        <p:nvPicPr>
          <p:cNvPr id="8" name="Picture 23" descr="footer_white_transparent_en"/>
          <p:cNvPicPr/>
          <p:nvPr/>
        </p:nvPicPr>
        <p:blipFill>
          <a:blip r:embed="rId3"/>
          <a:stretch/>
        </p:blipFill>
        <p:spPr>
          <a:xfrm>
            <a:off x="4255920" y="6595920"/>
            <a:ext cx="611280" cy="25272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6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7" name="Line 22"/>
          <p:cNvSpPr/>
          <p:nvPr/>
        </p:nvSpPr>
        <p:spPr>
          <a:xfrm>
            <a:off x="4253040" y="1233360"/>
            <a:ext cx="62208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8" name="Picture 26" descr="footer_white_transparent_en"/>
          <p:cNvPicPr/>
          <p:nvPr/>
        </p:nvPicPr>
        <p:blipFill>
          <a:blip r:embed="rId3"/>
          <a:stretch/>
        </p:blipFill>
        <p:spPr>
          <a:xfrm>
            <a:off x="4255920" y="6595920"/>
            <a:ext cx="648000" cy="26856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8C427-BFA2-4CD1-AEE2-51A60FFD37C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5280" y="1628280"/>
            <a:ext cx="748836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Round Table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Donors Experience with PEFA Assessments in Latin America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83680" y="4005000"/>
            <a:ext cx="85330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Workshop PEFA in Latin America: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Seven Years of Implementa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Brussels, 4th December 2012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Chairperson: Jose Correia Nunes - EUROPEAID - UNIT A2: Budget Support, Public Finance and Macroeconomic Analysis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91F97-6968-4069-8759-228E5154CAEF}" type="slidenum">
              <a:rPr b="0" lang="en-GB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Panelist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51"/>
              </a:spcBef>
              <a:buClr>
                <a:srgbClr val="0f549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rs Falkner-Olmedo – Inter-American Development Bank – Chief of the Operations Financial Management and Procurement Services Office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spcBef>
                <a:spcPts val="451"/>
              </a:spcBef>
              <a:buClr>
                <a:srgbClr val="0f549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r Balakrishnan – World Bank – Latin America and Caribbean Manager at Financial Management Sector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spcBef>
                <a:spcPts val="451"/>
              </a:spcBef>
              <a:buClr>
                <a:srgbClr val="0f549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r Pessoa - IMF – Deputy Division Chief at the PFM Division of the Fiscal Affairs Department.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spcBef>
                <a:spcPts val="451"/>
              </a:spcBef>
              <a:buClr>
                <a:srgbClr val="0f549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r Salinas – EuropeAid – Coordinator Budget Support Operations at Latin America and Caribbean Directorate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B8A6-EAA5-470E-A84C-C32D840C64E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2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Discussions of this round table will cover two topics</a:t>
            </a:r>
            <a:br>
              <a:rPr sz="3200"/>
            </a:br>
            <a:endParaRPr b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Development partners' experience from PEFA assessments to PFM reforms.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How the experience on PEFA repeat assessments has been used to measure progress and support PFM reforms?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86E9-8855-4EA5-81EE-A4DD42E6B7B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12 countries in LAC region have seen changes in CPIA ratings for PFM for the period 2001-2011.</a:t>
            </a:r>
            <a:br>
              <a:rPr sz="2400"/>
            </a:b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82184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f5494"/>
                </a:solidFill>
                <a:latin typeface="Verdana"/>
              </a:rPr>
              <a:t>        </a:t>
            </a: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fr-BE" sz="1400" spc="-1" strike="noStrike">
                <a:solidFill>
                  <a:srgbClr val="0f5494"/>
                </a:solidFill>
                <a:latin typeface="Verdana"/>
              </a:rPr>
              <a:t>Source: World Bank</a:t>
            </a: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7CF8A-3927-4090-9414-7E40E1FC3C0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012680" y="2421000"/>
            <a:ext cx="694404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4920" y="105264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3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5494"/>
                </a:solidFill>
                <a:latin typeface="Verdana"/>
              </a:rPr>
              <a:t>Out of 75 PEFA assessments in the region since 2006 the EU has been involved in 40 assessments</a:t>
            </a:r>
            <a:endParaRPr b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2F586-F11B-4173-AF57-A2E4243BB64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06280" y="2060640"/>
          <a:ext cx="8686800" cy="3922560"/>
        </p:xfrm>
        <a:graphic>
          <a:graphicData uri="http://schemas.openxmlformats.org/drawingml/2006/table">
            <a:tbl>
              <a:tblPr/>
              <a:tblGrid>
                <a:gridCol w="1868760"/>
                <a:gridCol w="1063440"/>
                <a:gridCol w="892080"/>
                <a:gridCol w="841320"/>
                <a:gridCol w="1571760"/>
                <a:gridCol w="717480"/>
                <a:gridCol w="890640"/>
                <a:gridCol w="841320"/>
              </a:tblGrid>
              <a:tr h="7030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ibuting agencie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 on the cover of report/Planned for completion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ibuting agencie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 on the cover of report/Planned for completion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311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guilla (</a:t>
                      </a: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K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08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maic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B, WB, DFID, IMF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ned/Ongoing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uba (</a:t>
                      </a: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h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8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maic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B, DFID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-07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176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bado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6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serrat (</a:t>
                      </a: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K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FID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08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4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bado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10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guay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B, W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-11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176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lize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B, W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-09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u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B, ID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-09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1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ic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-07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u – Chiclayo Municipality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, WB, ID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12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312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ic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-10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u – Gobierno Regional Amazona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, WB, ID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12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4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ican Re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12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. Kitts &amp; Nevi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-07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176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ican Re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-07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. Kitts &amp; Nevi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-09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ican Re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-10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. Luci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6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174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uador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10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. Luci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-10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Salvador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B, ID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-09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. Vincent and Grenadine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06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176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nad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06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nidad and Tobago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-06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nad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10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nidad and Tobago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-08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174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iti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-12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rks and Caicos Islands (</a:t>
                      </a: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K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-12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ndura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B, ID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-09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uguay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B, W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-11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EU heavily involved in supporting PFM reforms in the reg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826920" y="1773360"/>
          <a:ext cx="7490160" cy="4938480"/>
        </p:xfrm>
        <a:graphic>
          <a:graphicData uri="http://schemas.openxmlformats.org/drawingml/2006/table">
            <a:tbl>
              <a:tblPr/>
              <a:tblGrid>
                <a:gridCol w="3745080"/>
                <a:gridCol w="374508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ocus of suppor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Bolivia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Expenditure Managemen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Colombia (pipeline)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Fight against corruptio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Costa Rica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Civil society oversight of the budge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Dominican Republic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Public procuremen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Ecuador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Information Management System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El Salvador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Fiscal Managemen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Guatemala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Budget Managemen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Hondura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Budget Managemen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Nicaragua (pipeline)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Tax reform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Paraguay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Tax reform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Peru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Support to </a:t>
                      </a: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reform</a:t>
                      </a:r>
                      <a:r>
                        <a:rPr b="0" lang="fr-BE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 programme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11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D7D04-45B8-4776-88D9-E90011164DA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bcasado</cp:lastModifiedBy>
  <cp:lastPrinted>2012-12-03T18:16:55Z</cp:lastPrinted>
  <dcterms:modified xsi:type="dcterms:W3CDTF">2012-12-04T17:24:39Z</dcterms:modified>
  <cp:revision>333</cp:revision>
  <dc:subject/>
  <dc:title>Slide 1</dc:title>
</cp:coreProperties>
</file>