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362-60A6-42ED-835B-CC26646C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93E-6DC7-4218-863F-FFE7BDC1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84A-F4F5-4D36-A9B6-BD56ECAB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5F5-6148-4FCD-826D-C16B4876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84EF-1437-4E02-8BAA-BC9C1298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C25C-F4D8-4287-BE1F-ADBC6112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A300-E89F-47C7-9071-2B8C6548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C331-2A22-4107-A1FF-8C75792C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9E6A-007E-41A9-81BD-4747B9F9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2788-13AC-440E-8785-5D00D264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DC8A-1366-4637-82C2-73A53332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37C-BBFD-42A2-B8A8-95E9CE54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207C-A886-45AB-A53B-47DC8770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0ACA-F6B0-46B4-8814-13F7A584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700E-8ED6-4600-81CF-727FAFD7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7375-D959-4A00-8A4E-A145B0B2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C0E2-D66B-41EE-A54E-BB3D4C9A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094-186A-4DE9-85CB-E3D01D11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926-2618-4D0B-987E-3CC56ADE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B7B-30CF-4DD8-BEB1-E6EF4E17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5DF-796F-4346-9EAA-D04E684E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733-2D3F-4E23-B731-F2DC9EF2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551-A54F-4B6F-B0A2-65D51A12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EE4-0DA8-4BAF-9538-9D5A1F5B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EB8C-08AF-4032-BA79-6F16E092EC8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AB4E-B88E-4811-BA88-E674A77775A1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re-Assessment and Assessment for Parliamentary Development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5440" y="83664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Promoting domestic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accountability: engaging with parliamen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24000" y="5950080"/>
            <a:ext cx="59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4100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rogramme desig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areas of parliamentary functioning should be prioritised based on the Matrix analysi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support activities are indicated and what is the programme theory underpinning selection of these activities to achieve desired outcom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timeframe of support will be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support modalities will best address these issues and what kind and scope of resources will be requir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e other actors involved in supporting parliament, and how will efforts be coordina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EA57-51A2-4456-9EA2-3AB213EA45C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onitoring and evalu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can programme impact be measured (may require measurement before and after programme)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risk analysis has been conducted and what strategies are in place for responding to unforeseen circumstanc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will programme outcomes be captured and communicated and fed into future programmes in-country and elsewher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5FE0-2DEB-4DD4-98DB-ABD267E8D8A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ssessment Framework - Overview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tages of the assess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 the Reference Document we recommend a two stage approach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-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re the basic pre-requisites for parliamentary support met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the Delegation to determine whether to proceed with a full assess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ull 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a dedicated team including national and international expe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ntains three stages: desk information gathering, discussions and interviews with key actors, and analysis and recommended program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468360" y="6237360"/>
            <a:ext cx="748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A678-F128-46F1-97AD-01C32C93D09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-assessment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859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etermining whether a parliamentary support programme should be develop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political economic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rights and institutional legitima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ary make-up and functio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lationship with other branches of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ational and institutional commitment to parliamentary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and commitment of Deleg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FE53-49EE-44FC-A347-6F207C6BDE5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413000"/>
            <a:ext cx="7859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) Establishing the assessment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cess belongs to the parliament and their active participation is an early indication of institutional commit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rmally important to include both national and international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 should normally have a represent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assessment team should report to a cross-party instance of parlia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4A24-8AA6-48DE-99A9-FBC89D25DC5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) Desk information gather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t is important to understand the historical context of parliament’s development and the institution’s role in an emergent democratic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dentify where is the pressure for parliamentary reform – for example from the parliamentary leadership, from MPs, from civil society, and/or from the international commun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uring the context analysis relevant document should be processed and the key actors to be interviewed identifi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468360" y="6237360"/>
            <a:ext cx="77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213C-744E-41D0-A803-9C2913BB201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6828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i) Assessing parliamentary perform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Questions to be addressed are organized into four main dom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egisl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dgetary responsibil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present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ctors to be explored are divided into f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nstitutional pow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dural cla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apacity and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perience and expecta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68360" y="6237360"/>
            <a:ext cx="755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1E43-D77A-4D8A-8B90-4FE4E4D6542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Legisl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000"/>
            <a:ext cx="78598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role does parliament have in drafting and amending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capacity has parliament to debate legislative proposals and to identify weaknesses and problem area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ability does parliament have to scrutinise, amend and approve the final versions of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69800" y="3933720"/>
            <a:ext cx="785808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play a role in developing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sufficient time, resources, and capacity to analyse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to amend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in budget oversight and audit, and does it have the capacity to use those power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68360" y="6237360"/>
            <a:ext cx="7826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98E4-A2C3-4197-9EE6-B4870B78806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507960" y="3213000"/>
            <a:ext cx="7786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budgetary fun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sigh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3680" y="836640"/>
            <a:ext cx="78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powers to carry out effective executive 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resources and political will to hold government to accoun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receive timely and accurate information from the executive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468360" y="6237360"/>
            <a:ext cx="77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B544-783F-4E7B-B6C4-A41D367506D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82760" y="3500280"/>
            <a:ext cx="785808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do parliamentarians communicate and dialogue with their constituent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 parliamentary committees consult with experts and civil society in their deliberation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at ways does parliament communicate its work with the wider public and interest groups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the make-up of parliament reflect the diversity of the population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482760" y="3068640"/>
            <a:ext cx="77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present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itment to refor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o are the key stakeholders inside and outside parliament and what is their attitude to the reform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s there common recognition of problems in parliament and agreement about the nature of change needed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will the stakeholders be engaged in the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structures and processes exist to ensure that the programme benefits the institution and democratic governance more widely, and is not captured by sectional interest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E17E-E4D1-4C09-BF50-18DB872E1C1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MUGERIN Coralie (DEVCO)</cp:lastModifiedBy>
  <dcterms:modified xsi:type="dcterms:W3CDTF">2012-07-16T13:38:14Z</dcterms:modified>
  <cp:revision>19</cp:revision>
  <dc:subject/>
  <dc:title>Slide 1</dc:title>
</cp:coreProperties>
</file>